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0EE-B57A-4C3D-A13E-FCCB8F01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34E-D57D-405A-BFB4-A94EB9A3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78F-B3A8-45DC-8B88-14956C28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014-4859-4095-91BE-705FC6FF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A3A-CDB8-42E8-9328-7B7268B5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A52-2810-47AB-B0FC-574DBE14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102-00C1-459F-ABC7-29146102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E27-A147-4035-8069-2ED87217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1E7-5A19-4680-A102-1F6AC5E2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3AD-5CCB-4B02-AE41-13890E1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7EF-F349-4BDF-AAEC-FA59A60E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979-2F52-40D7-82F0-2935CA97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A725-C45E-4F6E-8D5A-B1AC9135A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6.jpeg"/><Relationship Id="rId4" Type="http://schemas.openxmlformats.org/officeDocument/2006/relationships/image" Target="../media/image18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1143000"/>
            <a:ext cx="5959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         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Художественные ремесла.</a:t>
            </a: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           Работа с дере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82793cd0c2ca990f00a0bfec5cc7025d?url=http%3A%2F%2Fimg1"/>
          <p:cNvPicPr/>
          <p:nvPr/>
        </p:nvPicPr>
        <p:blipFill>
          <a:blip r:embed="rId2"/>
          <a:stretch/>
        </p:blipFill>
        <p:spPr>
          <a:xfrm>
            <a:off x="7500960" y="492912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82793cd0c2ca990f00a0bfec5cc7025d"/>
          <p:cNvPicPr/>
          <p:nvPr/>
        </p:nvPicPr>
        <p:blipFill>
          <a:blip r:embed="rId3"/>
          <a:stretch/>
        </p:blipFill>
        <p:spPr>
          <a:xfrm>
            <a:off x="0" y="404640"/>
            <a:ext cx="1104840" cy="134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82793cd0c2ca990f00a0bfec5cc7025d?url=http%3A%2F%2Fimg1"/>
          <p:cNvPicPr/>
          <p:nvPr/>
        </p:nvPicPr>
        <p:blipFill>
          <a:blip r:embed="rId4"/>
          <a:stretch/>
        </p:blipFill>
        <p:spPr>
          <a:xfrm>
            <a:off x="8028000" y="4005360"/>
            <a:ext cx="863640" cy="95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82793cd0c2ca990f00a0bfec5cc7025d?url=http%3A%2F%2Fimg1"/>
          <p:cNvPicPr/>
          <p:nvPr/>
        </p:nvPicPr>
        <p:blipFill>
          <a:blip r:embed="rId5"/>
          <a:stretch/>
        </p:blipFill>
        <p:spPr>
          <a:xfrm>
            <a:off x="8358120" y="4005360"/>
            <a:ext cx="785880" cy="957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4280" y="2000160"/>
            <a:ext cx="61437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Сказочные узо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   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Городецкой роспи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Выполнила Грахова Виктория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Моршанский р-он . МБОУ Сокольниковская СО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Керш-Борковский филиал 8 в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Педагог: Кордяшова Наталия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937 0.00209 -0.03472 0.00255 -0.05711 0.00394 C -0.06475 0.00417 -0.07482 0.00463 -0.08107 0.0051 C -0.0835 0.00533 -0.08559 0.00556 -0.08854 0.00579 C -0.09079 0.00579 -0.09357 0.00579 -0.096 0.00579 C -0.10729 0.00649 -0.11927 0.00695 -0.13107 0.00764 C -0.13472 0.00764 -0.14218 0.00811 -0.14218 0.00811 C -0.1526 0.00926 -0.13854 0.00787 -0.15138 0.0088 C -0.15659 0.00926 -0.15954 0.00949 -0.16614 0.00996 C -0.17291 0.01065 -0.16614 0.00996 -0.17534 0.01065 C -0.18229 0.01112 -0.18541 0.01158 -0.19375 0.01204 E">
                                      <p:cBhvr>
                                        <p:cTn id="3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75 0.01204 C -0.26754 0.01412 -0.34219 0.00926 -0.41528 0.02014 C -0.42136 0.02199 -0.42674 0.0243 -0.43299 0.0243 E">
                                      <p:cBhvr>
                                        <p:cTn id="39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299 0.0243 C -0.48247 0.04815 -0.44149 0.02893 -0.57899 0.02893 C -0.63212 0.02893 -0.77934 0.08032 -0.73924 0.0243 E">
                                      <p:cBhvr>
                                        <p:cTn id="42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0.00156 -0.00208 0.00278 -0.0044 0.00451 -0.00602 C 0.00729 -0.0088 0.01337 -0.01366 0.01337 -0.01366 C 0.02326 -0.03403 0.00833 -0.0044 0.02066 -0.02546 C 0.02986 -0.04143 0.0224 -0.03356 0.0309 -0.0412 C 0.03663 -0.05255 0.04618 -0.06412 0.0559 -0.06875 C 0.0599 -0.07685 0.06354 -0.07708 0.06927 -0.08241 C 0.08299 -0.09537 0.06545 -0.08287 0.07795 -0.09028 C 0.08004 -0.09143 0.08194 -0.09259 0.08385 -0.09421 C 0.08698 -0.09676 0.09271 -0.10208 0.09271 -0.10208 C 0.12431 -0.10093 0.14323 -0.10486 0.16927 -0.09421 C 0.17413 -0.08981 0.17535 -0.08472 0.1809 -0.08241 C 0.18438 -0.06829 0.18125 -0.07292 0.18837 -0.06667 C 0.19132 -0.05417 0.18715 -0.06643 0.19427 -0.0588 C 0.20677 -0.04537 0.18958 -0.05833 0.2 -0.05093 E">
                                      <p:cBhvr>
                                        <p:cTn id="45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-0.05092 C 0.20295 -0.05161 0.20608 -0.05115 0.20868 -0.053 C 0.21042 -0.05416 0.21389 -0.0655 0.21458 -0.06666 C 0.2158 -0.06851 0.21754 -0.06921 0.2191 -0.07059 C 0.22934 -0.09073 0.25122 -0.08402 0.26754 -0.08634 C 0.27882 -0.09097 0.28993 -0.09629 0.30139 -0.09999 C 0.32292 -0.0993 0.34462 -0.0993 0.36615 -0.09814 C 0.38142 -0.09722 0.40434 -0.08726 0.4191 -0.08032 C 0.42361 -0.0743 0.4283 -0.07337 0.43229 -0.06666 C 0.4349 -0.06226 0.43958 -0.053 0.43958 -0.053 C 0.44011 -0.05046 0.43993 -0.04722 0.44115 -0.04513 C 0.44601 -0.03703 0.44549 -0.04675 0.44549 -0.0412 E">
                                      <p:cBhvr>
                                        <p:cTn id="48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9 -0.0412 C 0.45417 -0.0412 0.46198 -0.04467 0.47083 -0.04467 C 0.48351 -0.04837 0.47743 -0.04791 0.48802 -0.04745 C 0.49323 -0.04884 0.49774 -0.0493 0.50313 -0.04907 C 0.52101 -0.05462 0.49392 -0.04699 0.51493 -0.05069 C 0.51875 -0.05092 0.52222 -0.05254 0.52552 -0.0537 C 0.52778 -0.05416 0.52986 -0.053 0.53194 -0.05324 C 0.5401 -0.05324 0.54635 -0.05509 0.55382 -0.05462 C 0.56042 -0.05648 0.56545 -0.05578 0.57153 -0.05879 C 0.77257 -0.00115 0.6783 -0.03518 0.74583 -0.00601 C 0.75781 0.00163 0.77153 0.00625 0.7842 0.01366 C 0.7908 0.02014 0.79722 0.02385 0.80521 0.02848 C 0.80816 0.03033 0.81129 0.03218 0.81441 0.03403 C 0.8158 0.03496 0.81875 0.03681 0.8191 0.03704 C 0.82309 0.04538 0.82795 0.05186 0.83507 0.05788 C 0.83906 0.06505 0.84045 0.0713 0.84358 0.07825 C 0.84427 0.07963 0.84358 0.08172 0.84479 0.08288 C 0.84566 0.08426 0.84809 0.08473 0.84931 0.08588 C 0.85521 0.09028 0.86181 0.09445 0.86701 0.09977 C 0.86736 0.10116 0.8691 0.10348 0.86806 0.10463 C 0.86667 0.10556 0.86441 0.10394 0.86302 0.10487 C 0.85712 0.10811 0.86024 0.10834 0.8625 0.1088 E">
                                      <p:cBhvr>
                                        <p:cTn id="51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913 -0.29074 C -0.73767 -0.2912 -0.72639 -0.29027 -0.71527 -0.29282 C -0.71267 -0.29328 -0.70121 -0.30949 -0.70069 -0.30995 C -0.69357 -0.3199 -0.6842 -0.33055 -0.67413 -0.33703 C -0.66927 -0.34421 -0.66701 -0.35162 -0.66215 -0.35879 C -0.66041 -0.38819 -0.65954 -0.41643 -0.64982 -0.44467 C -0.64652 -0.48356 -0.62986 -0.53981 -0.66701 -0.56435 C -0.67639 -0.57801 -0.68958 -0.58819 -0.70555 -0.59328 C -0.71284 -0.59838 -0.71927 -0.60069 -0.72743 -0.60324 C -0.80052 -0.60023 -0.76632 -0.60509 -0.79982 -0.59328 C -0.81892 -0.56481 -0.80954 -0.58472 -0.80954 -0.52754 E">
                                      <p:cBhvr>
                                        <p:cTn id="57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31 C -0.00069 -0.0412 -0.00086 -0.04953 -0.00173 -0.05787 C -0.00173 -0.0581 -0.00451 -0.06319 -0.00468 -0.06342 C -0.00642 -0.06551 -0.01076 -0.06921 -0.01076 -0.06898 C -0.01388 -0.07569 -0.00937 -0.06875 -0.01649 -0.07407 C -0.02309 -0.07893 -0.02586 -0.08333 -0.03559 -0.08541 C -0.04409 -0.08912 -0.05312 -0.09004 -0.06215 -0.09398 C -0.07569 -0.09375 -0.12309 -0.09606 -0.14739 -0.0912 C -0.14895 -0.09051 -0.15034 -0.08981 -0.15173 -0.08935 C -0.15451 -0.08842 -0.16076 -0.08726 -0.16076 -0.08726 C -0.16753 -0.08287 -0.1743 -0.07754 -0.18298 -0.07407 C -0.1875 -0.06944 -0.18524 -0.07222 -0.18871 -0.06551 C -0.18941 -0.06412 -0.19184 -0.06365 -0.19322 -0.0625 C -0.19427 -0.06157 -0.19496 -0.06064 -0.196 -0.05972 C -0.19791 -0.05578 -0.19809 -0.05439 -0.20329 -0.05208 C -0.20434 -0.05115 -0.20486 -0.05 -0.20607 -0.04907 C -0.20746 -0.04861 -0.20972 -0.04907 -0.21076 -0.04814 C -0.21163 -0.04768 -0.2151 -0.0412 -0.21666 -0.03958 C -0.21979 -0.02662 -0.21493 -0.03958 -0.22239 -0.03101 C -0.22343 -0.02986 -0.22326 -0.02847 -0.22395 -0.02731 C -0.22465 -0.02615 -0.22586 -0.02523 -0.22691 -0.0243 C -0.22829 -0.0206 -0.23003 -0.01689 -0.23125 -0.01296 C -0.23402 0.00718 -0.22743 -0.00578 -0.23715 0.00047 C -0.24652 0.00649 -0.23316 0.00047 -0.24461 0.00533 C -0.24756 0.01111 -0.25121 0.0132 -0.25781 0.01783 C -0.26197 0.02037 -0.26267 0.02431 -0.26666 0.02709 C -0.27656 0.03357 -0.29375 0.03264 -0.30625 0.0338 C -0.31111 0.03357 -0.31753 0.03519 -0.32118 0.03287 C -0.32309 0.03149 -0.31805 0.02709 -0.31805 0.02732 C -0.31666 0.01088 -0.32309 0.00787 -0.30191 0.00996 C -0.29479 0.0169 -0.29895 0.01158 -0.29895 0.02801 E">
                                      <p:cBhvr>
                                        <p:cTn id="60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Приложен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4572000" y="785880"/>
            <a:ext cx="3714840" cy="300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928800" y="38577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7858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4"/>
          <a:stretch/>
        </p:blipFill>
        <p:spPr>
          <a:xfrm>
            <a:off x="1000080" y="78588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5143680" y="4000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Приложение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3745800"/>
            <a:ext cx="3193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0373b"/>
                </a:solidFill>
                <a:latin typeface="MuseoSansCyrl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643280" y="392904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 rot="20932800">
            <a:off x="2173320" y="993600"/>
            <a:ext cx="1684440" cy="2706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 rot="997200">
            <a:off x="5196960" y="1044720"/>
            <a:ext cx="1687680" cy="2624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5"/>
          <a:stretch/>
        </p:blipFill>
        <p:spPr>
          <a:xfrm rot="183000">
            <a:off x="3780000" y="1037880"/>
            <a:ext cx="150012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6"/>
          <a:stretch/>
        </p:blipFill>
        <p:spPr>
          <a:xfrm>
            <a:off x="642960" y="3786120"/>
            <a:ext cx="369576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7"/>
          <a:stretch/>
        </p:blipFill>
        <p:spPr>
          <a:xfrm rot="975600">
            <a:off x="6543360" y="1785600"/>
            <a:ext cx="234792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ложение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DCIM\102PHOTO\SAM_0895.JPG"/>
          <p:cNvPicPr/>
          <p:nvPr/>
        </p:nvPicPr>
        <p:blipFill>
          <a:blip r:embed="rId1"/>
          <a:stretch/>
        </p:blipFill>
        <p:spPr>
          <a:xfrm>
            <a:off x="857160" y="178596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4857840" y="1857240"/>
            <a:ext cx="3143160" cy="2711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0001-001-Gorodetskaja-rospis"/>
          <p:cNvPicPr/>
          <p:nvPr/>
        </p:nvPicPr>
        <p:blipFill>
          <a:blip r:embed="rId4"/>
          <a:srcRect l="7304" t="16010" r="24081" b="22355"/>
          <a:stretch/>
        </p:blipFill>
        <p:spPr>
          <a:xfrm rot="19470600">
            <a:off x="6181560" y="4485960"/>
            <a:ext cx="3384720" cy="19429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7"/>
          <p:cNvSpPr/>
          <p:nvPr/>
        </p:nvSpPr>
        <p:spPr>
          <a:xfrm>
            <a:off x="2357280" y="5072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дарок маме на 8 мар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28440" y="3142800"/>
            <a:ext cx="64292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В последние годы можно заметить усиление интереса к расписным изделиям из дерева, так как поделками можно украсить интерьер, использовать в качестве подарка родным и близким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 уроках рисования мы изучали декоративно-прикладное искусство. Учитель показывал произведения народного промысла Городецкую  роспись . У себя дома я обнаружила расписные предметы быта. Мне стало интересно, смогу ли я сама расписать поделки из дерева. Я попробовала, и у меня получилась яркая и веселая выставка расписных разделочных   дос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28720" y="1428480"/>
            <a:ext cx="47149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«Городецкая роспись - как ее нам не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Здесь и жаркие кони, молодецкая ста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Здесь такие букеты, что нельзя описа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Здесь такие сюжеты, что ни в сказке с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Посмотрите на роспись - сочность красок ман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Городецкая роспись душу нам весел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001-001-Gorodetskaja-rospis"/>
          <p:cNvPicPr/>
          <p:nvPr/>
        </p:nvPicPr>
        <p:blipFill>
          <a:blip r:embed="rId2"/>
          <a:srcRect l="7304" t="16010" r="24081" b="22355"/>
          <a:stretch/>
        </p:blipFill>
        <p:spPr>
          <a:xfrm rot="18703800">
            <a:off x="6288480" y="4370760"/>
            <a:ext cx="3593880" cy="23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2960" y="0"/>
            <a:ext cx="85010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оздание расписного набора деревянных  разделочных досок в традициях Городецкой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Познакомиться с историей происхождения декоративной рос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Рассмотреть, какие существуют разнови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Городецкой рос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Найти особенность и овладеть техни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выполнения Городецкой рос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Узнать, где в современной жизн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встретить Городецкую росп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001-001-Gorodetskaja-rospis"/>
          <p:cNvPicPr/>
          <p:nvPr/>
        </p:nvPicPr>
        <p:blipFill>
          <a:blip r:embed="rId1"/>
          <a:srcRect l="7304" t="16010" r="24081" b="22355"/>
          <a:stretch/>
        </p:blipFill>
        <p:spPr>
          <a:xfrm rot="18703800">
            <a:off x="5931360" y="4013640"/>
            <a:ext cx="3593880" cy="238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2640" y="1357200"/>
            <a:ext cx="75438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формить выставку расписных под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спользовать поделку как сувенир или подар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спользовать разделочные доски  в интерьере  дом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спользовать , как наглядный материал к урокам изобразительного искусства, технолог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001-001-Gorodetskaja-rospis"/>
          <p:cNvPicPr/>
          <p:nvPr/>
        </p:nvPicPr>
        <p:blipFill>
          <a:blip r:embed="rId1"/>
          <a:srcRect l="7304" t="16010" r="24081" b="22355"/>
          <a:stretch/>
        </p:blipFill>
        <p:spPr>
          <a:xfrm rot="19470600">
            <a:off x="6181560" y="4485960"/>
            <a:ext cx="3384720" cy="194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1000080" y="32446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актическая значимость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1214280" y="4000680"/>
            <a:ext cx="6215400" cy="1923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асписные поделки из дерева можно       использовать в качестве подарка родным и близким. Свою выставку я подарю школе.         Мои поделки учитель  может использовать, как наглядный материал к урокам изобразительного искусства, технологии и др</a:t>
            </a:r>
            <a:r>
              <a:rPr b="0" lang="ru-RU" sz="2000" spc="-1" strike="noStrike">
                <a:solidFill>
                  <a:srgbClr val="92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Историческая справ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928800" y="1071720"/>
            <a:ext cx="7429320" cy="578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мпозиции Городецкой росписи можно разделить на  три 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2600" y="1285920"/>
            <a:ext cx="44290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очная роспись включением мотива «конь», «Пт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280" y="1285560"/>
            <a:ext cx="404208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жетная рос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857920" y="1928880"/>
            <a:ext cx="3286080" cy="2444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286080" y="1928880"/>
            <a:ext cx="242748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571680" y="2000160"/>
            <a:ext cx="2543040" cy="271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5"/>
          <a:stretch/>
        </p:blipFill>
        <p:spPr>
          <a:xfrm>
            <a:off x="1000080" y="5000760"/>
            <a:ext cx="3286080" cy="164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6"/>
          <a:stretch/>
        </p:blipFill>
        <p:spPr>
          <a:xfrm>
            <a:off x="5286240" y="5000760"/>
            <a:ext cx="307188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Подзаголовок 6"/>
          <p:cNvSpPr/>
          <p:nvPr/>
        </p:nvSpPr>
        <p:spPr>
          <a:xfrm>
            <a:off x="2571840" y="4643280"/>
            <a:ext cx="4429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очная рос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тличительные черты Городецкой рос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хника исполнения Городецкого орн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Школа\Рабочий стол\нов проект\Новая папка\016.jpg"/>
          <p:cNvPicPr/>
          <p:nvPr/>
        </p:nvPicPr>
        <p:blipFill>
          <a:blip r:embed="rId2"/>
          <a:stretch/>
        </p:blipFill>
        <p:spPr>
          <a:xfrm>
            <a:off x="214200" y="1857240"/>
            <a:ext cx="4143600" cy="378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4572000" y="2214720"/>
            <a:ext cx="43308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56800" y="1213920"/>
            <a:ext cx="7829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Завершив работу над исследованием, 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Узнала историю происхожд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отличительные черты Городецкой роспи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Научилась расписывать  Городецкой росписью поделки из дерева ( Приложение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Оформила выставку расписных поделок. (Приложение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Учитель стал использовать мои работы , как наглядный материал к урокам изобразительного искусства 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(Приложение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Подарила маме  для уюта в наш дом ( Приложение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В продаже есть немало сувениров, расписанных городецкими мастерами в традиционном стиле. Но поделки, расписанные своими руками, станут прекрасным дополнением интерьера, внесут изюминку и добавят уюта в ваш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Надеюсь, что моя работа позволила по-новому взглянуть на декоративно – прикладное искусство и понять его ценность и ва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В дальнейшем я планирую изучить остальные виды росписи, и хочу научиться их выполн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685800" cy="652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053040" y="214200"/>
            <a:ext cx="275760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Times New Roman"/>
              </a:rPr>
              <a:t>Используем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-%D0%B5%D0%BA%D0%BE%D1%80%D0%B0%D1%82%D0%B8%D0%B2%D0%BD%D0%B0%D1%8F-%D1%80%D0%B0%D0%BC%D0%BA%D0%B0-%D1%81-%D1%86%D0%B2%D0%B5%D1%82%D0%BA%D0%B0%D0%BC%D0%B8-%D0%B8-%D0%B2-%D1%80%D1%83%D1%81%D1%81%D0%BA%D0%BE%D0%BC-%D1%82%D1%80%D0%B0-%D0%B8%D1%86%D0%B8%D0%BE%D0%BD%D0%BD%D0%BE%D0%BC-%D1%81%D1%82%D0%B8-%D0%B5-3342824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85880" y="4643280"/>
            <a:ext cx="8001000" cy="1965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4280" y="92160"/>
            <a:ext cx="7429680" cy="48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Максимова З. По мотивам росписей Городца и Русского Севера  / З. Максимова // Народное творчество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2000. - №3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С. 4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ая Российская энциклопедия / Ю.С. Осипов; под ред. Ю.С. Осипов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М.: Большая Российская энциклопедия, 2007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561с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Шпикалова, Т. Я. Народное искусство на уроках декоративного рис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обие для учителей / Т.Я. Шпикалов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2-е изд., доп. и перераб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М.: Просвещение, 197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92 с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 Арбат Ю.А. Русская народная роспись по дереву / Ю.А. Арбат. - М.: Дрофа, 2009. - 189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 Барышников А.А. Основы композиции / А.А. Барышников. - М.: Белый город, 2009. - 34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 Богуславская И.Я. Добрых рук мастерство / И.Я. Богуславская. - СПб.: Питер, 2012. - 245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Бородулин В.А. Художественная обработка дерева / В.А. Бородулин. - М.: Мозаика- Синтез, 2013. - 15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3745800"/>
            <a:ext cx="3193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0373b"/>
                </a:solidFill>
                <a:latin typeface="MuseoSansCyrl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06:55:03Z</dcterms:created>
  <dc:creator>User</dc:creator>
  <dc:description/>
  <dc:language>en-US</dc:language>
  <cp:lastModifiedBy>NEMO</cp:lastModifiedBy>
  <dcterms:modified xsi:type="dcterms:W3CDTF">2018-02-22T14:51:12Z</dcterms:modified>
  <cp:revision>104</cp:revision>
  <dc:subject/>
  <dc:title>Слайд 1</dc:title>
</cp:coreProperties>
</file>