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FAE-9256-464F-A912-09FA0CEB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B0C-E278-4121-B76B-4E42C79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7F5-1952-4062-BC83-74C45E3F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C41-674F-489D-A8CE-3D2A8350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C5C7-FBAF-417F-8FFD-383F9793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0412-0C34-4A64-B142-F5A5BC69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0E8-AEE5-4C73-98C7-9A332FC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0CD4-A0DB-48A5-9105-3427FD7D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0953-7BAF-482C-95EB-2B3C769A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412-E9B2-4433-8DFC-8B71BC6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6BBC-C2B0-412D-AB15-838CB16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9A0-D018-4AFA-A0F5-53E35F95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1177-42D1-4D7E-A359-BDD4BF1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486D-5C5C-4C7A-87A8-D88623E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FACD-551D-489C-BA02-2BBDF90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4DC0-7409-4715-B5AA-F7C45216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7399-C57A-4465-802B-1CCA7CBC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041-B810-4A14-9636-6BB61CB3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34D-0F34-4DBF-88B9-286717C1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164-34CF-4FAA-8A2B-E8406AAF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204-5A18-4F77-8A4B-CA71FAF8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D6F-E05D-4DE9-B589-71C9B2E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AAC-E473-488A-B603-0A5F0B1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CEA-1542-4230-B09D-E7BAFCE0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168E-8B6A-4E97-9A63-E93B3209E02A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14A0-7DC9-4A44-88F6-477D00DC84B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415960"/>
            <a:ext cx="7888320" cy="12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omic Sans MS"/>
              </a:rPr>
              <a:t>проект на тему:</a:t>
            </a:r>
            <a:br>
              <a:rPr sz="5400"/>
            </a:br>
            <a:r>
              <a:rPr b="1" lang="ru-RU" sz="4800" spc="-1" strike="noStrike">
                <a:solidFill>
                  <a:srgbClr val="404040"/>
                </a:solidFill>
                <a:latin typeface="Comic Sans MS"/>
              </a:rPr>
              <a:t>10 правил </a:t>
            </a:r>
            <a:br>
              <a:rPr sz="4800"/>
            </a:br>
            <a:r>
              <a:rPr b="1" lang="ru-RU" sz="4800" spc="-1" strike="noStrike">
                <a:solidFill>
                  <a:srgbClr val="404040"/>
                </a:solidFill>
                <a:latin typeface="Comic Sans MS"/>
              </a:rPr>
              <a:t>здорового образа жизни</a:t>
            </a:r>
            <a:br>
              <a:rPr sz="5400"/>
            </a:b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700360" y="4251240"/>
            <a:ext cx="3959280" cy="2506680"/>
          </a:xfrm>
          <a:prstGeom prst="rect">
            <a:avLst/>
          </a:prstGeom>
          <a:ln w="9360">
            <a:solidFill>
              <a:srgbClr val="c1ec76"/>
            </a:solidFill>
            <a:miter/>
          </a:ln>
        </p:spPr>
      </p:pic>
      <p:sp>
        <p:nvSpPr>
          <p:cNvPr id="163" name="TextBox 1"/>
          <p:cNvSpPr/>
          <p:nvPr/>
        </p:nvSpPr>
        <p:spPr>
          <a:xfrm>
            <a:off x="144360" y="2924280"/>
            <a:ext cx="69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5 класса Ибаев 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971640" y="4046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У Нефтеюганская школа-интернат для обучающихся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79280" y="342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Панков Николай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2960" y="35712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И конечно не кури, не злоупотребляй алкоголем и другими вредными привычками. Ведь это основные факторы, ухудшающие здоровье.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2193840" y="57862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УДЬТЕ ЗДОРОВЫ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8" descr="atlet01.gif"/>
          <p:cNvPicPr/>
          <p:nvPr/>
        </p:nvPicPr>
        <p:blipFill>
          <a:blip r:embed="rId1"/>
          <a:stretch/>
        </p:blipFill>
        <p:spPr>
          <a:xfrm>
            <a:off x="3429000" y="3786120"/>
            <a:ext cx="23734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14240" y="1334880"/>
            <a:ext cx="7772400" cy="37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дь на добро отвечают добром. Оно обязательно к вам   вернется в виде хорошего самочувствия и настроения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2833560" y="714240"/>
            <a:ext cx="39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ворите добро!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c5754"/>
                </a:solidFill>
                <a:latin typeface="Comic Sans MS"/>
              </a:rPr>
              <a:t>Даже если у тебя «тройка» по физкультуре, ты любишь «чипсы» и «Кока-колу», тебе с трудом удаётся встать ранним утром и ты до поздней ночи «висишь» «в контакте», ещё не поздно начать здоровый образ жизни…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1428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785880" y="3643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т 10 правил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торые тебе в этом помогу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Движение - жизнь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196640"/>
            <a:ext cx="741528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райся двигаться как можно больш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йся  физической культурой, хот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 30 мин в день. А если у тебя и 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ет времени, то совершай пешие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улки зимой и больше плавай летом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1" name="Рисунок 9" descr="delf11.png"/>
          <p:cNvPicPr/>
          <p:nvPr/>
        </p:nvPicPr>
        <p:blipFill>
          <a:blip r:embed="rId1"/>
          <a:stretch/>
        </p:blipFill>
        <p:spPr>
          <a:xfrm>
            <a:off x="492912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Рисунок 10" descr="delf11.png"/>
          <p:cNvPicPr/>
          <p:nvPr/>
        </p:nvPicPr>
        <p:blipFill>
          <a:blip r:embed="rId2"/>
          <a:stretch/>
        </p:blipFill>
        <p:spPr>
          <a:xfrm>
            <a:off x="192888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14240" y="6426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Соблюдай режим дня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642960" y="1285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жись и вставай в одно и то же время. Это самый простой совет выглядеть красивым, здоровым и отдохнув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7f1f5f717d06.png"/>
          <p:cNvPicPr/>
          <p:nvPr/>
        </p:nvPicPr>
        <p:blipFill>
          <a:blip r:embed="rId1"/>
          <a:stretch/>
        </p:blipFill>
        <p:spPr>
          <a:xfrm>
            <a:off x="2571840" y="2571840"/>
            <a:ext cx="407196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85880" y="1915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Нормальный сон для человека –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7-8 часов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428760" y="1714680"/>
            <a:ext cx="84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ты спишь меньше, возникает хроническая усталость, которая приводит к снижению настроения и работоспособности. Чрезмерный сон и неактивный образ жизни приводят к понижению общего тонуса организма и увеличению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8403610125e5.png"/>
          <p:cNvPicPr/>
          <p:nvPr/>
        </p:nvPicPr>
        <p:blipFill>
          <a:blip r:embed="rId1"/>
          <a:stretch/>
        </p:blipFill>
        <p:spPr>
          <a:xfrm>
            <a:off x="3571920" y="4286160"/>
            <a:ext cx="23637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Закаливай свой организм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357120" y="207180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ше всего помогает контрастный душ – теплая и прохладная водичка. Не только полез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и помогает прос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7" descr="860ea5f4ce4a.png"/>
          <p:cNvPicPr/>
          <p:nvPr/>
        </p:nvPicPr>
        <p:blipFill>
          <a:blip r:embed="rId1"/>
          <a:stretch/>
        </p:blipFill>
        <p:spPr>
          <a:xfrm>
            <a:off x="5643720" y="1357200"/>
            <a:ext cx="29080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1430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шь больше пищи, содержащей клетчатк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цельные зерна, и меньше – пищу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щую сахар и приготовленную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пшеничной муки. Чистая вода - источник здоровья! Старайся  пить чистую воду, зелёный чай и другие натуральные напитки. Не забывай об овощах и фруктах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22860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ы  то, что ты ешь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0" descr="7a35eabfa298.png"/>
          <p:cNvPicPr/>
          <p:nvPr/>
        </p:nvPicPr>
        <p:blipFill>
          <a:blip r:embed="rId1"/>
          <a:stretch/>
        </p:blipFill>
        <p:spPr>
          <a:xfrm>
            <a:off x="611280" y="5013360"/>
            <a:ext cx="2214360" cy="14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" name="Рисунок 11" descr="b5b1b994db64.png"/>
          <p:cNvPicPr/>
          <p:nvPr/>
        </p:nvPicPr>
        <p:blipFill>
          <a:blip r:embed="rId2"/>
          <a:stretch/>
        </p:blipFill>
        <p:spPr>
          <a:xfrm>
            <a:off x="7596360" y="4500720"/>
            <a:ext cx="14335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5" descr="7e97d621fc1e.png"/>
          <p:cNvPicPr/>
          <p:nvPr/>
        </p:nvPicPr>
        <p:blipFill>
          <a:blip r:embed="rId1"/>
          <a:stretch/>
        </p:blipFill>
        <p:spPr>
          <a:xfrm>
            <a:off x="2928960" y="2786040"/>
            <a:ext cx="364320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7" name="Рисунок 7" descr="607815457.gif"/>
          <p:cNvPicPr/>
          <p:nvPr/>
        </p:nvPicPr>
        <p:blipFill>
          <a:blip r:embed="rId2"/>
          <a:stretch/>
        </p:blipFill>
        <p:spPr>
          <a:xfrm>
            <a:off x="142920" y="1785960"/>
            <a:ext cx="30718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"/>
          <p:cNvSpPr txBox="1"/>
          <p:nvPr/>
        </p:nvSpPr>
        <p:spPr>
          <a:xfrm>
            <a:off x="1142640" y="64296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Почаще гуляй в парке, на свежем воздухе, подальше от автомобилей и других загрязнителей воздуха</a:t>
            </a: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Рисунок 6" descr="strek13.png"/>
          <p:cNvPicPr/>
          <p:nvPr/>
        </p:nvPicPr>
        <p:blipFill>
          <a:blip r:embed="rId3"/>
          <a:stretch/>
        </p:blipFill>
        <p:spPr>
          <a:xfrm>
            <a:off x="6000840" y="3143160"/>
            <a:ext cx="1428840" cy="6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Старайся чаще слушать любимую весёлую музыку -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642960" y="1928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лучшее 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 плохо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16328f65414e.png"/>
          <p:cNvPicPr/>
          <p:nvPr/>
        </p:nvPicPr>
        <p:blipFill>
          <a:blip r:embed="rId1"/>
          <a:stretch/>
        </p:blipFill>
        <p:spPr>
          <a:xfrm>
            <a:off x="571680" y="1500120"/>
            <a:ext cx="1971360" cy="17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3" name="Рисунок 4" descr="d2b5d50a52c4.png"/>
          <p:cNvPicPr/>
          <p:nvPr/>
        </p:nvPicPr>
        <p:blipFill>
          <a:blip r:embed="rId2"/>
          <a:stretch/>
        </p:blipFill>
        <p:spPr>
          <a:xfrm>
            <a:off x="6786720" y="1428840"/>
            <a:ext cx="208116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Рисунок 8" descr="1c4a6049c8cb.png"/>
          <p:cNvPicPr/>
          <p:nvPr/>
        </p:nvPicPr>
        <p:blipFill>
          <a:blip r:embed="rId3"/>
          <a:stretch/>
        </p:blipFill>
        <p:spPr>
          <a:xfrm>
            <a:off x="2143080" y="2979720"/>
            <a:ext cx="4772160" cy="36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6:12Z</dcterms:created>
  <dc:creator>User</dc:creator>
  <dc:description/>
  <dc:language>en-US</dc:language>
  <cp:lastModifiedBy>Борат</cp:lastModifiedBy>
  <dcterms:modified xsi:type="dcterms:W3CDTF">2022-10-18T17:03:58Z</dcterms:modified>
  <cp:revision>67</cp:revision>
  <dc:subject/>
  <dc:title>Решение зада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c0000000000010250300207f7000400038000</vt:lpwstr>
  </property>
</Properties>
</file>