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26E-EFAB-41C1-B368-2E5D4683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C89-1C4F-4811-BC72-6A764AE9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A83-207A-4A72-8575-CCA22FC3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59C-FDBB-45D2-BC02-34FE12A1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D6C7-57B0-4F8F-A178-93061053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C05E-E388-4873-AAC2-4196E0A7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D146-4389-417A-8930-F61973E8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D1A2-B177-4CB9-BED7-000114F3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BAB0-E5A3-44ED-9244-AB8DF9EF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3288-94DD-4140-825B-C02E6B7F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DBD3-31E6-49B2-B827-74969D29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487-B135-4B42-BEA4-036857BD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F4D1-4534-4B08-8ADB-372762AB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18C1-BDB0-4765-847E-B973164B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B463-622F-4139-AFC1-0D28659A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B944-4CD3-4B8D-AB32-02139BF2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3222-3711-432E-A40B-65D061A0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EAB-EFA3-4C78-9D95-5B50A217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0C7-7CAB-4169-BF87-AFF2BE2D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8C2-325F-4E11-8B4E-C21F47AE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C16-81A7-4767-9B1A-F8ED8F4D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C35-2499-43AC-900A-A5B24F19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C09-47F8-472C-A1F3-8A16673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03D-A5B1-4DA0-BD66-D1E7BE32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9E7C-FA23-40D4-AFCE-35F2361A42F7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45DE-31B5-4B1C-9056-04BB0759B2BD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415960"/>
            <a:ext cx="7888320" cy="129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omic Sans MS"/>
              </a:rPr>
              <a:t>проект на тему:</a:t>
            </a:r>
            <a:br>
              <a:rPr sz="5400"/>
            </a:br>
            <a:r>
              <a:rPr b="1" lang="ru-RU" sz="4800" spc="-1" strike="noStrike">
                <a:solidFill>
                  <a:srgbClr val="404040"/>
                </a:solidFill>
                <a:latin typeface="Comic Sans MS"/>
              </a:rPr>
              <a:t>10 правил </a:t>
            </a:r>
            <a:br>
              <a:rPr sz="4800"/>
            </a:br>
            <a:r>
              <a:rPr b="1" lang="ru-RU" sz="4800" spc="-1" strike="noStrike">
                <a:solidFill>
                  <a:srgbClr val="404040"/>
                </a:solidFill>
                <a:latin typeface="Comic Sans MS"/>
              </a:rPr>
              <a:t>здорового образа жизни</a:t>
            </a:r>
            <a:br>
              <a:rPr sz="5400"/>
            </a:b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2700360" y="4251240"/>
            <a:ext cx="3959280" cy="2506680"/>
          </a:xfrm>
          <a:prstGeom prst="rect">
            <a:avLst/>
          </a:prstGeom>
          <a:ln w="9360">
            <a:solidFill>
              <a:srgbClr val="c1ec76"/>
            </a:solidFill>
            <a:miter/>
          </a:ln>
        </p:spPr>
      </p:pic>
      <p:sp>
        <p:nvSpPr>
          <p:cNvPr id="163" name="TextBox 1"/>
          <p:cNvSpPr/>
          <p:nvPr/>
        </p:nvSpPr>
        <p:spPr>
          <a:xfrm>
            <a:off x="144360" y="2924280"/>
            <a:ext cx="69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еник 5 класса Ибаев 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971640" y="404640"/>
            <a:ext cx="70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У Нефтеюганская школа-интернат для обучающихся с 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179280" y="342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Панков Николай Анато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42960" y="357120"/>
            <a:ext cx="777240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И конечно не кури, не злоупотребляй алкоголем и другими вредными привычками. Ведь это основные факторы, ухудшающие здоровье.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2193840" y="5786280"/>
            <a:ext cx="48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УДЬТЕ ЗДОРОВЫ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8" descr="atlet01.gif"/>
          <p:cNvPicPr/>
          <p:nvPr/>
        </p:nvPicPr>
        <p:blipFill>
          <a:blip r:embed="rId1"/>
          <a:stretch/>
        </p:blipFill>
        <p:spPr>
          <a:xfrm>
            <a:off x="3429000" y="3786120"/>
            <a:ext cx="2373480" cy="19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714240" y="1334880"/>
            <a:ext cx="7772400" cy="37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едь на добро отвечают добром. Оно обязательно к вам   вернется в виде хорошего самочувствия и настроения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2833560" y="714240"/>
            <a:ext cx="39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ворите добро!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2960" y="19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dc5754"/>
                </a:solidFill>
                <a:latin typeface="Comic Sans MS"/>
              </a:rPr>
              <a:t>Даже если у тебя «тройка» по физкультуре, ты любишь «чипсы» и «Кока-колу», тебе с трудом удаётся встать ранним утром и ты до поздней ночи «висишь» «в контакте», ещё не поздно начать здоровый образ жизни…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14240" y="142848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785880" y="36432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т 10 правил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торые тебе в этом помогут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Движение - жизнь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196640"/>
            <a:ext cx="741528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райся двигаться как можно больше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нимайся  физической культурой, хотя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ы 30 мин в день. А если у тебя и н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ет времени, то совершай пешие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улки зимой и больше плавай летом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1" name="Рисунок 9" descr="delf11.png"/>
          <p:cNvPicPr/>
          <p:nvPr/>
        </p:nvPicPr>
        <p:blipFill>
          <a:blip r:embed="rId1"/>
          <a:stretch/>
        </p:blipFill>
        <p:spPr>
          <a:xfrm>
            <a:off x="492912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Рисунок 10" descr="delf11.png"/>
          <p:cNvPicPr/>
          <p:nvPr/>
        </p:nvPicPr>
        <p:blipFill>
          <a:blip r:embed="rId2"/>
          <a:stretch/>
        </p:blipFill>
        <p:spPr>
          <a:xfrm>
            <a:off x="192888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14240" y="6426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Соблюдай режим дня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642960" y="128592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ожись и вставай в одно и то же время. Это самый простой совет выглядеть красивым, здоровым и отдохнув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7f1f5f717d06.png"/>
          <p:cNvPicPr/>
          <p:nvPr/>
        </p:nvPicPr>
        <p:blipFill>
          <a:blip r:embed="rId1"/>
          <a:stretch/>
        </p:blipFill>
        <p:spPr>
          <a:xfrm>
            <a:off x="2571840" y="2571840"/>
            <a:ext cx="407196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85880" y="1915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Нормальный сон для человека –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7-8 часов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428760" y="1714680"/>
            <a:ext cx="842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ли ты спишь меньше, возникает хроническая усталость, которая приводит к снижению настроения и работоспособности. Чрезмерный сон и неактивный образ жизни приводят к понижению общего тонуса организма и увеличению в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3" descr="8403610125e5.png"/>
          <p:cNvPicPr/>
          <p:nvPr/>
        </p:nvPicPr>
        <p:blipFill>
          <a:blip r:embed="rId1"/>
          <a:stretch/>
        </p:blipFill>
        <p:spPr>
          <a:xfrm>
            <a:off x="3571920" y="4286160"/>
            <a:ext cx="23637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Закаливай свой организм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357120" y="2071800"/>
            <a:ext cx="5143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учше всего помогает контрастный душ – теплая и прохладная водичка. Не только полез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 и помогает прос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7" descr="860ea5f4ce4a.png"/>
          <p:cNvPicPr/>
          <p:nvPr/>
        </p:nvPicPr>
        <p:blipFill>
          <a:blip r:embed="rId1"/>
          <a:stretch/>
        </p:blipFill>
        <p:spPr>
          <a:xfrm>
            <a:off x="5643720" y="1357200"/>
            <a:ext cx="2908080" cy="486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14300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шь больше пищи, содержащей клетчатку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цельные зерна, и меньше – пищу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держащую сахар и приготовленную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з пшеничной муки. Чистая вода - источник здоровья! Старайся  пить чистую воду, зелёный чай и другие натуральные напитки. Не забывай об овощах и фруктах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3" name="Прямоугольник 8"/>
          <p:cNvSpPr/>
          <p:nvPr/>
        </p:nvSpPr>
        <p:spPr>
          <a:xfrm>
            <a:off x="22860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ы  то, что ты ешь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0" descr="7a35eabfa298.png"/>
          <p:cNvPicPr/>
          <p:nvPr/>
        </p:nvPicPr>
        <p:blipFill>
          <a:blip r:embed="rId1"/>
          <a:stretch/>
        </p:blipFill>
        <p:spPr>
          <a:xfrm>
            <a:off x="611280" y="5013360"/>
            <a:ext cx="2214360" cy="148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5" name="Рисунок 11" descr="b5b1b994db64.png"/>
          <p:cNvPicPr/>
          <p:nvPr/>
        </p:nvPicPr>
        <p:blipFill>
          <a:blip r:embed="rId2"/>
          <a:stretch/>
        </p:blipFill>
        <p:spPr>
          <a:xfrm>
            <a:off x="7596360" y="4500720"/>
            <a:ext cx="1433520" cy="207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5" descr="7e97d621fc1e.png"/>
          <p:cNvPicPr/>
          <p:nvPr/>
        </p:nvPicPr>
        <p:blipFill>
          <a:blip r:embed="rId1"/>
          <a:stretch/>
        </p:blipFill>
        <p:spPr>
          <a:xfrm>
            <a:off x="2928960" y="2786040"/>
            <a:ext cx="3643200" cy="37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7" name="Рисунок 7" descr="607815457.gif"/>
          <p:cNvPicPr/>
          <p:nvPr/>
        </p:nvPicPr>
        <p:blipFill>
          <a:blip r:embed="rId2"/>
          <a:stretch/>
        </p:blipFill>
        <p:spPr>
          <a:xfrm>
            <a:off x="142920" y="1785960"/>
            <a:ext cx="307188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" name=""/>
          <p:cNvSpPr txBox="1"/>
          <p:nvPr/>
        </p:nvSpPr>
        <p:spPr>
          <a:xfrm>
            <a:off x="1142640" y="642960"/>
            <a:ext cx="80010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Почаще гуляй в парке, на свежем воздухе, подальше от автомобилей и других загрязнителей воздуха</a:t>
            </a: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9" name="Рисунок 6" descr="strek13.png"/>
          <p:cNvPicPr/>
          <p:nvPr/>
        </p:nvPicPr>
        <p:blipFill>
          <a:blip r:embed="rId3"/>
          <a:stretch/>
        </p:blipFill>
        <p:spPr>
          <a:xfrm>
            <a:off x="6000840" y="3143160"/>
            <a:ext cx="1428840" cy="66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Старайся чаще слушать любимую весёлую музыку -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642960" y="1928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 лучшее лекар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 плохого настро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" descr="16328f65414e.png"/>
          <p:cNvPicPr/>
          <p:nvPr/>
        </p:nvPicPr>
        <p:blipFill>
          <a:blip r:embed="rId1"/>
          <a:stretch/>
        </p:blipFill>
        <p:spPr>
          <a:xfrm>
            <a:off x="571680" y="1500120"/>
            <a:ext cx="1971360" cy="173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3" name="Рисунок 4" descr="d2b5d50a52c4.png"/>
          <p:cNvPicPr/>
          <p:nvPr/>
        </p:nvPicPr>
        <p:blipFill>
          <a:blip r:embed="rId2"/>
          <a:stretch/>
        </p:blipFill>
        <p:spPr>
          <a:xfrm>
            <a:off x="6786720" y="1428840"/>
            <a:ext cx="208116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4" name="Рисунок 8" descr="1c4a6049c8cb.png"/>
          <p:cNvPicPr/>
          <p:nvPr/>
        </p:nvPicPr>
        <p:blipFill>
          <a:blip r:embed="rId3"/>
          <a:stretch/>
        </p:blipFill>
        <p:spPr>
          <a:xfrm>
            <a:off x="2143080" y="2979720"/>
            <a:ext cx="4772160" cy="36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36:12Z</dcterms:created>
  <dc:creator>User</dc:creator>
  <dc:description/>
  <dc:language>en-US</dc:language>
  <cp:lastModifiedBy>Борат</cp:lastModifiedBy>
  <dcterms:modified xsi:type="dcterms:W3CDTF">2022-10-18T17:03:58Z</dcterms:modified>
  <cp:revision>67</cp:revision>
  <dc:subject/>
  <dc:title>Решение зада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2c0000000000010250300207f7000400038000</vt:lpwstr>
  </property>
</Properties>
</file>