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AF6-CDBF-41D7-950A-CF0ECE0F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C18-F148-4F5D-BEBB-E13D16CF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295-2098-457B-BE59-DA3AB8C5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03B-80D8-49FC-96D9-7F13A86D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0F61-8305-45A5-9EFE-A6B4CF86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C4BF-EE5A-44CA-991B-B11C5EDA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F582-EFD3-44E6-A338-125E82FA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F2D2-511E-40AF-831F-23D953CB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6FA5-AA8A-47A4-8619-173D49EA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A699-8BDC-49EF-A025-239106A2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FA03-E8C4-4F81-977C-5B739FBB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3C7-D0BE-4611-992D-AACE6DC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C106-A985-4DA7-B652-94CFE88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1B12-84FC-4A0E-BB9A-2816DFCF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F580-5DEA-49F9-9A98-1011758F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52A1-AE8A-4229-847F-58163CF6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9F90-E829-4401-8DE5-8C230FDE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27C-F00F-49F6-BEA0-87ECB67A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948-C7CD-45AC-AEDF-D6722C45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F6A-A767-4C11-B5F3-308AE405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201-9A9E-49F1-B9A7-A3F44CB8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D61-2132-485F-8C64-6F9B284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9C4-3E2C-4D43-8CAD-C271F57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2DA-B4BE-4288-96D7-85DFFEA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E94D-9416-4FB4-9AE6-6968DE09EF65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5359-71D3-46E6-AA6F-795E5C94ACE1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415960"/>
            <a:ext cx="7888320" cy="12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omic Sans MS"/>
              </a:rPr>
              <a:t>проект на тему:</a:t>
            </a:r>
            <a:br>
              <a:rPr sz="5400"/>
            </a:br>
            <a:r>
              <a:rPr b="1" lang="ru-RU" sz="4800" spc="-1" strike="noStrike">
                <a:solidFill>
                  <a:srgbClr val="404040"/>
                </a:solidFill>
                <a:latin typeface="Comic Sans MS"/>
              </a:rPr>
              <a:t>10 правил </a:t>
            </a:r>
            <a:br>
              <a:rPr sz="4800"/>
            </a:br>
            <a:r>
              <a:rPr b="1" lang="ru-RU" sz="4800" spc="-1" strike="noStrike">
                <a:solidFill>
                  <a:srgbClr val="404040"/>
                </a:solidFill>
                <a:latin typeface="Comic Sans MS"/>
              </a:rPr>
              <a:t>здорового образа жизни</a:t>
            </a:r>
            <a:br>
              <a:rPr sz="5400"/>
            </a:b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700360" y="4251240"/>
            <a:ext cx="3959280" cy="2506680"/>
          </a:xfrm>
          <a:prstGeom prst="rect">
            <a:avLst/>
          </a:prstGeom>
          <a:ln w="9360">
            <a:solidFill>
              <a:srgbClr val="c1ec76"/>
            </a:solidFill>
            <a:miter/>
          </a:ln>
        </p:spPr>
      </p:pic>
      <p:sp>
        <p:nvSpPr>
          <p:cNvPr id="163" name="TextBox 1"/>
          <p:cNvSpPr/>
          <p:nvPr/>
        </p:nvSpPr>
        <p:spPr>
          <a:xfrm>
            <a:off x="144360" y="2924280"/>
            <a:ext cx="69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еник 5 класса Ибаев 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971640" y="4046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У Нефтеюганская школа-интернат для обучающихся с 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179280" y="342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Панков Николай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42960" y="357120"/>
            <a:ext cx="777240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И конечно не кури, не злоупотребляй алкоголем и другими вредными привычками. Ведь это основные факторы, ухудшающие здоровье.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2193840" y="5786280"/>
            <a:ext cx="48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УДЬТЕ ЗДОРОВЫ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8" descr="atlet01.gif"/>
          <p:cNvPicPr/>
          <p:nvPr/>
        </p:nvPicPr>
        <p:blipFill>
          <a:blip r:embed="rId1"/>
          <a:stretch/>
        </p:blipFill>
        <p:spPr>
          <a:xfrm>
            <a:off x="3429000" y="3786120"/>
            <a:ext cx="237348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714240" y="1334880"/>
            <a:ext cx="7772400" cy="37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едь на добро отвечают добром. Оно обязательно к вам   вернется в виде хорошего самочувствия и настроения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2833560" y="714240"/>
            <a:ext cx="39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ворите добро!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c5754"/>
                </a:solidFill>
                <a:latin typeface="Comic Sans MS"/>
              </a:rPr>
              <a:t>Даже если у тебя «тройка» по физкультуре, ты любишь «чипсы» и «Кока-колу», тебе с трудом удаётся встать ранним утром и ты до поздней ночи «висишь» «в контакте», ещё не поздно начать здоровый образ жизни…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14240" y="142848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785880" y="36432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т 10 правил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торые тебе в этом помогут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Движение - жизнь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196640"/>
            <a:ext cx="741528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райся двигаться как можно больше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нимайся  физической культурой, хотя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ы 30 мин в день. А если у тебя и н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ет времени, то совершай пешие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улки зимой и больше плавай летом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1" name="Рисунок 9" descr="delf11.png"/>
          <p:cNvPicPr/>
          <p:nvPr/>
        </p:nvPicPr>
        <p:blipFill>
          <a:blip r:embed="rId1"/>
          <a:stretch/>
        </p:blipFill>
        <p:spPr>
          <a:xfrm>
            <a:off x="492912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Рисунок 10" descr="delf11.png"/>
          <p:cNvPicPr/>
          <p:nvPr/>
        </p:nvPicPr>
        <p:blipFill>
          <a:blip r:embed="rId2"/>
          <a:stretch/>
        </p:blipFill>
        <p:spPr>
          <a:xfrm>
            <a:off x="192888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14240" y="6426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Соблюдай режим дня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642960" y="12859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ожись и вставай в одно и то же время. Это самый простой совет выглядеть красивым, здоровым и отдохнув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7f1f5f717d06.png"/>
          <p:cNvPicPr/>
          <p:nvPr/>
        </p:nvPicPr>
        <p:blipFill>
          <a:blip r:embed="rId1"/>
          <a:stretch/>
        </p:blipFill>
        <p:spPr>
          <a:xfrm>
            <a:off x="2571840" y="2571840"/>
            <a:ext cx="407196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85880" y="1915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Нормальный сон для человека –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7-8 часов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428760" y="1714680"/>
            <a:ext cx="84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ли ты спишь меньше, возникает хроническая усталость, которая приводит к снижению настроения и работоспособности. Чрезмерный сон и неактивный образ жизни приводят к понижению общего тонуса организма и увеличению в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8403610125e5.png"/>
          <p:cNvPicPr/>
          <p:nvPr/>
        </p:nvPicPr>
        <p:blipFill>
          <a:blip r:embed="rId1"/>
          <a:stretch/>
        </p:blipFill>
        <p:spPr>
          <a:xfrm>
            <a:off x="3571920" y="4286160"/>
            <a:ext cx="23637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Закаливай свой организм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357120" y="2071800"/>
            <a:ext cx="5143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учше всего помогает контрастный душ – теплая и прохладная водичка. Не только полез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и помогает прос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7" descr="860ea5f4ce4a.png"/>
          <p:cNvPicPr/>
          <p:nvPr/>
        </p:nvPicPr>
        <p:blipFill>
          <a:blip r:embed="rId1"/>
          <a:stretch/>
        </p:blipFill>
        <p:spPr>
          <a:xfrm>
            <a:off x="5643720" y="1357200"/>
            <a:ext cx="2908080" cy="48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1430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шь больше пищи, содержащей клетчатк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цельные зерна, и меньше – пищу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держащую сахар и приготовленную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пшеничной муки. Чистая вода - источник здоровья! Старайся  пить чистую воду, зелёный чай и другие натуральные напитки. Не забывай об овощах и фруктах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Прямоугольник 8"/>
          <p:cNvSpPr/>
          <p:nvPr/>
        </p:nvSpPr>
        <p:spPr>
          <a:xfrm>
            <a:off x="22860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ы  то, что ты ешь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0" descr="7a35eabfa298.png"/>
          <p:cNvPicPr/>
          <p:nvPr/>
        </p:nvPicPr>
        <p:blipFill>
          <a:blip r:embed="rId1"/>
          <a:stretch/>
        </p:blipFill>
        <p:spPr>
          <a:xfrm>
            <a:off x="611280" y="5013360"/>
            <a:ext cx="2214360" cy="14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5" name="Рисунок 11" descr="b5b1b994db64.png"/>
          <p:cNvPicPr/>
          <p:nvPr/>
        </p:nvPicPr>
        <p:blipFill>
          <a:blip r:embed="rId2"/>
          <a:stretch/>
        </p:blipFill>
        <p:spPr>
          <a:xfrm>
            <a:off x="7596360" y="4500720"/>
            <a:ext cx="143352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5" descr="7e97d621fc1e.png"/>
          <p:cNvPicPr/>
          <p:nvPr/>
        </p:nvPicPr>
        <p:blipFill>
          <a:blip r:embed="rId1"/>
          <a:stretch/>
        </p:blipFill>
        <p:spPr>
          <a:xfrm>
            <a:off x="2928960" y="2786040"/>
            <a:ext cx="3643200" cy="37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7" name="Рисунок 7" descr="607815457.gif"/>
          <p:cNvPicPr/>
          <p:nvPr/>
        </p:nvPicPr>
        <p:blipFill>
          <a:blip r:embed="rId2"/>
          <a:stretch/>
        </p:blipFill>
        <p:spPr>
          <a:xfrm>
            <a:off x="142920" y="1785960"/>
            <a:ext cx="30718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"/>
          <p:cNvSpPr txBox="1"/>
          <p:nvPr/>
        </p:nvSpPr>
        <p:spPr>
          <a:xfrm>
            <a:off x="1142640" y="642960"/>
            <a:ext cx="80010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Почаще гуляй в парке, на свежем воздухе, подальше от автомобилей и других загрязнителей воздуха</a:t>
            </a: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9" name="Рисунок 6" descr="strek13.png"/>
          <p:cNvPicPr/>
          <p:nvPr/>
        </p:nvPicPr>
        <p:blipFill>
          <a:blip r:embed="rId3"/>
          <a:stretch/>
        </p:blipFill>
        <p:spPr>
          <a:xfrm>
            <a:off x="6000840" y="3143160"/>
            <a:ext cx="1428840" cy="6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Старайся чаще слушать любимую весёлую музыку -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642960" y="1928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лучшее лек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 плохого настро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16328f65414e.png"/>
          <p:cNvPicPr/>
          <p:nvPr/>
        </p:nvPicPr>
        <p:blipFill>
          <a:blip r:embed="rId1"/>
          <a:stretch/>
        </p:blipFill>
        <p:spPr>
          <a:xfrm>
            <a:off x="571680" y="1500120"/>
            <a:ext cx="1971360" cy="17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3" name="Рисунок 4" descr="d2b5d50a52c4.png"/>
          <p:cNvPicPr/>
          <p:nvPr/>
        </p:nvPicPr>
        <p:blipFill>
          <a:blip r:embed="rId2"/>
          <a:stretch/>
        </p:blipFill>
        <p:spPr>
          <a:xfrm>
            <a:off x="6786720" y="1428840"/>
            <a:ext cx="208116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4" name="Рисунок 8" descr="1c4a6049c8cb.png"/>
          <p:cNvPicPr/>
          <p:nvPr/>
        </p:nvPicPr>
        <p:blipFill>
          <a:blip r:embed="rId3"/>
          <a:stretch/>
        </p:blipFill>
        <p:spPr>
          <a:xfrm>
            <a:off x="2143080" y="2979720"/>
            <a:ext cx="4772160" cy="36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36:12Z</dcterms:created>
  <dc:creator>User</dc:creator>
  <dc:description/>
  <dc:language>en-US</dc:language>
  <cp:lastModifiedBy>Борат</cp:lastModifiedBy>
  <dcterms:modified xsi:type="dcterms:W3CDTF">2022-10-18T17:03:58Z</dcterms:modified>
  <cp:revision>67</cp:revision>
  <dc:subject/>
  <dc:title>Решение зада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2c0000000000010250300207f7000400038000</vt:lpwstr>
  </property>
</Properties>
</file>