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91E-4630-44BE-90F1-D0791BAD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B30-1D98-407E-A473-238AEB5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343-ADD4-405C-95FB-8693BE3B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4B5-6852-4DD3-A94D-65A1862B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F75-A1AF-4149-9A35-E02E6ED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566-7E86-45FB-86D5-B8D23545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C02-C3DA-4D2E-91A9-6BAABC9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5E2-AC7F-4D9F-9F54-B566C59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349-11CB-4A9A-BDA7-43633DE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098-F9E2-47A9-AE29-B22DA66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FFC-C225-4F84-9F06-717AD31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2A9-FAF7-48F3-B5A4-4DDE7F2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4EC-440B-48BC-B815-149D51D2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Урок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литературного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ч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65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«Любить – значит ж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жизнью того, кого любиш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. 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3098400">
            <a:off x="2226600" y="1371600"/>
            <a:ext cx="154080" cy="1655640"/>
          </a:xfrm>
          <a:prstGeom prst="downArrow">
            <a:avLst>
              <a:gd name="adj1" fmla="val 50000"/>
              <a:gd name="adj2" fmla="val 268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501600">
            <a:off x="6691320" y="1382400"/>
            <a:ext cx="153720" cy="1656000"/>
          </a:xfrm>
          <a:prstGeom prst="downArrow">
            <a:avLst>
              <a:gd name="adj1" fmla="val 50000"/>
              <a:gd name="adj2" fmla="val 2693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1628640"/>
            <a:ext cx="142560" cy="1225800"/>
          </a:xfrm>
          <a:prstGeom prst="downArrow">
            <a:avLst>
              <a:gd name="adj1" fmla="val 50000"/>
              <a:gd name="adj2" fmla="val 214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97360"/>
            <a:ext cx="2160720" cy="25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0920" y="2995560"/>
            <a:ext cx="2160720" cy="2521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27640" y="2997360"/>
            <a:ext cx="2160720" cy="25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Жанры произведений Л.Н.Толс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3098400">
            <a:off x="2226600" y="1371600"/>
            <a:ext cx="154080" cy="1655640"/>
          </a:xfrm>
          <a:prstGeom prst="downArrow">
            <a:avLst>
              <a:gd name="adj1" fmla="val 50000"/>
              <a:gd name="adj2" fmla="val 2686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8501600">
            <a:off x="6691320" y="1382400"/>
            <a:ext cx="153720" cy="1656000"/>
          </a:xfrm>
          <a:prstGeom prst="downArrow">
            <a:avLst>
              <a:gd name="adj1" fmla="val 50000"/>
              <a:gd name="adj2" fmla="val 2693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628640"/>
            <a:ext cx="142560" cy="1225800"/>
          </a:xfrm>
          <a:prstGeom prst="downArrow">
            <a:avLst>
              <a:gd name="adj1" fmla="val 50000"/>
              <a:gd name="adj2" fmla="val 214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97360"/>
            <a:ext cx="2160720" cy="25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а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0920" y="2995560"/>
            <a:ext cx="2160720" cy="2521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997360"/>
            <a:ext cx="2160720" cy="25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сс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620640"/>
            <a:ext cx="7921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Жанры произведений Л.Н.Толс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1280" y="404640"/>
            <a:ext cx="439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852640"/>
            <a:ext cx="2663640" cy="1152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907920"/>
            <a:ext cx="2663640" cy="1152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724280"/>
            <a:ext cx="2663640" cy="115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в и соб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Лев Николаевич Толстой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Лев и соба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94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8:51:44Z</dcterms:created>
  <dc:creator>Axel</dc:creator>
  <dc:description/>
  <dc:language>en-US</dc:language>
  <cp:lastModifiedBy>Axel</cp:lastModifiedBy>
  <dcterms:modified xsi:type="dcterms:W3CDTF">2009-11-24T08:41:24Z</dcterms:modified>
  <cp:revision>9</cp:revision>
  <dc:subject/>
  <dc:title>Произведения Л.Н.Толстого</dc:title>
</cp:coreProperties>
</file>