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663-4BEF-45E9-A7FB-43EF6683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B60-AA35-40F4-8CC5-2C3DA37D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153-5685-425A-B084-8CD0EF03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84C-0267-4F10-B772-D68633EF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B30-93B2-461A-9CAE-06C6565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E59-A9A4-4E22-BFE6-E15DBB45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18B-721D-4329-9F15-8F6D6BD0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79A-D498-482C-971A-C53ED9DB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FF8-8A3D-410F-9CAF-FC8534F6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53A-E336-4C67-A16F-6C9E622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0A4-9661-4EBF-8487-CE8730E7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F27-3146-46CC-BD63-61AE1361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AE50-EFBE-4338-84F7-A1E89DF77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1844640"/>
            <a:ext cx="770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йди слова-предметы и выпиши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а                   бежит            голу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ивый           зелёный        че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к               шарф             рисов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льто               земля            каранд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ть                братья           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. Какие из данных в стихотворении слов обозначают предметы и отвечают на вопрос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ежей под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оно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чательный ребё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оятся м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а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ыша поглад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 Какие из данных в стихотворении слов обозначают предметы и отвечают на вопрос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идишь: на карт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исована ре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ель и белый и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сад и обла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снежная равн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поле и шала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подобная кар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ется пейз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 Найди слова-признаки и выпиш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онкой песней скво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елит 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ая черё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ала на бу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. Найди слова-действия и выпиш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ждь пр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ва блес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небе радуга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5760" y="353880"/>
            <a:ext cx="775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. В каждой группе слов отыщи «лиш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ово» и выпиши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7640" y="1668600"/>
            <a:ext cx="136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ш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ь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8160" y="1668600"/>
            <a:ext cx="202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им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ер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за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жд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177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1080" y="1596960"/>
            <a:ext cx="162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. Выбери близкие по смыслу слова-предметы (синони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ШЕБНИК – 1) чаро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о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хвас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колд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кудес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. Выбери слово, противоположное по смыслу (антони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ЛЫЙ – 1) пло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трус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гру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роб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глуп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ТЬ – 1)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ме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бе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ру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ры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8:20:14Z</dcterms:created>
  <dc:creator>1</dc:creator>
  <dc:description/>
  <dc:language>en-US</dc:language>
  <cp:lastModifiedBy>1</cp:lastModifiedBy>
  <dcterms:modified xsi:type="dcterms:W3CDTF">2008-03-17T18:42:26Z</dcterms:modified>
  <cp:revision>2</cp:revision>
  <dc:subject/>
  <dc:title>Части речи</dc:title>
</cp:coreProperties>
</file>