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1B86-A52C-47D8-8E16-BA5C0F2CA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3157-C195-4FF9-8ED6-1B0583F77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62C5-9754-4DFA-9C30-5438A350C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974F-6B8C-4834-A1BB-D62B8AB40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47E7-2A0D-48BF-B47E-BAC9F5A1F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5E20-93A2-465B-9232-F04328B23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5A25-8C31-4FFE-9DD2-496521293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728D-A752-4951-9BFE-D90158A38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0B47-A4AD-476F-A1B1-28102408A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F0B0-6119-46A2-A29D-1E5CF30DA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B42A-7528-4750-89A8-2F7DE8D06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6D3E-4A55-4633-98A8-55BB40442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6e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E52FA-567A-4C71-850E-DAC55A516F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6e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рфография. Части реч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71640" y="1844280"/>
            <a:ext cx="7345440" cy="37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700"/>
              </a:spcBef>
              <a:buClr>
                <a:srgbClr val="99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99"/>
                </a:solidFill>
                <a:latin typeface="Arial"/>
              </a:rPr>
              <a:t>Подчеркни только слова-предме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есёлый, весело, веселье, весельчак, веселим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егать, бег, бегун, побег, беги, бегот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6e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99"/>
                </a:solidFill>
                <a:latin typeface="Arial"/>
              </a:rPr>
              <a:t>2. Выпиши только слова-действ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тлёт, улетел, лечу, лётчик, прилетел, шаг, шагаем, шагом, шагнул, шагай, зашаг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99"/>
                </a:solidFill>
                <a:latin typeface="Arial"/>
              </a:rPr>
              <a:t>3. Выпиши только слова-призна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расный, краснота, красненький, красноватый, краснеет, добрый, доброта, добреет, подобрел, добреньк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6e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99"/>
                </a:solidFill>
                <a:latin typeface="Arial"/>
              </a:rPr>
              <a:t>4. Найди и выпиши слова  с разделительным мягким знак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ньки, платье, окуньки, большие, перья, деревья, письмо, крыльцо, семья, счастье, Кузьма, Дарья, пальцы, хлопь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99"/>
                </a:solidFill>
                <a:latin typeface="Arial"/>
              </a:rPr>
              <a:t>5. Выпиши слова, которые нельзя разделить для перено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обр, слон, Яна, цветок, заяц, Юля, Шура, еж, лось, окунь, картина, рыбак, ёлка, огурец, лёд, мир, мрак, те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2" dur="2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6e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99"/>
                </a:solidFill>
                <a:latin typeface="Arial"/>
              </a:rPr>
              <a:t>6. Выпиши слова, которые неправильно разделены. Исправь ошиб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пе-йка         ста-кан                 жил-ь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ись-мо          ро-йте                  порт-ф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л-ьчик         крас-ный             о-к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ису-ют           зай-ка                  у-р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а-нна             ма-йка                 по-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2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" dur="5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6e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53964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99"/>
                </a:solidFill>
                <a:latin typeface="Arial"/>
              </a:rPr>
              <a:t>7. Исправь ошибк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пуста             работа            леси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гурец              хорошо            рус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город              корандаш        молок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ец                  пинал              пету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емляника        карова           здравствуй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99"/>
                </a:solidFill>
                <a:latin typeface="Arial"/>
              </a:rPr>
              <a:t>8. Выпиши слова, в которых нужно поставить 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кун…ки            плат…е                 суч…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ен…ю            в…ют                     лист…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…мелый         крыл…я                 с…летелис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…тепан           с…леза                 Кос…т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18:54:33Z</dcterms:created>
  <dc:creator>1</dc:creator>
  <dc:description/>
  <dc:language>en-US</dc:language>
  <cp:lastModifiedBy>1</cp:lastModifiedBy>
  <dcterms:modified xsi:type="dcterms:W3CDTF">2008-03-17T19:15:58Z</dcterms:modified>
  <cp:revision>2</cp:revision>
  <dc:subject/>
  <dc:title>Орфография. Части речи</dc:title>
</cp:coreProperties>
</file>