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7C9-BC9E-4617-9768-7CDD0ED0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E96-08E7-4B3F-9504-D6CC3AB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246-3CD8-4F36-823B-E3D45613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277-3F40-46D2-9033-28472568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889-9C30-4864-9E91-C1DF2B4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681-62F8-4B82-A350-918B841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C81-C6AF-4EC4-94FF-A6EBE97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207-6C21-41E3-9E1E-ADCEEC0E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5AF-8A0F-4C9C-9CC2-A8740C0E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824-EE44-4D9B-B51E-5DA2F79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88D-7580-4333-8949-4DE17C2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386-F418-450F-AC61-B042C0F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B0C-6CE3-4A3E-BAFF-B2220954C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пишите слова, в которых нужно поставить букву 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75614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…ть                 пуш…нка                служ…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уж….на          зм…я                       бр…в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н…здо              сл…ды                     пл…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…бка             м…шь                      ж…ра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…ма                  л…са                         ч…с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Выпиш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ва, в которых нужно поставить букву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.рока              ч…шка                 ч…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…ты             гр…чи                  кр…ч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…йник           вр…чи                  н…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…нты             н…ра                     с…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…ска              ч…сто                   гл…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Выпиши слова, в которых нужно поставить букву 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…дро                          л…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…рно                          зв…з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….на                         сл….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..цо                            т…трад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..ло                             стр….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Выпиши слова, в которых нужно поставить букву 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…га            д…ска                    ш…р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…за            в….да                     м…ря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..рона          к…ньки                  к…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…чи           к…пуста                 с…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. Выпиши слова, в которых надо поставить букву Ж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…                  у…                    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анда…          ё…                    ёр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нды…             стри…              ч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…ка             пля…                сне…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ы…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. Выпиши раздельные написа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)берёзы                      (вы)беж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)болеть                     (в)кварти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из)школы                    (под)ход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а)коньках                  (под)крыш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т)друга                       (от)рез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)шить                          (на)рис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7. Выпиши слова, которые нужно писать с большой букв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ока                 Волга                М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ёза                  Девочка            Р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ич             Цирк                 Пуш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сква                Соловьёв           Волго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Ёжик                    Школа               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. Выпиши слова, в которых нужно поставить букву 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…до             кл…вик                т…льп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…бовь         ч….дак                  ч….л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ч…н         кл…нул                пл…ше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…да              ч….лан                 бл…д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…ка             ч…довище           щ…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3-05T18:41:41Z</dcterms:modified>
  <cp:revision>1</cp:revision>
  <dc:subject/>
  <dc:title>PowerPoint Presentation</dc:title>
</cp:coreProperties>
</file>