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42D-9B28-4CB2-AA2C-9D4DE0BA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CBF-1C9B-4F7D-92E9-55CB9EDB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FB5-6A88-440A-B15D-536BD28D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1A5-10BF-4F5A-8155-5725288B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53A-BC92-4820-AAAE-9C83BE75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940-F4AC-4DC5-A653-EB8C269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3D9-8493-4EFE-BCE9-66F4D6CE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C98-DF1E-45C2-A2EC-B611CDEB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C4C-5FF3-4E27-AE06-97E15CB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303-F95F-47EF-B71A-51C33E1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9D5-064B-4EBE-920C-37C4B78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122-6670-4D8F-AA5A-3019FC0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47DF-C118-4E10-BC79-679D3443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торение изученного во 2 классе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иши слова, у которых пропущен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звонкий со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…(б,п)                         огоро(д,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(д,т)                             автобу(з,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(з,с)                             рука(в,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(д,т)                                бе(г,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а(в,ф)ка                        ска(з,с)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Выпиши слова, в которых нельзя проверить безударную глас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, п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г, гр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, ос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ь, ч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, гр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, сах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, д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, с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ыпиши слова, в которых вс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глас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оказатели мяг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гла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юта               нитки                  пен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тки                линейка              о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ёдра               няня                    си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ыпиши слова, в которых все согласные буквы обозначают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твёрдые зву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й                       ветер                   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со                     слон                     пе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л                     сорока                 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9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8920" y="165240"/>
            <a:ext cx="6002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Выпиши проверочные слова для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4160" y="692280"/>
            <a:ext cx="192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цве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а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0880" y="692280"/>
            <a:ext cx="171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з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692280"/>
            <a:ext cx="23036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ветля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и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3680" y="3262320"/>
            <a:ext cx="6999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В каждой группе слов выпиши лишн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5800" y="4149720"/>
            <a:ext cx="176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з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11240" y="4149720"/>
            <a:ext cx="176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тра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яб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1600" y="4149720"/>
            <a:ext cx="20782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во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Сделай звуко-буквенный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 Спиши текст, расставив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школы большой сад в нём растут яблоки сад посадили школьники каждый год они собирают большой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3:56:45Z</dcterms:created>
  <dc:creator>1</dc:creator>
  <dc:description/>
  <dc:language>en-US</dc:language>
  <cp:lastModifiedBy>1</cp:lastModifiedBy>
  <dcterms:modified xsi:type="dcterms:W3CDTF">2008-03-22T14:24:36Z</dcterms:modified>
  <cp:revision>2</cp:revision>
  <dc:subject/>
  <dc:title>Повторение изученного во 2 классе - 3</dc:title>
</cp:coreProperties>
</file>