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E2AE-1C55-4412-84B4-EA19F569B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BCAC-4722-46FA-BC5C-7884A1BB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AE0D-D3E5-4DC3-A60D-AEABCA44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9580-EA47-46A7-90EC-C48ED3DD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C5EA-8294-4F8E-937B-8B7F736C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8BC0-ABB5-4713-91A8-0888154C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4D8B-F207-49DC-A6F9-DDEE7CFC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4796-5E69-4514-87C9-5713B5DF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4E2A-E3BA-4B38-BDC7-B266BB8A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AB9B-E8AF-4BF7-B32C-C76383E0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F642-71CF-4A02-98C8-F083DD89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70BE-EA40-4592-BB07-82E391D4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42EE-E530-480E-8E67-F19139B5F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вторение материала, изученного во 2 классе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1915920"/>
            <a:ext cx="813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ыпиши слова, в которых букв больше, чем зву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ольки             словарь             соловь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бедь             зверь                 гн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асивый         пальчик             ве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. Выпиши слова, в которых буквы Е,Ё,Я,Ю обозначают мягкость согласного зву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Юля                         якорь                             ё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ясо                        юла                                пойд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юч                        мёд                                ле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. Спиши текст. Подчеркни буквы, обозначающие глухие согласные. В словах последнего предложения поставь знак уда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Димы и Саши был дедушка. Он купил внукам азбуку. Они рады. Мальчики стали учить буквы. Скоро они будут читать кни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4. Выпиши слова, в которых нужно поставить букву 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дола…             уку…                      пар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…                    моро…                  автоб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…                      арбу…                   гр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5. Проверь текст, оцени работу. Выпиши слова, в которых допущены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и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тала зема. Кругом пушыстый снег. На акне красивые узоры. вот кормушка для птиц. У Кати и зины крошки. Они кормят пт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6. Укажи количество предложений в тексте (4,5,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лесу росла сосна там было дупло в дупле жила белка у белки пушистый хвост она любит оре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7. Распредели выделенные слова в столб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.-предм.        сл.-призн.       сл.-дей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упил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рання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сна. Белые облак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лыву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 небу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Чиж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село запел. На солнце Кост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мети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елку. Дует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резк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тер. У нашей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ш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одились котята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дремал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солнце лосиха. Шуршат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листь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д ногами. Весь мир знает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русску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алалай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8.Укажи порядок предложений для расск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Однажды Серёжа заметил среди них синич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Серёжа прибил за окном кормуш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Мальчик стал вешать кусочки сала для сини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) Первым стали брать корм воробь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2T16:00:42Z</dcterms:created>
  <dc:creator>1</dc:creator>
  <dc:description/>
  <dc:language>en-US</dc:language>
  <cp:lastModifiedBy>1</cp:lastModifiedBy>
  <dcterms:modified xsi:type="dcterms:W3CDTF">2008-03-22T16:20:10Z</dcterms:modified>
  <cp:revision>2</cp:revision>
  <dc:subject/>
  <dc:title>Повторение материала, изученного во 2 классе - 4</dc:title>
</cp:coreProperties>
</file>