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72C-3574-4EEF-BE24-65FAE784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712-1B27-4A02-A601-DC3D105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9E0-8ABB-473F-96A6-E7CB0968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812-3B34-4FAA-8C9D-E3D10A34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B46-6D8F-48D6-8236-4C0FDF5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DED-5059-4169-ABDB-D780D9F7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A81-7F19-4D92-8323-5ECCC868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F71-ED91-4C75-9679-0E49708E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8C7-804F-4D2E-85E5-7AA7348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7DC-9C8B-4165-84CF-B04FCAC7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F7E-D658-41E7-B26A-504BF9A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4CC-F6CD-47DB-BFDD-EE0FC06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8623-11EF-42D0-8DA7-B7D51CC5A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Какие группы слов можно назвать предложение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упила поздняя ос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омко каркала от холода во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ы не переставали неб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ь был очень жар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енчик сидит зап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играть зайч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птицы песни пе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жжат деловитые пчё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ьники лето ид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рхал лёгкий ветер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Определи, сколько в тексте предложен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ла тёплая весна потекла вода дети взяли дощечку и сделали лодочку лодка плыла по в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57336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Назови предложения, которые подходят к данной сх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ла кошка на кры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сжала лап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ла около кошки пти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иди близко, пти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3817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6381720"/>
            <a:ext cx="57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6381720"/>
            <a:ext cx="57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116000" y="609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597720"/>
            <a:ext cx="730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Выбери предложения, в конце которых нужно поставить восклицательный зна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красиво озеро в го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ы собираются в доро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е можно оставлять после себя мусор в ле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а прелесть эти сказ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 греет весеннее солныш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. Найти в тексте предложения с неправильным знаком препинания на конце, исправь ошиб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Я вхожу в густой ельник? 2. Как тут хорошо. Вдруг я услышал шаги. 4. Кто это! Я прислонился спиной к стволу дерева? 6. Около кустов малины шла медведица с медвежон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4221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. Сколько предложений можно составить из данных с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ежала, прокатился, хлынул, гром, тёплый, тучка, дождик, звонким, сереб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Расположи предложения так, чтобы восстановить текст стихотворе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тали птицы песни пе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квозь лесной валеж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И расцвёл подснеж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Пробирается медве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400500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Составь предложение по сх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50133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50133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50133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0133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03280" y="46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229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3-04T19:15:35Z</dcterms:modified>
  <cp:revision>1</cp:revision>
  <dc:subject/>
  <dc:title>PowerPoint Presentation</dc:title>
</cp:coreProperties>
</file>