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0F3-FC80-4866-B940-136EAECF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6B8-5E6B-4788-B2B2-D86C4F9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D82-44CC-4462-AE13-E8182CF0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064-5961-4C27-A235-4F513777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0A1-EB38-4186-B201-79CA4FC1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D2B-83C8-4236-BF0E-B48F4FCB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125-E1EA-4599-9F7E-D8270A7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444-1925-40DC-A090-1128D08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D5B-C9FE-4388-B2FD-59D9A3CF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746-5B30-4AEC-AD53-58CD749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531-685B-4B07-824C-28EB15F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746-0B27-480B-85A0-FB35ADD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093E-A075-4D27-B213-87A889B3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ставки и предлоги – 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должи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 – э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тавка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Спиши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язка (на)рукаве.            (На)рукавная повя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(под)землёй.        (Под)земный пере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стенный календарь.     Картина (на)ст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о)военные годы.               Год (до)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думай и напиши три предложения с одинаковыми приставками и предлогами: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С, НА, 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Укажи номер предложений, в которых набор слов в скобках пишется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гал зайчик (по)п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)бежал лось к лесной ст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)летел яростный ве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и солнышка заиграли (на)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)горами прогремел г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)стучали первые капли дож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)шумом промчались 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)прятались дети от щ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 Выпиши слова, в которых нужно поставить в приставке букву 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…ступил май. Вот пр…летела стая грачей. З…шумел в лесу золотой дождь. П…шли мальчишки в рощу за грибами. З…шуршали листья под ногами. П…смотрел щенок кругом. З…стучали первые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 Составь и запиши: предлог + слово-предме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 Запиши в два столбика, раскрывая скобки.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о)сыпал, (на)картине, (от)кинул, (за)писал, (в)бежал, (пере)лёт, (за)ручьём, (на)писал, (с)горохом, (под)крова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Разбери по составу слова  прист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яд, гром, приход, оттепель, предмет, над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9:34:29Z</dcterms:created>
  <dc:creator>1</dc:creator>
  <dc:description/>
  <dc:language>en-US</dc:language>
  <cp:lastModifiedBy>1</cp:lastModifiedBy>
  <dcterms:modified xsi:type="dcterms:W3CDTF">2008-03-23T09:51:53Z</dcterms:modified>
  <cp:revision>2</cp:revision>
  <dc:subject/>
  <dc:title>Приставки и предлоги – 2 класс</dc:title>
</cp:coreProperties>
</file>