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C26-6B39-4460-82E9-E4E73AEE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D1E-336E-4EAD-A888-CC8E6EE3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9D7-F904-427A-9E57-EA8D29E7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4AD-7A39-4CE8-A31F-5F697078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02A-EC19-4B41-8732-F5D092F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810-3C5F-45B4-ACAD-FF097347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E12-E162-48B6-82E2-FA9A184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56B-01DA-4327-88A1-E821FEAE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C4E-49D1-4C7C-83C4-C39053D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388-5D5D-48C9-AB20-8529B97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50B-3A63-4C43-A80B-8BF4DC1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26D-6095-43E6-BF09-10AA089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F75-B6B7-4602-9E87-F918C70BC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слова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А. Корень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Б. Приставка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В. Суффикс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Г. Окончание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Д. Основа слова -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слова, которая стоит перед корнем и служит для образования нов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яемая часть слова, которая служит для связи слов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я часть родстве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слова, которая стоит после корня и служит для образования нов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Часть слова без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Выпиши слова с прист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)дворе          (в)бежал          (с)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)мело           (в)лес               (с)д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)месте          (в)летел            (с)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бери слова по соста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цветной, ласто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иши два слова такого же состава, как сло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рко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Запиши слово-предмет, слово-признак, слово-действие с корн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–ноч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пиши слова, близкие по знач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й, синий, громадный, весёлый, грустный, огром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Найди ошибки, допущенные при переносе. Раздели эти слова для переноса прави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-лея           колл-екция        с-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-роз           стро-йка             ван-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-я             рус-ский             добре-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Из слов каждого ряда выпиши только однокоре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, белить, белила, беленький, белок, бели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ьний, дала, вдали, далеко, далёкий, п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ка, горевать, пригорок, горный, гористый, горю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 Выпиши слова с суффиксом –ок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ушок             бережок                с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                   молоко                 те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шок                 дружок                 дер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сёнок               рынок                   крокод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59:03Z</dcterms:created>
  <dc:creator>1</dc:creator>
  <dc:description/>
  <dc:language>en-US</dc:language>
  <cp:lastModifiedBy>1</cp:lastModifiedBy>
  <dcterms:modified xsi:type="dcterms:W3CDTF">2008-03-23T09:13:41Z</dcterms:modified>
  <cp:revision>2</cp:revision>
  <dc:subject/>
  <dc:title>Состав слова - 2</dc:title>
</cp:coreProperties>
</file>