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8B0-DAA3-4F6A-A505-C55DB6C9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18B-BEF6-4CA2-AA48-AEFFC4CE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B0B-172A-43DC-8F90-312E9809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218-7CCB-4466-8995-B9B6FE5E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8DB-2454-43E3-8D4F-80E99C69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F1D-3B0D-4B33-94CF-782B4E95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E98-7C6C-41CB-81F6-52756D84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3C0-DA6D-4004-83F3-65AE2882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DEC-CE89-4B15-BC46-5E5D057A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254-C12F-4E21-95DB-F5755AFB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01C-F1FA-41A2-B7A3-2357F3E1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B61-1CC8-499B-A93F-DD0A2B8D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773-C324-45D8-8662-4C350CC1D3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вуки и буквы, слоги, уда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484280"/>
            <a:ext cx="763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Запиши количество букв и зву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кварь - …звуков,    …бук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йка - …звуков,     …бук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ь - …звуков,      …бук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2. Выбери слово, в котором звуков больше, чем бук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я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3. Выпиши слова, в которых есть слог, состоящий из одной бук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ша, осень, яма, рисуют, ива, ёлка, улитка, игол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4. Раздели слова для перено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ская, скамейка, письменный, утюг, утка, уголок, радио, Юля, клетка, дв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5. Поставь удар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йка, зимой, воробей, гора, санки, сирень, окошко, фамил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6. Раздели слова на сл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упила суровая зи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7. Выпиши трёхсложные слова с ударением на втором слоге и подчеркни 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обей                         зелёный                  котё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                       фиалка                   волш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стопад                        гитара                    пирож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ёлый                          опята                     дя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тка                              будильник             удар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8. Выпиши слова, в которых есть орфограмма парный согласный в кор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ег, побелел, сад, лёд, дрозд, треснул, чудесный, завод, медведь, пирог, учитель, круг, утюг, мороз, девочка, жира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03-14T19:05:13Z</dcterms:modified>
  <cp:revision>1</cp:revision>
  <dc:subject/>
  <dc:title>PowerPoint Presentation</dc:title>
</cp:coreProperties>
</file>