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45F-0480-4D2A-8E48-85B0570F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C7D-39FC-48F8-8A8C-B8E2AD7C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5E9A-A9AE-4F92-99A6-0ADEE8F1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A15-9B2C-4676-826E-1FC06E82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088-0F5A-4DE9-9BE6-322147A4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170-FEF0-4617-95A9-E3E9AE42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55A-A22B-4C08-8D66-D746B0A8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082-5A77-4E9C-B631-96B4E788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9C0-30B9-4E77-9292-87D8EBFC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060-0D6F-4537-BD88-EE3EFC10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232-7761-4DC7-B1A4-A3430DBB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82B-BD07-4A88-9606-757C8485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C847-E2C9-48F2-86DC-2B1EAD9913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 Прочитай, отметь в словах окончание, основу, корень, суффикс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довник, гром, домашняя, мастерская, лесник, морозить, сторожка, мостик, холодильник, труд, работа, помощн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ut thruBlk="true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опиши однокоренные слова-признаки и действия  к данным словам-предмет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т - __________________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вет - __________________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лень - ________________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ut thruBlk="true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йди однокоренные слова  и отметь корень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с, лесок, бор, роща, лесник, чащ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ut thruBlk="true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Выпиши лишнее сло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с, рисунок, рисовая (каш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ut thruBlk="true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пиши слова, близкие по смыслу (синонимы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аз, глазунья, яичница, омл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ut thruBlk="true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. Распредели слова по группам однокоренных сл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ег, цветник, снеговик, звонкий, садик, звон, рассада, садовник, цветной, звони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___________________________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ut thruBlk="true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8-02-07T15:35:26Z</dcterms:modified>
  <cp:revision>1</cp:revision>
  <dc:subject/>
  <dc:title>PowerPoint Presentation</dc:title>
</cp:coreProperties>
</file>