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B11-71EB-44E7-B324-957494F5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385-E41D-4F54-8B21-A315FD3B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188-A5B9-4200-A3EE-8FF7EC9A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2991-D8D9-4AE2-8559-74DDB819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1C86-14E2-4B6B-9007-DE205E33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599F-F4C2-4035-AA6F-70EB8CBE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08C-4E98-4E86-9E38-0582ACBB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516-AA12-4234-8C77-F1A1E390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A04-6976-43F5-A19D-2FBFD6CE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6C9-AA2C-4177-BAF4-DEB643D8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5E5-C92A-4614-A65D-0DF2C41A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CCC-3164-43ED-9D1B-101D3C07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F477-36C0-4688-9DBC-D4EF4EB277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00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19280" y="1916280"/>
            <a:ext cx="6265800" cy="20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узей-квартир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. А. Блок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4078440" cy="626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292720" y="422100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Arial"/>
              </a:rPr>
              <a:t>Дом на улице Декабристов, 5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35280" y="260280"/>
            <a:ext cx="5329080" cy="375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32000" y="443700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Письменный стол А. Блока. Личные вещи поэ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451640" cy="5372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16360" y="5516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абинет поэ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724360" y="1197000"/>
            <a:ext cx="2502000" cy="2692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5724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470560" y="404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. Н. Гиппиус. Рыбий щенок. 1910. Рису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59280" y="595008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толовая в квартире. А. Бл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45003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9640" y="47628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Комната А. Блока (спальн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429264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Комната А. Блока. Столик с портретом Л. Д. Б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2720" cy="6718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96000" y="6206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Комната Любови Дмитриевны, жены поэ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407664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Литературная композиция. Раздел, посвященный послереволюционному творчеству А. Бл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40360" y="0"/>
            <a:ext cx="47829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328464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Кабинет А. Блока. Вид из окна на реку Пряж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06:05:22Z</dcterms:created>
  <dc:creator>USER</dc:creator>
  <dc:description/>
  <dc:language>en-US</dc:language>
  <cp:lastModifiedBy>USER</cp:lastModifiedBy>
  <dcterms:modified xsi:type="dcterms:W3CDTF">2006-06-27T09:59:39Z</dcterms:modified>
  <cp:revision>11</cp:revision>
  <dc:subject/>
  <dc:title>Слайд 1</dc:title>
</cp:coreProperties>
</file>