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A6C-3579-4ED4-8860-BC3611AD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CE04-6B44-4A96-9D23-9FD636B4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927-39BD-4494-86EB-25C54C4B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CA8-0589-42C7-8423-2031A222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8A5-8A9A-4BE5-A709-4A2480BB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A5C-C4A8-40FC-A90B-5439559F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421-5ECA-412B-8DB6-6416DCC8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721-4469-458C-92E6-905A5925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16A7-4B2D-4317-B39B-65A83002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28B2-6835-45C3-B3C2-E3C440FE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E369-CDEA-4659-BE75-4AE5105C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77E-CA61-4C4C-9A86-80506442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1B0C-427B-46C1-9C4D-6C62F999C9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00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19280" y="1916280"/>
            <a:ext cx="6265800" cy="20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узей-квартир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 А. Блока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4078440" cy="626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292720" y="422100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Дом на улице Декабристов, 5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35280" y="260280"/>
            <a:ext cx="5329080" cy="375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32000" y="443700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Письменный стол А. Блока. Личные вещи поэ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451640" cy="5372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16360" y="5516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абинет поэ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724360" y="1197000"/>
            <a:ext cx="2502000" cy="2692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5724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70560" y="404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. Н. Гиппиус. Рыбий щенок. 1910. Рису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59280" y="595008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толовая в квартире. А. Бло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45003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47628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Комната А. Блока (спальн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429264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Комната А. Блока. Столик с портретом Л. Д. Б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2720" cy="6718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96000" y="620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Комната Любови Дмитриевны, жены поэ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407664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Литературная композиция. Раздел, посвященный послереволюционному творчеству А. Бл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40360" y="0"/>
            <a:ext cx="47829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328464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Кабинет А. Блока. Вид из окна на реку Пряж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06:05:22Z</dcterms:created>
  <dc:creator>USER</dc:creator>
  <dc:description/>
  <dc:language>en-US</dc:language>
  <cp:lastModifiedBy>USER</cp:lastModifiedBy>
  <dcterms:modified xsi:type="dcterms:W3CDTF">2006-06-27T09:59:39Z</dcterms:modified>
  <cp:revision>11</cp:revision>
  <dc:subject/>
  <dc:title>Слайд 1</dc:title>
</cp:coreProperties>
</file>