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646-F331-4B8C-97EA-E8898C86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0560-3E4E-47B0-A2D9-88470FBE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B2F-53E4-4B55-BDFB-607F416C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589-6062-424D-B88C-707C3B7E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425-989A-447A-B62D-9FA93A34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5FA-1987-43F9-B5B5-18CE310D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F6F-00AE-4B8C-A378-9D65741E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FD4-2BF2-48AE-ACCD-31E989F6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C7F-6972-4094-87C2-2CF70294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513-3375-42C3-9B22-97A498AF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621-8D0E-4115-89F8-67C10C05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77C-59A9-41DD-94C2-C81CBDDB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0634-A76E-437F-A148-CDC10630B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етентностный подход в обучении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ладших школьников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через средства учебных заданий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1125360"/>
            <a:ext cx="82090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ние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ва наблюдал за жизнью муравьев. Помоги ему ответить на вопросы, которые у него появи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ва муравья выбежали из муравейника в противоположных направлениях. Через некоторое время расстояние между ними было 14 дм. На каком расстоянии от муравейника в это время находился первый муравей, если второй отбежал от муравейника на 8 д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тностный характер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700360" y="3357720"/>
            <a:ext cx="2972880" cy="1028520"/>
            <a:chOff x="2700360" y="3357720"/>
            <a:chExt cx="2972880" cy="1028520"/>
          </a:xfrm>
        </p:grpSpPr>
        <p:sp>
          <p:nvSpPr>
            <p:cNvPr id="45" name=""/>
            <p:cNvSpPr/>
            <p:nvPr/>
          </p:nvSpPr>
          <p:spPr>
            <a:xfrm>
              <a:off x="2700360" y="3700080"/>
              <a:ext cx="297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15400" y="3586320"/>
              <a:ext cx="7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00360" y="3586320"/>
              <a:ext cx="7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72520" y="3586320"/>
              <a:ext cx="7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6200000">
              <a:off x="4015080" y="2385360"/>
              <a:ext cx="342720" cy="2972160"/>
            </a:xfrm>
            <a:custGeom>
              <a:avLst/>
              <a:gdLst>
                <a:gd name="textAreaLeft" fmla="*/ 218880 w 342720"/>
                <a:gd name="textAreaRight" fmla="*/ 343080 w 342720"/>
                <a:gd name="textAreaTop" fmla="*/ 77400 h 2972160"/>
                <a:gd name="textAreaBottom" fmla="*/ 2894760 h 297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72"/>
                  </a:lnTo>
                  <a:cubicBezTo>
                    <a:pt x="10800" y="10172"/>
                    <a:pt x="5400" y="11072"/>
                    <a:pt x="0" y="11072"/>
                  </a:cubicBezTo>
                  <a:cubicBezTo>
                    <a:pt x="5400" y="11072"/>
                    <a:pt x="10800" y="11972"/>
                    <a:pt x="10800" y="1287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57920" y="3357720"/>
              <a:ext cx="228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71960" y="4156920"/>
              <a:ext cx="22824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72960" y="3357720"/>
              <a:ext cx="228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539640" y="414972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869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)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ервый муравей принёс в муравейник 12 травинок. Это на 5 травинок больше, чем принёс второй. Сколько травинок принёс второй мурав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14972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Открытое» зад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черти прямую линию. Поставь на ней точку А. Отложи на этой прямой отрезок АБ длиной 4 см и отрезок АК длиной 7 см. Найди длину отрезка БК. Подсказка: ответов больше, чем од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дуктивное зад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врати, если возможно, записи Юли в верные равенства и нераве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 *6            14 &gt; *               1* &lt; *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&lt; **             1* = *3              *0 =  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должи ряд чисел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10, 515, 6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сказ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шений больше, чем од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пытайся решить уравн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7 - х =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равнение не имеет решений, постарайся выполнить такое преобразование, чтобы его можно было решить. Постарайся найти больше одного варианта преобраз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зненны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тобы засеять один квадратный метр, фермеру нужно 300г семян. сколько килограммов семян ему нужно, чтобы засеять участок площадью 10а, 20а? 1га? Сколько это центне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8:30:59Z</dcterms:created>
  <dc:creator>Елена </dc:creator>
  <dc:description/>
  <dc:language>en-US</dc:language>
  <cp:lastModifiedBy>Елена </cp:lastModifiedBy>
  <dcterms:modified xsi:type="dcterms:W3CDTF">2010-01-27T23:37:48Z</dcterms:modified>
  <cp:revision>2</cp:revision>
  <dc:subject/>
  <dc:title>Слайд 1</dc:title>
</cp:coreProperties>
</file>