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9.gif" ContentType="image/gif"/>
  <Override PartName="/ppt/media/image1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4.gif" ContentType="image/gif"/>
  <Override PartName="/ppt/media/image8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0AA-C18F-464A-AAC8-D206F0B1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937-2362-46B3-BDAF-0A1CF9C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B07-A88D-4375-A7A1-7300DF0C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194-5A4A-4DB2-B85C-DDF70AF6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945-A19D-495D-9273-F0B7D7C6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178-6D44-44BA-93DF-56F336C7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9C9-1D5E-488A-BE55-E80C1B7F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BB3-70C5-482E-88BA-3C5A6904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B16-115A-40FF-824B-188C6C13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26E-7FB7-4643-8542-A107C32E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333-0506-4693-901A-66CC8F2B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250-4C2B-4293-9D48-3269201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5BD-0133-4560-8939-C4928A399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1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2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0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9.gif"/><Relationship Id="rId16" Type="http://schemas.openxmlformats.org/officeDocument/2006/relationships/image" Target="../media/image12.gif"/><Relationship Id="rId17" Type="http://schemas.openxmlformats.org/officeDocument/2006/relationships/image" Target="../media/image13.gif"/><Relationship Id="rId18" Type="http://schemas.openxmlformats.org/officeDocument/2006/relationships/image" Target="../media/image14.gif"/><Relationship Id="rId19" Type="http://schemas.openxmlformats.org/officeDocument/2006/relationships/image" Target="../media/image15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8.gif"/><Relationship Id="rId23" Type="http://schemas.openxmlformats.org/officeDocument/2006/relationships/image" Target="../media/image19.gif"/><Relationship Id="rId24" Type="http://schemas.openxmlformats.org/officeDocument/2006/relationships/image" Target="../media/image20.gif"/><Relationship Id="rId25" Type="http://schemas.openxmlformats.org/officeDocument/2006/relationships/image" Target="../media/image11.gif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flipH="1">
            <a:off x="1835280" y="2852640"/>
            <a:ext cx="1249200" cy="17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71640" y="5130720"/>
            <a:ext cx="124776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24000" y="404640"/>
            <a:ext cx="8351640" cy="172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общающи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052640"/>
            <a:ext cx="7488360" cy="17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966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однородных членах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989000"/>
            <a:ext cx="1079640" cy="93852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2062080"/>
            <a:ext cx="8683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806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03280" y="2205000"/>
            <a:ext cx="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486080"/>
            <a:ext cx="1368360" cy="431640"/>
          </a:xfrm>
          <a:prstGeom prst="wedgeRoundRectCallout">
            <a:avLst>
              <a:gd name="adj1" fmla="val -59861"/>
              <a:gd name="adj2" fmla="val 16470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а 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20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2205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340000" y="2637000"/>
            <a:ext cx="712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32000" y="2421000"/>
            <a:ext cx="3603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35280" y="270972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778200" y="270972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22560" y="270972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205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413000"/>
            <a:ext cx="1368360" cy="431640"/>
          </a:xfrm>
          <a:prstGeom prst="wedgeRoundRectCallout">
            <a:avLst>
              <a:gd name="adj1" fmla="val -58004"/>
              <a:gd name="adj2" fmla="val 161763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а и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5440" y="1917720"/>
            <a:ext cx="1079280" cy="9381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49800" y="1990800"/>
            <a:ext cx="868320" cy="76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806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едупреж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27640" y="2133720"/>
            <a:ext cx="7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13372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213372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164360" y="2565360"/>
            <a:ext cx="716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28000" y="2565360"/>
            <a:ext cx="7128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13000"/>
            <a:ext cx="1619280" cy="129564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6994" y="0"/>
                </a:lnTo>
                <a:lnTo>
                  <a:pt x="0" y="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6994" y="21600"/>
                </a:lnTo>
                <a:lnTo>
                  <a:pt x="26994" y="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6994" y="216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6994" h="21600">
                <a:moveTo>
                  <a:pt x="13497" y="2800"/>
                </a:moveTo>
                <a:lnTo>
                  <a:pt x="16457" y="5800"/>
                </a:lnTo>
                <a:lnTo>
                  <a:pt x="16457" y="3800"/>
                </a:lnTo>
                <a:lnTo>
                  <a:pt x="18497" y="3800"/>
                </a:lnTo>
                <a:lnTo>
                  <a:pt x="18497" y="7840"/>
                </a:lnTo>
                <a:lnTo>
                  <a:pt x="21497" y="10800"/>
                </a:lnTo>
                <a:lnTo>
                  <a:pt x="19597" y="10800"/>
                </a:lnTo>
                <a:lnTo>
                  <a:pt x="19597" y="19060"/>
                </a:lnTo>
                <a:lnTo>
                  <a:pt x="7397" y="19060"/>
                </a:lnTo>
                <a:lnTo>
                  <a:pt x="7397" y="10800"/>
                </a:lnTo>
                <a:lnTo>
                  <a:pt x="5497" y="10800"/>
                </a:lnTo>
                <a:close/>
              </a:path>
              <a:path fill="darkenLess" w="26994" h="21600">
                <a:moveTo>
                  <a:pt x="16457" y="5800"/>
                </a:moveTo>
                <a:lnTo>
                  <a:pt x="16457" y="3800"/>
                </a:lnTo>
                <a:lnTo>
                  <a:pt x="18497" y="3800"/>
                </a:lnTo>
                <a:lnTo>
                  <a:pt x="18497" y="7840"/>
                </a:lnTo>
                <a:close/>
              </a:path>
              <a:path fill="darkenLess" w="26994" h="21600">
                <a:moveTo>
                  <a:pt x="12437" y="14820"/>
                </a:moveTo>
                <a:lnTo>
                  <a:pt x="14557" y="14820"/>
                </a:lnTo>
                <a:lnTo>
                  <a:pt x="14557" y="19060"/>
                </a:lnTo>
                <a:lnTo>
                  <a:pt x="19597" y="19060"/>
                </a:lnTo>
                <a:lnTo>
                  <a:pt x="19597" y="10800"/>
                </a:lnTo>
                <a:lnTo>
                  <a:pt x="7397" y="10800"/>
                </a:lnTo>
                <a:lnTo>
                  <a:pt x="7397" y="19060"/>
                </a:lnTo>
                <a:lnTo>
                  <a:pt x="12437" y="190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3500280"/>
            <a:ext cx="1429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flipH="1">
            <a:off x="1257120" y="5489640"/>
            <a:ext cx="1277640" cy="1359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108840" y="3860640"/>
            <a:ext cx="69660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308720" y="4149720"/>
            <a:ext cx="1414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96360" y="4149720"/>
            <a:ext cx="14112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021440" y="4149720"/>
            <a:ext cx="14436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45440" y="4149720"/>
            <a:ext cx="141480" cy="1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4869000"/>
            <a:ext cx="57636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7080" y="4869000"/>
            <a:ext cx="576000" cy="504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284720" y="5084640"/>
            <a:ext cx="36036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19640" y="5227560"/>
            <a:ext cx="7128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4508640"/>
            <a:ext cx="1368360" cy="431640"/>
          </a:xfrm>
          <a:prstGeom prst="wedgeRoundRectCallout">
            <a:avLst>
              <a:gd name="adj1" fmla="val 46518"/>
              <a:gd name="adj2" fmla="val 95587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4437000"/>
            <a:ext cx="1224000" cy="10080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516720" y="4510080"/>
            <a:ext cx="93492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8066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тог, пояс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203640" y="3213000"/>
            <a:ext cx="1217520" cy="129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427640" y="6237360"/>
            <a:ext cx="720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1640" y="5562720"/>
            <a:ext cx="1619280" cy="129528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7002" h="21600">
                <a:moveTo>
                  <a:pt x="0" y="0"/>
                </a:moveTo>
                <a:lnTo>
                  <a:pt x="27002" y="0"/>
                </a:lnTo>
                <a:lnTo>
                  <a:pt x="27002" y="21600"/>
                </a:lnTo>
                <a:lnTo>
                  <a:pt x="0" y="21600"/>
                </a:lnTo>
                <a:close/>
              </a:path>
              <a:path fill="lightenLess" w="27002" h="21600">
                <a:moveTo>
                  <a:pt x="0" y="0"/>
                </a:moveTo>
                <a:lnTo>
                  <a:pt x="27002" y="0"/>
                </a:lnTo>
                <a:lnTo>
                  <a:pt x="27002" y="0"/>
                </a:lnTo>
                <a:lnTo>
                  <a:pt x="0" y="0"/>
                </a:lnTo>
                <a:close/>
              </a:path>
              <a:path fill="darken" w="27002" h="21600">
                <a:moveTo>
                  <a:pt x="27002" y="0"/>
                </a:moveTo>
                <a:lnTo>
                  <a:pt x="27002" y="21600"/>
                </a:lnTo>
                <a:lnTo>
                  <a:pt x="27002" y="21600"/>
                </a:lnTo>
                <a:lnTo>
                  <a:pt x="27002" y="0"/>
                </a:lnTo>
                <a:close/>
              </a:path>
              <a:path fill="darkenLess" w="27002" h="21600">
                <a:moveTo>
                  <a:pt x="27002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27002" y="21600"/>
                </a:lnTo>
                <a:close/>
              </a:path>
              <a:path fill="lighten" w="27002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27002" h="21600">
                <a:moveTo>
                  <a:pt x="13501" y="2800"/>
                </a:moveTo>
                <a:lnTo>
                  <a:pt x="16461" y="5800"/>
                </a:lnTo>
                <a:lnTo>
                  <a:pt x="16461" y="3800"/>
                </a:lnTo>
                <a:lnTo>
                  <a:pt x="18501" y="3800"/>
                </a:lnTo>
                <a:lnTo>
                  <a:pt x="18501" y="7840"/>
                </a:lnTo>
                <a:lnTo>
                  <a:pt x="21501" y="10800"/>
                </a:lnTo>
                <a:lnTo>
                  <a:pt x="19601" y="10800"/>
                </a:lnTo>
                <a:lnTo>
                  <a:pt x="19601" y="19060"/>
                </a:lnTo>
                <a:lnTo>
                  <a:pt x="7401" y="19060"/>
                </a:lnTo>
                <a:lnTo>
                  <a:pt x="7401" y="10800"/>
                </a:lnTo>
                <a:lnTo>
                  <a:pt x="5501" y="10800"/>
                </a:lnTo>
                <a:close/>
              </a:path>
              <a:path fill="darkenLess" w="27002" h="21600">
                <a:moveTo>
                  <a:pt x="16461" y="5800"/>
                </a:moveTo>
                <a:lnTo>
                  <a:pt x="16461" y="3800"/>
                </a:lnTo>
                <a:lnTo>
                  <a:pt x="18501" y="3800"/>
                </a:lnTo>
                <a:lnTo>
                  <a:pt x="18501" y="7840"/>
                </a:lnTo>
                <a:close/>
              </a:path>
              <a:path fill="darkenLess" w="27002" h="21600">
                <a:moveTo>
                  <a:pt x="12441" y="14820"/>
                </a:moveTo>
                <a:lnTo>
                  <a:pt x="14561" y="14820"/>
                </a:lnTo>
                <a:lnTo>
                  <a:pt x="14561" y="19060"/>
                </a:lnTo>
                <a:lnTo>
                  <a:pt x="19601" y="19060"/>
                </a:lnTo>
                <a:lnTo>
                  <a:pt x="19601" y="10800"/>
                </a:lnTo>
                <a:lnTo>
                  <a:pt x="7401" y="10800"/>
                </a:lnTo>
                <a:lnTo>
                  <a:pt x="7401" y="19060"/>
                </a:lnTo>
                <a:lnTo>
                  <a:pt x="12441" y="1906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32000" y="4292640"/>
            <a:ext cx="716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356000" y="4221000"/>
            <a:ext cx="7164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8920" y="6643800"/>
            <a:ext cx="712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43280" y="6643800"/>
            <a:ext cx="712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0" y="5273640"/>
            <a:ext cx="95868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716360" y="3068640"/>
            <a:ext cx="9590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4291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верка Д/З.   ЗСП  - 7.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о-новому одеты –  по новому пути, на счет в банке –насчет похода,  в даль – глядеть  вдаль.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Продолжите словами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(в)первые, в течени(е;  и), (в)ни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асставьте недостающие буквы и знаки препинания.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своих стихах Пушкин (н_)только упом_нал цветы нои ст_рался р_скрыть их душу.В Михайловском они (по)всюду в лесах и полях парках и садах. Цветы Михайловского впитали в себя синеву  _дешнего неба , Сороти, зелень лесов деревьев трав и все цвета небесной радуги, осенявшей эту землю (и_)покон веков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56720" y="2349360"/>
            <a:ext cx="1187280" cy="1040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740720" y="5875200"/>
            <a:ext cx="1403280" cy="982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620640"/>
            <a:ext cx="900000" cy="1152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ставьте в предложения обобщающи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ктант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стр. 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2421000"/>
            <a:ext cx="43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I. Цветы могут рассказать 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00720" y="2492280"/>
            <a:ext cx="1511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о многом :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56360" y="2349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о времени дня, о 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2852640"/>
            <a:ext cx="6227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огоде, о состоянии окружающей среды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3284640"/>
            <a:ext cx="882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II.  Я любил читать книги о природе, о красоте цвету -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3716280"/>
            <a:ext cx="435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щих садов, лугов, парков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85264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422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00720" y="3716280"/>
            <a:ext cx="4643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-обо всём, окружающем </a:t>
            </a:r>
            <a:endParaRPr b="1" i="1" lang="en-US" sz="32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4581360"/>
            <a:ext cx="914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III.                 на стенах, над дверью, у окна висели связки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4653000"/>
            <a:ext cx="108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Везде: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5084640"/>
            <a:ext cx="2411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сухой травы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4221000"/>
            <a:ext cx="971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меня.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81360"/>
            <a:ext cx="10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5013360"/>
            <a:ext cx="10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8a"/>
            </a:gs>
            <a:gs pos="100000">
              <a:srgbClr val="00c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УР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084640"/>
            <a:ext cx="822960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/З  УПР. №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6000840"/>
            <a:ext cx="7848720" cy="857160"/>
            <a:chOff x="0" y="6000840"/>
            <a:chExt cx="7848720" cy="857160"/>
          </a:xfrm>
        </p:grpSpPr>
        <p:sp>
          <p:nvSpPr>
            <p:cNvPr id="114" name=""/>
            <p:cNvSpPr/>
            <p:nvPr/>
          </p:nvSpPr>
          <p:spPr>
            <a:xfrm>
              <a:off x="2362320" y="600084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solidFill>
              <a:srgbClr val="a86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946680" y="6000840"/>
              <a:ext cx="3902040" cy="857160"/>
              <a:chOff x="3946680" y="6000840"/>
              <a:chExt cx="3902040" cy="857160"/>
            </a:xfrm>
          </p:grpSpPr>
          <p:sp>
            <p:nvSpPr>
              <p:cNvPr id="116" name=""/>
              <p:cNvSpPr/>
              <p:nvPr/>
            </p:nvSpPr>
            <p:spPr>
              <a:xfrm>
                <a:off x="6267600" y="601200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49800" y="600084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09960" y="616104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59280" y="611820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46680" y="610704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0" y="600084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solidFill>
              <a:srgbClr val="a86d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38836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8858160" y="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0" y="1197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619280" y="112536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692360" y="1700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1258920" y="476280"/>
            <a:ext cx="144360" cy="13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7667640" y="1557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1"/>
          <a:stretch/>
        </p:blipFill>
        <p:spPr>
          <a:xfrm>
            <a:off x="3851280" y="126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684360" y="299736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3"/>
          <a:stretch/>
        </p:blipFill>
        <p:spPr>
          <a:xfrm>
            <a:off x="4643280" y="191628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4"/>
          <a:stretch/>
        </p:blipFill>
        <p:spPr>
          <a:xfrm>
            <a:off x="2268360" y="3357720"/>
            <a:ext cx="216000" cy="207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5"/>
          <a:stretch/>
        </p:blipFill>
        <p:spPr>
          <a:xfrm>
            <a:off x="6156360" y="549360"/>
            <a:ext cx="431640" cy="417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6"/>
          <a:stretch/>
        </p:blipFill>
        <p:spPr>
          <a:xfrm>
            <a:off x="7020000" y="3789360"/>
            <a:ext cx="647640" cy="627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7"/>
          <a:stretch/>
        </p:blipFill>
        <p:spPr>
          <a:xfrm>
            <a:off x="3708360" y="3284640"/>
            <a:ext cx="504720" cy="457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8"/>
          <a:stretch/>
        </p:blipFill>
        <p:spPr>
          <a:xfrm>
            <a:off x="4859280" y="400536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9"/>
          <a:stretch/>
        </p:blipFill>
        <p:spPr>
          <a:xfrm>
            <a:off x="4067280" y="3333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0"/>
          <a:stretch/>
        </p:blipFill>
        <p:spPr>
          <a:xfrm>
            <a:off x="3059280" y="1809720"/>
            <a:ext cx="545760" cy="493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1"/>
          <a:stretch/>
        </p:blipFill>
        <p:spPr>
          <a:xfrm>
            <a:off x="7524720" y="620640"/>
            <a:ext cx="611280" cy="554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2"/>
          <a:stretch/>
        </p:blipFill>
        <p:spPr>
          <a:xfrm>
            <a:off x="0" y="0"/>
            <a:ext cx="611280" cy="61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3"/>
          <a:stretch/>
        </p:blipFill>
        <p:spPr>
          <a:xfrm>
            <a:off x="7524720" y="2708280"/>
            <a:ext cx="762120" cy="419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4"/>
          <a:stretch/>
        </p:blipFill>
        <p:spPr>
          <a:xfrm>
            <a:off x="2340000" y="189000"/>
            <a:ext cx="476280" cy="523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5"/>
          <a:stretch/>
        </p:blipFill>
        <p:spPr>
          <a:xfrm>
            <a:off x="250920" y="422100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5" dur="3841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2:56:35Z</dcterms:created>
  <dc:creator>gamer</dc:creator>
  <dc:description/>
  <dc:language>en-US</dc:language>
  <cp:lastModifiedBy>gamer</cp:lastModifiedBy>
  <dcterms:modified xsi:type="dcterms:W3CDTF">2008-02-13T15:38:59Z</dcterms:modified>
  <cp:revision>4</cp:revision>
  <dc:subject/>
  <dc:title>Слайд 1</dc:title>
</cp:coreProperties>
</file>