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332-2EB4-4D1B-A7BD-07FF6029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305-E725-405D-8441-1727514F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B885-1004-420A-8927-8138CF70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D7F-FE54-46EB-845E-C686E754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055-5450-4352-A9EC-CA7B3BA5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AA5-0005-4652-95C7-3EDC6B78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AA7-F874-43BD-ADD9-1C1137FE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528-577D-4DAE-9AAD-FBE048ED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52D-8A45-4C0F-A985-19AA8162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B5C-2415-4663-98E8-40B5D423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06F-DE35-4E07-914E-F10C270A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B36-55D6-41A9-8122-335D3507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219C-D54F-477F-9C41-53289A0CA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3141720"/>
            <a:ext cx="2065320" cy="287820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2879640" cy="21668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1925640" cy="287964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1187280" y="1052640"/>
            <a:ext cx="6985080" cy="259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23236b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 МИРЕ ПТИЦ</a:t>
            </a:r>
            <a:endParaRPr b="0" lang="en-US" sz="1800" spc="1" strike="noStrike">
              <a:ln w="19080">
                <a:solidFill>
                  <a:srgbClr val="23236b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Группа 7"/>
          <p:cNvGrpSpPr/>
          <p:nvPr/>
        </p:nvGrpSpPr>
        <p:grpSpPr>
          <a:xfrm>
            <a:off x="0" y="-3240"/>
            <a:ext cx="9148680" cy="6861240"/>
            <a:chOff x="0" y="-3240"/>
            <a:chExt cx="9148680" cy="6861240"/>
          </a:xfrm>
        </p:grpSpPr>
        <p:pic>
          <p:nvPicPr>
            <p:cNvPr id="100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868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WordArt 5"/>
            <p:cNvSpPr txBox="1"/>
            <p:nvPr/>
          </p:nvSpPr>
          <p:spPr>
            <a:xfrm>
              <a:off x="357120" y="4786200"/>
              <a:ext cx="8287200" cy="16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Хорошего вам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астроения!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1320840" cy="146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24360" y="2637000"/>
            <a:ext cx="1320840" cy="146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95280" y="2565360"/>
            <a:ext cx="1320840" cy="147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524720" y="549360"/>
            <a:ext cx="1320840" cy="146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rcRect l="10976" t="4971" r="23171" b="0"/>
          <a:stretch/>
        </p:blipFill>
        <p:spPr>
          <a:xfrm>
            <a:off x="324000" y="549360"/>
            <a:ext cx="1296720" cy="139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rcRect l="0" t="4930" r="7317" b="0"/>
          <a:stretch/>
        </p:blipFill>
        <p:spPr>
          <a:xfrm>
            <a:off x="2050920" y="477720"/>
            <a:ext cx="128916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050920" y="4653000"/>
            <a:ext cx="1968480" cy="1469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4356000" y="4653000"/>
            <a:ext cx="1320840" cy="146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6012000" y="4653000"/>
            <a:ext cx="1320840" cy="146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1916280"/>
            <a:ext cx="144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ихвос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191628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708360" y="476280"/>
            <a:ext cx="1320840" cy="146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08360" y="191628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ят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198900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лё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407664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ухол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5292720" y="549360"/>
            <a:ext cx="1943280" cy="145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92720" y="1989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в о л г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00536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ролё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2"/>
          <a:srcRect l="25983" t="0" r="22086" b="21263"/>
          <a:stretch/>
        </p:blipFill>
        <p:spPr>
          <a:xfrm>
            <a:off x="2195640" y="2637000"/>
            <a:ext cx="1292040" cy="1469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95640" y="4076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ку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407664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ря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7451640" y="2637000"/>
            <a:ext cx="1320840" cy="146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451640" y="407664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ищ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395280" y="4653000"/>
            <a:ext cx="1320840" cy="146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609300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полз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6093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 я б ч и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6093000"/>
            <a:ext cx="143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вирис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609300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rcRect l="-6038" t="0" r="-10946" b="0"/>
          <a:stretch/>
        </p:blipFill>
        <p:spPr>
          <a:xfrm>
            <a:off x="7667640" y="4653000"/>
            <a:ext cx="1152360" cy="1487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96360" y="609300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лов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50720" y="1566360"/>
            <a:ext cx="6602760" cy="447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а                          Э. Успенский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ядя Фёдор, пёс и к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рон                        Г. Остер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Зарядка для хвос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ёнок                       С. Лагерлёф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удесное путеше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льса с дикими гусям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ица                       А. С. Пушки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казка о золотом петушк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гай                     Х. К. Андерсе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нежная королев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алчонок                   А. Мил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ни-Пух и все-все-вс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тушок                     Х. К. Андерсе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юймовочк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бедь                       К. Чуковский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араканищ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робей                     Х. К. Андерсе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икие лебед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усь                             Х. К. Андерсен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адкий утёно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асточка                    В.Ф. Одоевский «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ёрная куриц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6560" y="476280"/>
            <a:ext cx="55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тур. «Сказочные птиц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360" y="333360"/>
            <a:ext cx="66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тур «Знакомые незнакомц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799308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653000"/>
            <a:ext cx="7561080" cy="137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- ласточка; 2 - гусь; 3 - голубь; 4 - стриж; 5 - сорока; 6 - журавль; 7 - цапля; 8 - ворона; 9 - ско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98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тур.  «Отгадайте кто же 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4984920" cy="3621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5640" y="5084640"/>
            <a:ext cx="799164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- куропатка; 2 - свиристель; 3 - глухарь; 4 - снегирь; 5 - кедровка; 6 - синица; 7 - тетерев; 8 - дятел. Куропатка, глухарь, тетерев - ночуют в сне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697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тур. «Птичьи 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189840" cy="36306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50920" y="5229360"/>
            <a:ext cx="8713800" cy="1313640"/>
            <a:chOff x="250920" y="5229360"/>
            <a:chExt cx="8713800" cy="1313640"/>
          </a:xfrm>
        </p:grpSpPr>
        <p:sp>
          <p:nvSpPr>
            <p:cNvPr id="86" name=""/>
            <p:cNvSpPr/>
            <p:nvPr/>
          </p:nvSpPr>
          <p:spPr>
            <a:xfrm>
              <a:off x="250920" y="5229360"/>
              <a:ext cx="4572000" cy="131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тветы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Соловей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ернатый солис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 Ласточка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 - строител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 Поползень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-акробат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88000" y="5229360"/>
              <a:ext cx="4176720" cy="1313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. Дятел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-плотник.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. Голубь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-почтальо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. Скопа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птица-рыболов.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7. Сова - </a:t>
              </a:r>
              <a:r>
                <a:rPr b="1" i="1" lang="en-US" sz="2000" spc="-1" strike="noStrike">
                  <a:solidFill>
                    <a:srgbClr val="23236b"/>
                  </a:solidFill>
                  <a:latin typeface="Arial"/>
                </a:rPr>
                <a:t>ночной хищник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5688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тур. «Птичьи ста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187280" y="1484280"/>
            <a:ext cx="6769080" cy="3840120"/>
            <a:chOff x="1187280" y="1484280"/>
            <a:chExt cx="6769080" cy="384012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72429" t="27722" r="3407" b="38420"/>
            <a:stretch/>
          </p:blipFill>
          <p:spPr>
            <a:xfrm>
              <a:off x="6334920" y="1484280"/>
              <a:ext cx="1604880" cy="147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7268" t="29570" r="65039" b="36211"/>
            <a:stretch/>
          </p:blipFill>
          <p:spPr>
            <a:xfrm>
              <a:off x="1187280" y="1484280"/>
              <a:ext cx="1595160" cy="17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11208" t="63731" r="61116" b="4360"/>
            <a:stretch/>
          </p:blipFill>
          <p:spPr>
            <a:xfrm>
              <a:off x="1187280" y="3568320"/>
              <a:ext cx="1595160" cy="16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75155" t="62070" r="2437" b="7811"/>
            <a:stretch/>
          </p:blipFill>
          <p:spPr>
            <a:xfrm>
              <a:off x="6656400" y="3799800"/>
              <a:ext cx="1299960" cy="152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3564000" y="1484280"/>
            <a:ext cx="22320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с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р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ученная ст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589720"/>
            <a:ext cx="7920000" cy="92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 -фронт; 2 - косяк; 3 - скученная стая; 4 - к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23640" y="274320"/>
            <a:ext cx="54723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тур.  «Птичьи  тре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7040" y="1674000"/>
            <a:ext cx="525708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-кар!                                            со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к-чирик, чив-чив                       куку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-ча-ча!                                         снеги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лы-курлы!                        свирис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ири-свир!                                       клё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ок-цэк, цок-цэк!                            с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-ку!                                             во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юм-рюм-рюм!                            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ь-синь-синь!                            в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12080" y="1241640"/>
            <a:ext cx="6104520" cy="4300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ы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рона - Кар-кар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робей - Чик-чирик, чив-чив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рока -  Ча-ча-ч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журавль -  Курлы-курлы!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иристель - Свири-свир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ёст -  Цок-цэк, цок-цэк!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кушка - Ку-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негирь - Рюм-рюм-рю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иница -  Синь-синь-син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5:58:14Z</dcterms:created>
  <dc:creator>Елена </dc:creator>
  <dc:description/>
  <dc:language>en-US</dc:language>
  <cp:lastModifiedBy>Елена </cp:lastModifiedBy>
  <dcterms:modified xsi:type="dcterms:W3CDTF">2010-04-21T20:49:34Z</dcterms:modified>
  <cp:revision>6</cp:revision>
  <dc:subject/>
  <dc:title>Слайд 1</dc:title>
</cp:coreProperties>
</file>