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EDDCE-6DD0-432A-9A8B-A42BB5566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F71FB-DCF0-486F-B514-589D4E5CB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332AF-EF0D-49ED-9EC4-CECC0175E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DE8BF-A76E-4769-BC9D-9E401755A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E9B8E-87E6-417E-8EC1-3CFA9705E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4E2D5-DD47-4E5E-8125-8BFF31446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A3B76-69AE-44CE-9837-32EE12515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CB451-E0EB-45DB-AB3A-7ADB4C393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7E12F-1D96-49FF-AAB1-8055DE355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E04E2-AE5E-4BF6-BCF9-3AE9447A0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8817F-9158-4D64-B207-2A0ACD8D9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7F63C-E173-4C19-BBFB-52A9ADD72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930FE-117F-4369-B293-0E5756E4D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FC831-34C0-4B1A-AA33-60049134F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ACBF9-6F30-4AFC-AA85-25E3079D4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50E02-4CCA-48C4-9EEF-B4F91C710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68CFE-9724-4D86-B33A-071C2F0EE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E2F7F-4503-47BF-8AF3-4C649EB91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BE6BD-821E-4D10-A430-B4C5DB352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1B55A-E5C9-4772-915E-F52953A1D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13A98-4641-46E3-8FF8-53E6CBADD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61E6B-EEF8-4E03-8781-75BBEE959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93149-5B0C-40E1-AA2D-B18AA7065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27C4A-A899-41C4-A42F-1143C6C83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71713-DFFF-4214-8241-340A725BEB2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D42E1-2CDD-45E8-85CC-515F4291788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file:///&#1058;&#1072;&#1073;&#1083;&#1080;&#1094;&#1072;%202.doc" TargetMode="External"/><Relationship Id="rId2" Type="http://schemas.openxmlformats.org/officeDocument/2006/relationships/hyperlink" Target="file:///&#1058;&#1072;&#1073;&#1083;&#1080;&#1094;&#1072;%203.doc" TargetMode="External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5ka.ru/43/8925/1.html" TargetMode="External"/><Relationship Id="rId2" Type="http://schemas.openxmlformats.org/officeDocument/2006/relationships/hyperlink" Target="http://www.5ka.ru/43/8925/1.html" TargetMode="External"/><Relationship Id="rId3" Type="http://schemas.openxmlformats.org/officeDocument/2006/relationships/hyperlink" Target="http://revolution.allbest.ru/literature/00003744_0.html" TargetMode="External"/><Relationship Id="rId4" Type="http://schemas.openxmlformats.org/officeDocument/2006/relationships/hyperlink" Target="http://revolution.allbest.ru/literature/00003744_0.html" TargetMode="External"/><Relationship Id="rId5" Type="http://schemas.openxmlformats.org/officeDocument/2006/relationships/hyperlink" Target="http://revolution.allbest.ru/literature/00003744_0.html" TargetMode="External"/><Relationship Id="rId6" Type="http://schemas.openxmlformats.org/officeDocument/2006/relationships/hyperlink" Target="http://revolution.allbest.ru/literature/00003744_0.html" TargetMode="External"/><Relationship Id="rId7" Type="http://schemas.openxmlformats.org/officeDocument/2006/relationships/hyperlink" Target="http://otherreferats.allbest.ru/literature/00002478_0.html" TargetMode="External"/><Relationship Id="rId8" Type="http://schemas.openxmlformats.org/officeDocument/2006/relationships/hyperlink" Target="http://otherreferats.allbest.ru/literature/00002478_0.html" TargetMode="External"/><Relationship Id="rId9" Type="http://schemas.openxmlformats.org/officeDocument/2006/relationships/hyperlink" Target="http://otherreferats.allbest.ru/literature/00002478_0.html" TargetMode="External"/><Relationship Id="rId10" Type="http://schemas.openxmlformats.org/officeDocument/2006/relationships/hyperlink" Target="http://otherreferats.allbest.ru/literature/00002478_0.html" TargetMode="External"/><Relationship Id="rId11" Type="http://schemas.openxmlformats.org/officeDocument/2006/relationships/hyperlink" Target="http://otherreferats.allbest.ru/literature/00002478_0.html" TargetMode="External"/><Relationship Id="rId1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400" y="1143000"/>
            <a:ext cx="6546960" cy="20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33"/>
                </a:solidFill>
                <a:latin typeface="Times New Roman"/>
              </a:rPr>
              <a:t>Евгений Онегин –образ «лишнего» человек в романе Пушкина «Евгений Онегин» </a:t>
            </a: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дготовили учащиеся 9 класса «б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ОУ «СОШ № 2г. Нариманов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узнецова М., Пастухова Н.,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допригора О., Ядрина 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imgb" descr=""/>
          <p:cNvPicPr/>
          <p:nvPr/>
        </p:nvPicPr>
        <p:blipFill>
          <a:blip r:embed="rId1"/>
          <a:stretch/>
        </p:blipFill>
        <p:spPr>
          <a:xfrm>
            <a:off x="179280" y="3716280"/>
            <a:ext cx="2247840" cy="2838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" dur="10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Ход исследования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отиворечия в изображении Онегин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гл. –сатирическое изображение Онегина как типичного представителя светского общества: отсутствие интереса к «учению»; В конце главы мы видим элегическое изображение Онег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то же такой Онегин? На этот вопрос нам отвечает Татьяна, которая разгадывает его по книгам, которые он читает, по его пометкам на полях и догадывается: «Уж не пародия ли он?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5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Результаты работы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0033"/>
                </a:solidFill>
                <a:uFillTx/>
                <a:latin typeface="Arial"/>
                <a:hlinkClick r:id="rId1"/>
              </a:rPr>
              <a:t>Таблица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0033"/>
                </a:solidFill>
                <a:uFillTx/>
                <a:latin typeface="Arial"/>
                <a:hlinkClick r:id="rId2"/>
              </a:rPr>
              <a:t>Таблица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755640" y="189000"/>
            <a:ext cx="1406520" cy="113976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4"/>
          <a:stretch/>
        </p:blipFill>
        <p:spPr>
          <a:xfrm>
            <a:off x="5940360" y="3860640"/>
            <a:ext cx="2160720" cy="25927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5"/>
          <a:stretch/>
        </p:blipFill>
        <p:spPr>
          <a:xfrm>
            <a:off x="1476360" y="1773360"/>
            <a:ext cx="2374920" cy="28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Результаты работы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40179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Нет, рано чувства в нём осты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Гл.1 показывает нам раздражение Онегина. Он недоволен необходимостью подчиняться тому, в чем он не видит смысла, но что приходится исполнять. Онегин соглашается на роль, которая в его собственных глазах трезво оценена как «низкое коварство», потому, что он вообще ни в чем не видит смысла и равнодушен, ко всему на свете, кроме чувства собственного достоинства и независимости, которые вдруг поколеблены поездкой к дяде. Это раздражение героя идет от того, что привычное притворство ему надоело, и от того, что Онегин честен перед собой. 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476360" y="2637000"/>
            <a:ext cx="302436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6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3" dur="1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Результаты работы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 8 главе показана эволюция героя и его отношение к Татьяне . Мы видим, что Евгений  изменился, вырос и стал рядом с Татьяной, его душевный мир открылся ценностям, наполнявшим высоким содержанием мир Татьяны, Но счастье их не- возможно, они поменялись ролями, Татьяна не видит изменений в Онегине, и он вынужден признаться себе «Как я ошибся, как наказан…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imgb" descr=""/>
          <p:cNvPicPr/>
          <p:nvPr/>
        </p:nvPicPr>
        <p:blipFill>
          <a:blip r:embed="rId1"/>
          <a:stretch/>
        </p:blipFill>
        <p:spPr>
          <a:xfrm>
            <a:off x="1619280" y="2060640"/>
            <a:ext cx="2952720" cy="36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Белинский о Евгении Онегине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«Большая часть публики совершенно отрицала в Онегине душу и сердце, видела в нем человека холодного, сухого и эгоиста по натуре. Нельзя ошибочнее и кривее понять человека!.. Светская жизнь не убила в Онегине чувства, а только охолодила к бесплодным страстям и мелочным развлечениям... Онегин не любил расплываться в мечтах, больше чувствовал, нежели говорил, и не всякому открывался. Озлобленный ум есть тоже признак высшей натуры, потому только людьми, но и самим собою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Выводы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Так кто же он? Прежде всего человек – сложный, меняющийся, противоречащий сам себе. Его разгадка – в живой человеческой неоднозначност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Онегин – лишний человек. Но это не просто человек, «как ты, да я, как целый свет», это особый человеческий тип, впервые введённый в в русской литературе, лишний человек». Исследуя образ этого героя, мы увидели одну из важных черт, на которую нам указывает автор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«С его озлобленным умом, // Кипящим в действии пустом». «Пустое действие» - это ключ для  понимания Онегин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Онегин – одарённый человек (недаром втор с ним «подружился»), один из лучших людей своего времени, не сделал ничего, кроме зла, - убил друга, принёс несчастье любящей его женщине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5216400" y="1600200"/>
            <a:ext cx="312912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8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3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3" dur="5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77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9" dur="770" fill="hold"/>
                                        <p:tgtEl>
                                          <p:spTgt spid="13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41" dur="77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43" dur="77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Выводы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ожив без цели, без труд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о двадцати шести годов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омясь в бездействии досуг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ез службы, без жены, без дел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ичем заняться не уме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этом трагическое противоречие Онегина: человек, который мог бы сделать многое, оказывается в этой жизни «лишним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imgb" descr=""/>
          <p:cNvPicPr/>
          <p:nvPr/>
        </p:nvPicPr>
        <p:blipFill>
          <a:blip r:embed="rId1"/>
          <a:stretch/>
        </p:blipFill>
        <p:spPr>
          <a:xfrm>
            <a:off x="7093080" y="4221000"/>
            <a:ext cx="1800000" cy="24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Выводы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т характер для русской литературы стал типическим. Вслед за Онегиным появились лермонтовский Печорин, тургеневский Рудин, гончаровский Обломов. Все они объединены тем, что их высокие таланты оказались «лишними» для общества – отчасти по причине их собственной слабости, отчасти же по вине обществ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аким образом, мы опровергаем гипотезу и говорим, что Онегин – не просто человек своего времени, а человек «лишний» для своего време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Литература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Эволюция главного героя в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омане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А. С. Пушкина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Евгений Онегин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proza.ru/2007/02/05-334 - 69k -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эзия и русская литература | О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омане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"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Евгений Онегин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" А.С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http://www.moe2006.com/poezi.html - 48k 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.С. Пушкин и его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оман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"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Евгений Онегин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"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otherreferats.allbest.ru/literature/00002478_0.html - 87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Литература : русская -&gt; М.Ю Лотман о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омане Евгений Онегин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5ka.ru/43/8925/1.html - 53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оман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"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Евгений Онегин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" в оценке В.Белинского и Д.Писаре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http://revolution.allbest.ru/literature/00003744_0.html - 81k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оршков А.И. Все богатство, сила и гибкость нашего языка. А.С. Пушкин в истории русского языка. – М., Просвещение, 199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«Кто он таков? Ужель Евгений? Ужели он?..»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4881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мысля гордый свет забав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ниманья дружбы возлюбя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отел бы я тебе представи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лог достойнее теб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6084720" y="4365720"/>
            <a:ext cx="2016360" cy="218916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6300720" y="1700280"/>
            <a:ext cx="1943280" cy="25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Цель работы: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сследуя главы романа, определить существует ли процесс эволюции образа главного героя в романе и , если существует, то каков её результа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imgb" descr=""/>
          <p:cNvPicPr/>
          <p:nvPr/>
        </p:nvPicPr>
        <p:blipFill>
          <a:blip r:embed="rId1"/>
          <a:stretch/>
        </p:blipFill>
        <p:spPr>
          <a:xfrm>
            <a:off x="5651640" y="3284640"/>
            <a:ext cx="3009600" cy="3573360"/>
          </a:xfrm>
          <a:prstGeom prst="rect">
            <a:avLst/>
          </a:prstGeom>
          <a:ln w="0">
            <a:noFill/>
          </a:ln>
        </p:spPr>
      </p:pic>
      <p:pic>
        <p:nvPicPr>
          <p:cNvPr id="107" name="imgb" descr=""/>
          <p:cNvPicPr/>
          <p:nvPr/>
        </p:nvPicPr>
        <p:blipFill>
          <a:blip r:embed="rId2"/>
          <a:stretch/>
        </p:blipFill>
        <p:spPr>
          <a:xfrm>
            <a:off x="684360" y="3429000"/>
            <a:ext cx="4190760" cy="31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" dur="1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Почему Евгения Онегина считают «лишним» человеком?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вгений Онегин – лишний человек, в его жизни нет никаких духовных устремлений, он не выполняет никакой очевидной общественно-полезной функции, не востребован обществом. Он эгоис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Гипотеза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вгений Онегин – никакой не «лишний», а просто человек. Представитель определённой эпохи – 1810г., определённой сословной группы – петербургского светского дворянства, определённого образа жизни, когда требовалось придумывать себе занятия и развлечения, чтобы убить всепоглощающую скук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8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План исследования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оанализировать 1и 8 главы романа «Евгения Онегина», раскрывающие эволюцию геро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оотнести содержание глав романа с событиями, происходившими в то время, когда создавался роман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ыявить круг интересов героя; выявить общее и различное в образах Онегина и автора, их отношение к творчеству, труду, чтению, сопоставить образы Онегина и Ленского, выявить черты сходства и различия в характерах Татьяны и Онегина и оформить результат  в таблица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зучить работы исследователей об образе Евгения в романе Пушкина «Евгений Онегин»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дтвердить или опровергнуть гипотез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Ход исследования: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 ходе исследования мы  изучили следующие работы литературоведов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 u="sng">
                <a:solidFill>
                  <a:srgbClr val="990033"/>
                </a:solidFill>
                <a:uFillTx/>
                <a:latin typeface="Arial"/>
                <a:hlinkClick r:id="rId1"/>
              </a:rPr>
              <a:t>5ka.ru - Литература : русская -&gt; М.Ю Лотман о </a:t>
            </a:r>
            <a:r>
              <a:rPr b="0" lang="en-US" sz="2000" spc="-1" strike="noStrike" u="sng">
                <a:solidFill>
                  <a:srgbClr val="990033"/>
                </a:solidFill>
                <a:uFillTx/>
                <a:latin typeface="Arial"/>
                <a:hlinkClick r:id="rId2"/>
              </a:rPr>
              <a:t>романе Евгений Онеги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 u="sng">
                <a:solidFill>
                  <a:srgbClr val="990033"/>
                </a:solidFill>
                <a:uFillTx/>
                <a:latin typeface="Arial"/>
                <a:hlinkClick r:id="rId3"/>
              </a:rPr>
              <a:t>Роман</a:t>
            </a:r>
            <a:r>
              <a:rPr b="0" lang="en-US" sz="2000" spc="-1" strike="noStrike" u="sng">
                <a:solidFill>
                  <a:srgbClr val="990033"/>
                </a:solidFill>
                <a:uFillTx/>
                <a:latin typeface="Arial"/>
                <a:hlinkClick r:id="rId4"/>
              </a:rPr>
              <a:t> "</a:t>
            </a:r>
            <a:r>
              <a:rPr b="0" lang="en-US" sz="2000" spc="-1" strike="noStrike" u="sng">
                <a:solidFill>
                  <a:srgbClr val="990033"/>
                </a:solidFill>
                <a:uFillTx/>
                <a:latin typeface="Arial"/>
                <a:hlinkClick r:id="rId5"/>
              </a:rPr>
              <a:t>Евгений Онегин</a:t>
            </a:r>
            <a:r>
              <a:rPr b="0" lang="en-US" sz="2000" spc="-1" strike="noStrike" u="sng">
                <a:solidFill>
                  <a:srgbClr val="990033"/>
                </a:solidFill>
                <a:uFillTx/>
                <a:latin typeface="Arial"/>
                <a:hlinkClick r:id="rId6"/>
              </a:rPr>
              <a:t>" в оценке В.Белинского и Д.Писарева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А.</a:t>
            </a:r>
            <a:r>
              <a:rPr b="0" lang="en-US" sz="2000" spc="-1" strike="noStrike" u="sng">
                <a:solidFill>
                  <a:srgbClr val="990033"/>
                </a:solidFill>
                <a:uFillTx/>
                <a:latin typeface="Arial"/>
                <a:hlinkClick r:id="rId7"/>
              </a:rPr>
              <a:t>С. Пушкин и его </a:t>
            </a:r>
            <a:r>
              <a:rPr b="0" lang="en-US" sz="2000" spc="-1" strike="noStrike" u="sng">
                <a:solidFill>
                  <a:srgbClr val="990033"/>
                </a:solidFill>
                <a:uFillTx/>
                <a:latin typeface="Arial"/>
                <a:hlinkClick r:id="rId8"/>
              </a:rPr>
              <a:t>роман</a:t>
            </a:r>
            <a:r>
              <a:rPr b="0" lang="en-US" sz="2000" spc="-1" strike="noStrike" u="sng">
                <a:solidFill>
                  <a:srgbClr val="990033"/>
                </a:solidFill>
                <a:uFillTx/>
                <a:latin typeface="Arial"/>
                <a:hlinkClick r:id="rId9"/>
              </a:rPr>
              <a:t> "</a:t>
            </a:r>
            <a:r>
              <a:rPr b="0" lang="en-US" sz="2000" spc="-1" strike="noStrike" u="sng">
                <a:solidFill>
                  <a:srgbClr val="990033"/>
                </a:solidFill>
                <a:uFillTx/>
                <a:latin typeface="Arial"/>
                <a:hlinkClick r:id="rId10"/>
              </a:rPr>
              <a:t>Евгений Онегин</a:t>
            </a:r>
            <a:r>
              <a:rPr b="0" lang="en-US" sz="2000" spc="-1" strike="noStrike" u="sng">
                <a:solidFill>
                  <a:srgbClr val="990033"/>
                </a:solidFill>
                <a:uFillTx/>
                <a:latin typeface="Arial"/>
                <a:hlinkClick r:id="rId11"/>
              </a:rPr>
              <a:t>"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Горшков А.И. Все богатство, сила и гибкость нашего языка. А.С. Пушкин в истории русского языка. – М., Просвещение, 199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опрос - кто ты «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Евгений Онеги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»? остаётся актуальным и доныне с момента своего рожд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1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0" fill="hold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0" fill="hold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Ход исследования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ля анализа мы выбрали 1 и 8 главы романа, раскрывающие эволюцию образа геро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ыявили общее и различное в образах Онегина и автора, их отношение к творчеству, труду, чтению, сопоставили образы Онегина и Ленского, выявили черты сходства и различия в характерах Татьяны и Онегина и оформили это в таблиц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езультаты рабо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абли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Ход исследования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анализировав главы романа, мы увидели, что Евгений Онегин – меняющийся герой. Он меняется от главы к главе, при том внутри одной главы авторская точка зрения на Онегина тоже меняется. Основной принцип в изображении меняющегося героя – принцип «противоречия». В 1 главе мы проанализировали сцену в театре и увидели, что Онегин – духовный инвалид. Его не интересует сцена, а лишь он сам, поэтому ему скучно: «входит, идёт меж кресел по ногам, двойной лорнет, скосясь, наводит на ложи незнакомых дам…», едва взглянув на сцену «в большом рассеянье», уже «отворотился - и зевнул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каждом его движении сквозит одновременно и самолюбование, и презрение к окружающим его, таким же, как он сам, людя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4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4T04:54:45Z</dcterms:created>
  <dc:creator>Customer</dc:creator>
  <dc:description/>
  <dc:language>en-US</dc:language>
  <cp:lastModifiedBy>Галина Николаевна</cp:lastModifiedBy>
  <dcterms:modified xsi:type="dcterms:W3CDTF">2010-01-27T14:20:10Z</dcterms:modified>
  <cp:revision>13</cp:revision>
  <dc:subject/>
  <dc:title>Евгений Онегин –образ лишнего человек в романе Пушкина «Евгений Онегин»</dc:title>
</cp:coreProperties>
</file>