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5E6-A30B-4E02-8144-6D7EEA18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B59-AEBA-4E82-BE29-5F3175F9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3F6-8CE1-4BCA-B417-4E5A7F34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DB7-6DD2-48DC-9195-4F920B96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7662-B9DA-43AB-93C2-3E706BD2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5A90-BC91-477F-8D2D-CB8CBAC6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3097-9564-4996-A7AF-91E45572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EBD9-0FCE-46F7-9569-6A1E3AA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C69A-4C8C-4C94-83A0-51269E6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03CD-A6FA-4D02-99D2-4EFD1A8B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9DE2-99D8-457C-95D5-52ACB6A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3FA-1905-4A26-B400-5F9890F6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D0BE-5559-4406-8612-1F569AE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3A31-DAEA-4F28-B349-5A9A7E2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8170-28DC-44B9-8A42-04E1EFB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61D4-9BCB-40A1-A60F-435B82C3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110-0DDE-4A54-8A02-C011E086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283-1109-4FC4-BDB0-0A631764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026-6B80-4F3F-A760-3119A5D0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0BA-F418-4B00-87FD-F936E93C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EF1-0018-45C6-BFFA-72D77B08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90B-E89E-4C70-BA01-B6BD135C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591-AE5E-444C-8961-EE0B9A1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9F0-655A-4F1E-9410-4D5998CF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CF5-0ACA-4AE0-88E5-2D12B89050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F277-CD3C-4D11-9C66-242100F716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8;&#1072;&#1073;&#1083;&#1080;&#1094;&#1072;%202.doc" TargetMode="External"/><Relationship Id="rId2" Type="http://schemas.openxmlformats.org/officeDocument/2006/relationships/hyperlink" Target="file:///&#1058;&#1072;&#1073;&#1083;&#1080;&#1094;&#1072;%203.doc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5ka.ru/43/8925/1.html" TargetMode="External"/><Relationship Id="rId2" Type="http://schemas.openxmlformats.org/officeDocument/2006/relationships/hyperlink" Target="http://www.5ka.ru/43/8925/1.html" TargetMode="External"/><Relationship Id="rId3" Type="http://schemas.openxmlformats.org/officeDocument/2006/relationships/hyperlink" Target="http://revolution.allbest.ru/literature/00003744_0.html" TargetMode="External"/><Relationship Id="rId4" Type="http://schemas.openxmlformats.org/officeDocument/2006/relationships/hyperlink" Target="http://revolution.allbest.ru/literature/00003744_0.html" TargetMode="External"/><Relationship Id="rId5" Type="http://schemas.openxmlformats.org/officeDocument/2006/relationships/hyperlink" Target="http://revolution.allbest.ru/literature/00003744_0.html" TargetMode="External"/><Relationship Id="rId6" Type="http://schemas.openxmlformats.org/officeDocument/2006/relationships/hyperlink" Target="http://revolution.allbest.ru/literature/00003744_0.html" TargetMode="External"/><Relationship Id="rId7" Type="http://schemas.openxmlformats.org/officeDocument/2006/relationships/hyperlink" Target="http://otherreferats.allbest.ru/literature/00002478_0.html" TargetMode="External"/><Relationship Id="rId8" Type="http://schemas.openxmlformats.org/officeDocument/2006/relationships/hyperlink" Target="http://otherreferats.allbest.ru/literature/00002478_0.html" TargetMode="External"/><Relationship Id="rId9" Type="http://schemas.openxmlformats.org/officeDocument/2006/relationships/hyperlink" Target="http://otherreferats.allbest.ru/literature/00002478_0.html" TargetMode="External"/><Relationship Id="rId10" Type="http://schemas.openxmlformats.org/officeDocument/2006/relationships/hyperlink" Target="http://otherreferats.allbest.ru/literature/00002478_0.html" TargetMode="External"/><Relationship Id="rId11" Type="http://schemas.openxmlformats.org/officeDocument/2006/relationships/hyperlink" Target="http://otherreferats.allbest.ru/literature/00002478_0.html" TargetMode="Externa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5469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Евгений Онегин –образ «лишнего» человек в романе Пушкина «Евгений Онегин»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и учащиеся 9 класса «б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ОШ № 2г. Нариман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знецова М., Пастухова Н.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пригора О., Ядрина 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gb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2478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речия в изображении Онег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гл. –сатирическое изображение Онегина как типичного представителя светского общества: отсутствие интереса к «учению»; В конце главы мы видим элегическое изображение Оне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же такой Онегин? На этот вопрос нам отвечает Татьяна, которая разгадывает его по книгам, которые он читает, по его пометкам на полях и догадывается: «Уж не пародия ли он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Таблиц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Таблиц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160720" cy="259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476360" y="1773360"/>
            <a:ext cx="237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т, рано чувства в нём ост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.1 показывает нам раздражение Онегина. Он недоволен необходимостью подчиняться тому, в чем он не видит смысла, но что приходится исполнять. Онегин соглашается на роль, которая в его собственных глазах трезво оценена как «низкое коварство», потому, что он вообще ни в чем не видит смысла и равнодушен, ко всему на свете, кроме чувства собственного достоинства и независимости, которые вдруг поколеблены поездкой к дяде. Это раздражение героя идет от того, что привычное притворство ему надоело, и от того, что Онегин честен перед собой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302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8 главе показана эволюция героя и его отношение к Татьяне . Мы видим, что Евгений  изменился, вырос и стал рядом с Татьяной, его душевный мир открылся ценностям, наполнявшим высоким содержанием мир Татьяны, Но счастье их не- возможно, они поменялись ролями, Татьяна не видит изменений в Онегине, и он вынужден признаться себе «Как я ошибся, как наказан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gb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295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елинский о Евгении Онегин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Большая часть публики совершенно отрицала в Онегине душу и сердце, видела в нем человека холодного, сухого и эгоиста по натуре. Нельзя ошибочнее и кривее понять человека!.. Светская жизнь не убила в Онегине чувства, а только охолодила к бесплодным страстям и мелочным развлечениям... Онегин не любил расплываться в мечтах, больше чувствовал, нежели говорил, и не всякому открывался. Озлобленный ум есть тоже признак высшей натуры, потому только людьми, но и самим собою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кто же он? Прежде всего человек – сложный, меняющийся, противоречащий сам себе. Его разгадка – в живой человеческой неоднозна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егин – лишний человек. Но это не просто человек, «как ты, да я, как целый свет», это особый человеческий тип, впервые введённый в в русской литературе, лишний человек». Исследуя образ этого героя, мы увидели одну из важных черт, на которую нам указывает авто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С его озлобленным умом, // Кипящим в действии пустом». «Пустое действие» - это ключ для  понимания Оне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егин – одарённый человек (недаром втор с ним «подружился»), один из лучших людей своего времени, не сделал ничего, кроме зла, - убил друга, принёс несчастье любящей его женщин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6400" y="1600200"/>
            <a:ext cx="3129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жив без цели, без тр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двадцати шести год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мясь в бездействии досу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 службы, без жены, без 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м заняться не ум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трагическое противоречие Онегина: человек, который мог бы сделать многое, оказывается в этой жизни «лишн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gb" descr=""/>
          <p:cNvPicPr/>
          <p:nvPr/>
        </p:nvPicPr>
        <p:blipFill>
          <a:blip r:embed="rId1"/>
          <a:stretch/>
        </p:blipFill>
        <p:spPr>
          <a:xfrm>
            <a:off x="7093080" y="4221000"/>
            <a:ext cx="180000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характер для русской литературы стал типическим. Вслед за Онегиным появились лермонтовский Печорин, тургеневский Рудин, гончаровский Обломов. Все они объединены тем, что их высокие таланты оказались «лишними» для общества – отчасти по причине их собственной слабости, отчасти же по вине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ы опровергаем гипотезу и говорим, что Онегин – не просто человек своего времени, а человек «лишний» для сво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волюция главного героя 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. С. Пушки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za.ru/2007/02/05-334 - 69k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зия и русская литература | 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 А.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moe2006.com/poezi.html - 48k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С. Пушкин и е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otherreferats.allbest.ru/literature/00002478_0.html - 87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 : русская -&gt; М.Ю Лотман 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е 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5ka.ru/43/8925/1.html - 53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 в оценке В.Белинского и Д.Писа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evolution.allbest.ru/literature/00003744_0.html - 81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шков А.И. Все богатство, сила и гибкость нашего языка. А.С. Пушкин в истории русского языка. – М., Просвещение,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Кто он таков? Ужель Евгений? Ужели он?..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88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ысля гордый свет заб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нья дружбы возлюб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ел бы я тебе предста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ог достойнее т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01636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19432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 работ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уя главы романа, определить существует ли процесс эволюции образа главного героя в романе и , если существует, то каков её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b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009600" cy="3573360"/>
          </a:xfrm>
          <a:prstGeom prst="rect">
            <a:avLst/>
          </a:prstGeom>
          <a:ln w="0">
            <a:noFill/>
          </a:ln>
        </p:spPr>
      </p:pic>
      <p:pic>
        <p:nvPicPr>
          <p:cNvPr id="107" name="imgb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41907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чему Евгения Онегина считают «лишним» человеком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вгений Онегин – лишний человек, в его жизни нет никаких духовных устремлений, он не выполняет никакой очевидной общественно-полезной функции, не востребован обществом. Он эго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ипотез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вгений Онегин – никакой не «лишний», а просто человек. Представитель определённой эпохи – 1810г., определённой сословной группы – петербургского светского дворянства, определённого образа жизни, когда требовалось придумывать себе занятия и развлечения, чтобы убить всепоглощающую ск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лан исслед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1и 8 главы романа «Евгения Онегина», раскрывающие эволюцию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отнести содержание глав романа с событиями, происходившими в то время, когда создавался ром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круг интересов героя; выявить общее и различное в образах Онегина и автора, их отношение к творчеству, труду, чтению, сопоставить образы Онегина и Ленского, выявить черты сходства и различия в характерах Татьяны и Онегина и оформить результат  в таблиц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ить работы исследователей об образе Евгения в романе Пушкина «Евгений Онегин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твердить или опровергнуть гипот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ходе исследования мы  изучили следующие работы литературовед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5ka.ru - Литература : русская -&gt; М.Ю Лотман о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романе Евгений Оне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Рома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 "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Евгений Онеги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" в оценке В.Белинского и Д.Писаре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С. Пушкин и его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рома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 "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Евгений Онеги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"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шков А.И. Все богатство, сила и гибкость нашего языка. А.С. Пушкин в истории русского языка. – М., Просвещение,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 - кто ты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? остаётся актуальным и доныне с момента своего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анализа мы выбрали 1 и 8 главы романа, раскрывающие эволюцию образа ге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ли общее и различное в образах Онегина и автора, их отношение к творчеству, труду, чтению, сопоставили образы Онегина и Ленского, выявили черты сходства и различия в характерах Татьяны и Онегина и оформили это в таб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овав главы романа, мы увидели, что Евгений Онегин – меняющийся герой. Он меняется от главы к главе, при том внутри одной главы авторская точка зрения на Онегина тоже меняется. Основной принцип в изображении меняющегося героя – принцип «противоречия». В 1 главе мы проанализировали сцену в театре и увидели, что Онегин – духовный инвалид. Его не интересует сцена, а лишь он сам, поэтому ему скучно: «входит, идёт меж кресел по ногам, двойной лорнет, скосясь, наводит на ложи незнакомых дам…», едва взглянув на сцену «в большом рассеянье», уже «отворотился - и зевну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его движении сквозит одновременно и самолюбование, и презрение к окружающим его, таким же, как он сам,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4:54:45Z</dcterms:created>
  <dc:creator>Customer</dc:creator>
  <dc:description/>
  <dc:language>en-US</dc:language>
  <cp:lastModifiedBy>Галина Николаевна</cp:lastModifiedBy>
  <dcterms:modified xsi:type="dcterms:W3CDTF">2010-01-27T14:20:10Z</dcterms:modified>
  <cp:revision>13</cp:revision>
  <dc:subject/>
  <dc:title>Евгений Онегин –образ лишнего человек в романе Пушкина «Евгений Онегин»</dc:title>
</cp:coreProperties>
</file>