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2.png" ContentType="image/png"/>
  <Override PartName="/ppt/media/image7.wmf" ContentType="image/x-wmf"/>
  <Override PartName="/ppt/media/image9.gif" ContentType="image/gif"/>
  <Override PartName="/ppt/media/image18.png" ContentType="image/png"/>
  <Override PartName="/ppt/media/image17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14.jpeg" ContentType="image/jpeg"/>
  <Override PartName="/ppt/media/image8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D4D4-F27F-43CA-ACDC-67D71605E4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7E65-3017-4BB9-8DC9-3323AE8B9A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6312-9AB3-413A-B35C-04F52970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30C1-D20C-48BC-BF78-FD327AB1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D99B-ED70-4A87-81BA-DE5C8A8B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9E83-9766-447C-BD31-A874EF82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3D44-0411-42A3-9502-74251369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2B6E-981E-4E75-955A-04FEBEE0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CBE9-F2B1-4541-9507-ABA6629A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53E9-6C38-451C-B4E0-335AF2B2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A4A9-5D7E-4CA6-8295-9841D645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E060-55D4-4E08-AE6E-0CB80932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18AE-15C1-4F49-B4E5-C6BB2436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3A85-5AB8-4451-AD69-6C117DE1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3128-3487-42F7-B494-B3EECD0B4B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2340000" y="476280"/>
            <a:ext cx="4824360" cy="22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Georgia"/>
              </a:rPr>
              <a:t>Ключевые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Georgia"/>
              </a:rPr>
              <a:t>социальны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Georgia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Georgia"/>
              </a:rPr>
              <a:t>компетенции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Georgia"/>
              <a:ea typeface="Georg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571920" y="507204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вилова С.Ю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уководитель МО учителей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АОУ СОШ №88 города Тю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ff5050"/>
                </a:solidFill>
                <a:latin typeface="+mj-lt"/>
              </a:rPr>
              <a:t>Русский язык</a:t>
            </a:r>
            <a:endParaRPr b="1" i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ff5050"/>
              </a:solidFill>
              <a:latin typeface="+mj-lt"/>
              <a:ea typeface="+mj-lt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7892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класс«Предложе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 класс«Предложе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 класс.«Предложе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4 класс«Предложени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40000" y="1412640"/>
            <a:ext cx="4546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нструирование  и оформление предложения на пись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различение предложений по цели высказы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бор и  использование интонации, темпа высказывания, голоса, мимики, жестов в соответствии с конкретной ситуацией об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 конструирование предложений с прямой речью и оформление их в устной и письменной реч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умение ставить цели, осознавать свои действия и поступки, видеть ценностные смыслы в жизненных ситуациях, видеть и понимать окружающий мир, отвечать за свои решения и дей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539640" y="333360"/>
            <a:ext cx="7488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Ценностно-смыслов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pic>
        <p:nvPicPr>
          <p:cNvPr id="84" name="Picture 7" descr="Рисунок14"/>
          <p:cNvPicPr/>
          <p:nvPr/>
        </p:nvPicPr>
        <p:blipFill>
          <a:blip r:embed="rId2"/>
          <a:stretch/>
        </p:blipFill>
        <p:spPr>
          <a:xfrm>
            <a:off x="324000" y="4076640"/>
            <a:ext cx="2287440" cy="25034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000066"/>
                </a:solidFill>
                <a:latin typeface="+mj-lt"/>
              </a:rPr>
              <a:t>Окружающий мир</a:t>
            </a:r>
            <a:endParaRPr b="1" i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000066"/>
              </a:solidFill>
              <a:latin typeface="+mj-lt"/>
              <a:ea typeface="+mj-lt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класс. «Семья. Родословна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 класс. «Братья наши меньшие. Дикие и домашние животны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 класс. «Восстановление и развитие русской культу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4 класс. «Петр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- царь и челове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8320" y="134100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нание родственных связей, видение ценностей семейных взаимо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ознание бережного отношения к живо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нимание особенностей исторического развития русской культуры, осознание роли личности в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ценка деятельности выдающихся личностей в культурно-историческом процессе, умение отвечать за свои решения и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611280" y="260280"/>
            <a:ext cx="7273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Речев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4920" y="191628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сформированность умения задавать вопросы и отвечать на них, логично излагать свои мы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0" descr="tutorials"/>
          <p:cNvPicPr/>
          <p:nvPr/>
        </p:nvPicPr>
        <p:blipFill>
          <a:blip r:embed="rId2"/>
          <a:stretch/>
        </p:blipFill>
        <p:spPr>
          <a:xfrm>
            <a:off x="250920" y="4176720"/>
            <a:ext cx="3311280" cy="26812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ласс  «Текс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 класс «Текс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 класс «Текс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4 класс «Текст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08000" y="1557360"/>
            <a:ext cx="49021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мение задавать вопросы к тексту и отвечать на них, восстановление деформированного 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ставление плана к тексту, изложение содержания текста по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пределение типа и структурирование 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писание сочинений определённого ти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008000"/>
                </a:solidFill>
                <a:latin typeface="+mj-lt"/>
              </a:rPr>
              <a:t>Русский язык</a:t>
            </a:r>
            <a:endParaRPr b="1" i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008000"/>
              </a:solidFill>
              <a:latin typeface="+mj-lt"/>
              <a:ea typeface="+mj-lt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12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c3300"/>
                </a:solidFill>
                <a:latin typeface="Georgia"/>
              </a:rPr>
              <a:t>Цель:</a:t>
            </a:r>
            <a:r>
              <a:rPr b="0" lang="ru-RU" sz="5400" spc="-1" strike="noStrike">
                <a:solidFill>
                  <a:srgbClr val="cc3300"/>
                </a:solidFill>
                <a:latin typeface="Georgia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eorgia"/>
              </a:rPr>
              <a:t>формирование личности ребён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Georgia"/>
              </a:rPr>
              <a:t>готовой   к социализации в общест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Georgia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5050"/>
                </a:solidFill>
                <a:latin typeface="Georgia"/>
              </a:rPr>
              <a:t>1. Научить ученика ставить пе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ff505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Georgia"/>
              </a:rPr>
              <a:t>собой цель и организовывать её достижение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ff5050"/>
                </a:solidFill>
                <a:latin typeface="Georgia"/>
              </a:rPr>
              <a:t>2. Формировать  у ученика умение  владеть знаниями и опытом выполнения типичных социальных роле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eorgia"/>
              </a:rPr>
              <a:t>3. Формировать у ученика умение владеть способами совместной деятельности в групп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eorgia"/>
              </a:rPr>
              <a:t>4. Формировать потребность в позитивном отношении к своему здоровь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eorgia"/>
              </a:rPr>
              <a:t>5. Обучать  умениям и  навык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ff5050"/>
                </a:solidFill>
                <a:latin typeface="Georgia"/>
              </a:rPr>
              <a:t>работы с различными источниками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50920" y="2060640"/>
          <a:ext cx="8243640" cy="1736640"/>
        </p:xfrm>
        <a:graphic>
          <a:graphicData uri="http://schemas.openxmlformats.org/drawingml/2006/table">
            <a:tbl>
              <a:tblPr/>
              <a:tblGrid>
                <a:gridCol w="8243640"/>
              </a:tblGrid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</a:t>
                      </a: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Monotype Corsiva"/>
                        </a:rPr>
                        <a:t>поисковая активность учащихся в любом виде деятельности  (учебной, общественной, игровой, творческой и др.)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Monotype Corsiv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WordArt 33"/>
          <p:cNvSpPr txBox="1"/>
          <p:nvPr/>
        </p:nvSpPr>
        <p:spPr>
          <a:xfrm>
            <a:off x="395280" y="404640"/>
            <a:ext cx="8353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Исследовательс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pic>
        <p:nvPicPr>
          <p:cNvPr id="56" name="Picture 42" descr="41"/>
          <p:cNvPicPr/>
          <p:nvPr/>
        </p:nvPicPr>
        <p:blipFill>
          <a:blip r:embed="rId2"/>
          <a:stretch/>
        </p:blipFill>
        <p:spPr>
          <a:xfrm>
            <a:off x="3635280" y="393372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4"/>
          <p:cNvGraphicFramePr/>
          <p:nvPr/>
        </p:nvGraphicFramePr>
        <p:xfrm>
          <a:off x="0" y="4680"/>
          <a:ext cx="914400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 класс «Чтение математических рассказов и подбор к ним действ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 класс. «Разбиение текста задачи на условие и вопрос. Смысл этих поняти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3 класс«Решение составных задач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4 класс«Решение задач при помощи уравнений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0360" y="1916280"/>
            <a:ext cx="40384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сравнение  математических  и литературных рассказов,  подбор к ним действ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различение составных частей задачи: условие, вопрос, нахождение способа решения зада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подбор краткой записи в зависимости от вида зада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нахождение рационального способа решения зада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6"/>
          <p:cNvSpPr txBox="1"/>
          <p:nvPr/>
        </p:nvSpPr>
        <p:spPr>
          <a:xfrm>
            <a:off x="179280" y="189000"/>
            <a:ext cx="7848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Математика </a:t>
            </a:r>
            <a:endParaRPr b="1" i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63" name="Rectangle 33"/>
          <p:cNvSpPr/>
          <p:nvPr/>
        </p:nvSpPr>
        <p:spPr>
          <a:xfrm>
            <a:off x="684360" y="118188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Класс, те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4"/>
          <p:cNvSpPr/>
          <p:nvPr/>
        </p:nvSpPr>
        <p:spPr>
          <a:xfrm>
            <a:off x="4211280" y="1124640"/>
            <a:ext cx="369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Практическое прояв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социальных компетенций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7"/>
          <p:cNvSpPr txBox="1"/>
          <p:nvPr/>
        </p:nvSpPr>
        <p:spPr>
          <a:xfrm>
            <a:off x="395280" y="404640"/>
            <a:ext cx="8353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Общекультур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-872640" y="1698840"/>
            <a:ext cx="1094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ответственнос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за нравственно-ценностны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выбор средств в достижении целе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j0343343"/>
          <p:cNvPicPr/>
          <p:nvPr/>
        </p:nvPicPr>
        <p:blipFill>
          <a:blip r:embed="rId2"/>
          <a:stretch/>
        </p:blipFill>
        <p:spPr>
          <a:xfrm>
            <a:off x="3276720" y="3933720"/>
            <a:ext cx="2617560" cy="2724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179280" y="189000"/>
            <a:ext cx="799308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ff5050"/>
                </a:solidFill>
                <a:latin typeface="+mn-lt"/>
              </a:rPr>
              <a:t>Окружающий мир</a:t>
            </a:r>
            <a:endParaRPr b="1" i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ff5050"/>
              </a:solidFill>
              <a:latin typeface="+mn-lt"/>
              <a:ea typeface="+mn-lt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класс «Охрана окружающей сред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 класс «Охрана воды и воздух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 класс«Сезонные изменения в лесу. Зим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4 класс «Режим жизни челове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284720" y="1916280"/>
          <a:ext cx="4248000" cy="1066680"/>
        </p:xfrm>
        <a:graphic>
          <a:graphicData uri="http://schemas.openxmlformats.org/drawingml/2006/table">
            <a:tbl>
              <a:tblPr/>
              <a:tblGrid>
                <a:gridCol w="424800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ние компонентов окружающего ми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Rectangle 21"/>
          <p:cNvSpPr/>
          <p:nvPr/>
        </p:nvSpPr>
        <p:spPr>
          <a:xfrm>
            <a:off x="4210560" y="5291640"/>
            <a:ext cx="4725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рганизация досуга и соблю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жима дня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требность в здоро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разе жиз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3"/>
          <p:cNvSpPr/>
          <p:nvPr/>
        </p:nvSpPr>
        <p:spPr>
          <a:xfrm>
            <a:off x="4211640" y="4005360"/>
            <a:ext cx="493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знания характерных признаков сезонов года, оценивание своих поступков с точки зрения экологическо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4"/>
          <p:cNvSpPr/>
          <p:nvPr/>
        </p:nvSpPr>
        <p:spPr>
          <a:xfrm>
            <a:off x="4284720" y="2781360"/>
            <a:ext cx="4572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блюдение правил поведения и деятельности в природной среде (в лесу, на водоема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умение анализировать, обобщать, систематизировать, абстрагировать, синтезиров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Мыслитель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pic>
        <p:nvPicPr>
          <p:cNvPr id="77" name="Picture 7" descr="Рисунок8"/>
          <p:cNvPicPr/>
          <p:nvPr/>
        </p:nvPicPr>
        <p:blipFill>
          <a:blip r:embed="rId2"/>
          <a:stretch/>
        </p:blipFill>
        <p:spPr>
          <a:xfrm>
            <a:off x="4357800" y="3500280"/>
            <a:ext cx="3311280" cy="2946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03:59:33Z</dcterms:created>
  <dc:creator>Я</dc:creator>
  <dc:description/>
  <dc:language>en-US</dc:language>
  <cp:lastModifiedBy>Дом</cp:lastModifiedBy>
  <dcterms:modified xsi:type="dcterms:W3CDTF">2010-08-02T15:44:26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