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B678-1D04-45D7-AF80-CD1ED7E7D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174A-EBD9-4275-AD77-9C7CF70C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B5D8-0521-4C7A-BDE1-B98B7917A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513D-E188-4DE3-B03A-3C03DFA59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F6E0-0A2F-48B0-9714-6DC2C77E9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9658-62BA-4D12-8DBF-7E71BAEE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8F52-7ACB-474E-A52A-89ACF0BD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2904-3566-4329-84F0-F6EB89B1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9530-00A8-401A-AF0F-5D60417F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D1A1-D774-4BEA-9A3F-4EB7D0A5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DDBE-6A75-4B2E-93FE-55D2C09A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40BF-07E3-4F05-804D-8A6A2B6B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328E-2AD2-4DD8-A201-BA479C93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D226-ABDE-4C5F-86F2-DB26F65A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94F2-A32A-49F2-96F7-FC27FC90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66C4-C2C7-4FBA-922F-7EB9E5C9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C6C5-ACD8-4FC7-9E1D-C5C7F9CCA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D316-77CA-4D05-BDD2-05D08ECA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1E13-0FCC-4910-9A20-4E9AC0C9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3716-AC12-4D1A-AC5C-B4A9DCA9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D7D2-14F3-44C5-9452-3310BFCF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A778-FBF4-4E4D-A866-572F1B4B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3F54-A576-4997-AD80-25ED9485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7C18-4FC2-449C-A626-9FDBC2EB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050"/>
            </a:gs>
            <a:gs pos="50000">
              <a:srgbClr val="ffa219"/>
            </a:gs>
            <a:gs pos="100000">
              <a:srgbClr val="646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7c6f"/>
                </a:gs>
                <a:gs pos="100000">
                  <a:srgbClr val="6460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7f7c6f"/>
                </a:gs>
                <a:gs pos="100000">
                  <a:srgbClr val="6460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9421-FBEE-4908-BF57-D533021AFDE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050"/>
            </a:gs>
            <a:gs pos="50000">
              <a:srgbClr val="ffa219"/>
            </a:gs>
            <a:gs pos="100000">
              <a:srgbClr val="646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7c6f"/>
                </a:gs>
                <a:gs pos="100000">
                  <a:srgbClr val="6460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7f7c6f"/>
                </a:gs>
                <a:gs pos="100000">
                  <a:srgbClr val="6460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3B75-2AA9-4611-BA43-81121157EFD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050"/>
            </a:gs>
            <a:gs pos="50000">
              <a:srgbClr val="ffa219"/>
            </a:gs>
            <a:gs pos="100000">
              <a:srgbClr val="646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84360" y="549360"/>
            <a:ext cx="712764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каждый выбирает для себя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050"/>
            </a:gs>
            <a:gs pos="50000">
              <a:srgbClr val="ffa219"/>
            </a:gs>
            <a:gs pos="100000">
              <a:srgbClr val="646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140360" y="0"/>
            <a:ext cx="500364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619280" y="765000"/>
            <a:ext cx="2289240" cy="53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 сотвори себ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умира и всяк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добия 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 уб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 укра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ти отца сво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 матерь тво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050"/>
            </a:gs>
            <a:gs pos="50000">
              <a:srgbClr val="ffa219"/>
            </a:gs>
            <a:gs pos="100000">
              <a:srgbClr val="646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формировать умения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амостоятельного анализа художественного текст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2c86a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пределение частей композиции сюже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2c86a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ыявление основных сюжетных лин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2c86a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опоставление эпизодов, мотивов, характеров героев и их интерпретации с опорой на приобретенные теоретические свед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2c86a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пределение способов выражения идеи текс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2c86a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ыявление авторской пози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050"/>
            </a:gs>
            <a:gs pos="50000">
              <a:srgbClr val="ffa219"/>
            </a:gs>
            <a:gs pos="100000">
              <a:srgbClr val="646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23760"/>
            <a:ext cx="4716360" cy="37227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468360" y="4437000"/>
            <a:ext cx="8280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1c1c1c"/>
                  </a:solidFill>
                  <a:miter/>
                </a:ln>
                <a:solidFill>
                  <a:srgbClr val="e2c86a"/>
                </a:solidFill>
                <a:latin typeface="Arial"/>
              </a:rPr>
              <a:t>Фазиль Абдулович Искандер</a:t>
            </a:r>
            <a:endParaRPr b="0" lang="en-US" sz="1800" spc="1" strike="noStrike">
              <a:ln w="9360">
                <a:solidFill>
                  <a:srgbClr val="1c1c1c"/>
                </a:solidFill>
                <a:miter/>
              </a:ln>
              <a:solidFill>
                <a:srgbClr val="e2c86a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050"/>
            </a:gs>
            <a:gs pos="50000">
              <a:srgbClr val="ffa219"/>
            </a:gs>
            <a:gs pos="100000">
              <a:srgbClr val="646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68360" y="1341360"/>
            <a:ext cx="7630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« …судьба интеллигента», который хочет « что-то сделать для Родины в условиях остановившегося социального времени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050"/>
            </a:gs>
            <a:gs pos="50000">
              <a:srgbClr val="ffa219"/>
            </a:gs>
            <a:gs pos="100000">
              <a:srgbClr val="646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716360" y="692280"/>
            <a:ext cx="4176720" cy="4752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68360" y="1341360"/>
            <a:ext cx="3987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ердце Чика разрывалось от жалости и возмущения подлостью Керопчика. О, если бы у Чика был автомат!.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о не было у Чика никако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втомата. Он держал в ру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базарную сумку и молча смотрел вслед удаляющим- ся хулиган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050"/>
            </a:gs>
            <a:gs pos="50000">
              <a:srgbClr val="ffa219"/>
            </a:gs>
            <a:gs pos="100000">
              <a:srgbClr val="646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084560" y="0"/>
            <a:ext cx="5059440" cy="53006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9280" y="1268280"/>
            <a:ext cx="390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лихан молча смотре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след хулиганам. Губ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его безропотно шеве- лились, а в глазах тлел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400" spc="-1" strike="noStrike" u="sng">
                <a:solidFill>
                  <a:srgbClr val="333333"/>
                </a:solidFill>
                <a:uFillTx/>
                <a:latin typeface="Tahoma"/>
              </a:rPr>
              <a:t>тысячелетняя скорбь, самая  безыс -ходная в мире скорбь, ибо она никогда не переходит в яр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050"/>
            </a:gs>
            <a:gs pos="50000">
              <a:srgbClr val="ffa219"/>
            </a:gs>
            <a:gs pos="100000">
              <a:srgbClr val="646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788000" y="189000"/>
            <a:ext cx="4356000" cy="48686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39640" y="265320"/>
            <a:ext cx="3600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рослый, здоровый, в матросском костюме, медаль «За отвагу», холодные, стальные, спокойные глаза, тяжелые шаги усталого хозя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050"/>
            </a:gs>
            <a:gs pos="50000">
              <a:srgbClr val="ffa219"/>
            </a:gs>
            <a:gs pos="100000">
              <a:srgbClr val="646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50920" y="183240"/>
            <a:ext cx="8893080" cy="69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чему  Чик решается прибегнуть к возмездию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ие способы возмездия выбирает  Чик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му научило Чика наказание Керопчик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ие глаза были у Моти, Керопчик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ова разгадка взгляда Мот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ово отношение окружающих к Моте, Керопчику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ое наказание выбирает Мотя для Керопчик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каких ситуациях автор использует прием ретроспекци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чему в эпилоге рассказа автор оставляет место для Керопчика, а Мотя исчезает из города навсегд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змездие – цель или средство для Чик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050"/>
            </a:gs>
            <a:gs pos="50000">
              <a:srgbClr val="ffa219"/>
            </a:gs>
            <a:gs pos="100000">
              <a:srgbClr val="646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Чик (возмездие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196640"/>
            <a:ext cx="403848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еропч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цель возмездия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1. Тревога-жалость-возмущ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2. Способы возмезд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3. «Приступ тоски по возмездию»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«нельзя вспугивать дичь раньш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времени» (охот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4. «Что-то кольнуло» ( разгов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о брате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5. Соучаст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6. Участник грабеж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7. «Страшно жалко» его ( татуи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ровка - орел )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8. «Все неважно по сравнению 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унижением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716000" y="1268280"/>
            <a:ext cx="403884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от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(орудие возмездия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1. Ужас и восхище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2.</a:t>
            </a:r>
            <a:r>
              <a:rPr b="0" lang="ru-RU" sz="28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Хотел быть похожим ( глаза ге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роев Джека Лондона)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3. Восхищался дерзостью ограб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ления, но не хотел верить (носи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медаль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4. Процесс возмездия = процес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прозрения для Чика (почему в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время наказания не говорит за что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5. Значение глаз- презрение к лю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дя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6. Перестал ходить на спортивну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площадку.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419280" y="1052640"/>
            <a:ext cx="115236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1052640"/>
            <a:ext cx="107964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01:40:16Z</dcterms:created>
  <dc:creator>usermmc</dc:creator>
  <dc:description/>
  <dc:language>en-US</dc:language>
  <cp:lastModifiedBy>Alexandr</cp:lastModifiedBy>
  <dcterms:modified xsi:type="dcterms:W3CDTF">2010-01-02T04:57:28Z</dcterms:modified>
  <cp:revision>15</cp:revision>
  <dc:subject/>
  <dc:title>Слайд 1</dc:title>
</cp:coreProperties>
</file>