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916-33F2-42E7-A599-3BBC8568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55C-0FE4-498C-A2ED-6B5BA44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55D-9D85-4C39-A81D-7BD7C8E0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9BE-9AEE-4CBE-A783-5BDB45B4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1FA2-E000-49A7-8EBF-260F04C4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646-2B9F-4D14-B24D-1AE6FD2F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1BE0-39CC-4215-9CCE-38516CA8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7BA0-E0B6-4376-857C-975A5102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C672-9E91-4F19-ACCA-9A4CB312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FE3E-700D-4F88-A6DC-70BA3CA5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6D6E-216F-43DA-91E0-F28F34B4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BB2-5112-479D-AEC1-CAAAEF29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3B91-0EDD-4200-A51A-95C88DB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92C3-6B42-4A4E-8E0E-E641B1AC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8105-C031-430A-97DC-D01CE941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E7E-0045-4D86-910D-2A76F565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E870-0EC4-4439-B331-A26FBBEE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77D-34D5-4C3D-AD71-804D784D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BFD-2475-463C-96F0-93734EE9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40C-2228-48F9-A06F-C2A66918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8FD-0658-4DF9-87AB-F771CD21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7C5-3CBE-46BE-A67E-1394FF6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D2D-9CC2-4885-8087-1BE62383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576-F208-43B5-B8A7-350A779F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c86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9ea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b7b6a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189-46BF-4FAD-B92F-D5037ECE2FB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7f7c6f"/>
                </a:gs>
                <a:gs pos="100000">
                  <a:srgbClr val="646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050"/>
                </a:gs>
                <a:gs pos="100000">
                  <a:srgbClr val="7f7c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9B1D-1EA7-4B5E-A624-8BD98C5334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4360" y="549360"/>
            <a:ext cx="71276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аждый выбирает для себя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19280" y="765000"/>
            <a:ext cx="228924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отвори себ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умира и всяк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обия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уб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укр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и отца сво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матерь тво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формировать умения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амостоятельного анализа художественного текс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ределение частей композиции сюже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явление основных сюжетных ли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поставление эпизодов, мотивов, характеров героев и их интерпретации с опорой на приобретенные теоретические све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ределение способов выражения идеи текс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2c86a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ыявление авторской пози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4716360" cy="3722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443700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1c1c1c"/>
                  </a:solidFill>
                  <a:miter/>
                </a:ln>
                <a:solidFill>
                  <a:srgbClr val="e2c86a"/>
                </a:solidFill>
                <a:latin typeface="Arial"/>
              </a:rPr>
              <a:t>Фазиль Абдулович Искандер</a:t>
            </a:r>
            <a:endParaRPr b="0" lang="en-US" sz="1800" spc="1" strike="noStrike">
              <a:ln w="9360">
                <a:solidFill>
                  <a:srgbClr val="1c1c1c"/>
                </a:solidFill>
                <a:miter/>
              </a:ln>
              <a:solidFill>
                <a:srgbClr val="e2c86a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1341360"/>
            <a:ext cx="763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« …судьба интеллигента», который хочет « что-то сделать для Родины в условиях остановившегося социального времен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17672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1341360"/>
            <a:ext cx="3987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рдце Чика разрывалось от жалости и возмущения подлостью Керопчика. О, если бы у Чика был автомат!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 не было у Чика ника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мата. Он держал в ру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азарную сумку и молча смотрел вслед удаляющим- ся хулига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84560" y="0"/>
            <a:ext cx="5059440" cy="5300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268280"/>
            <a:ext cx="390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ихан молча смотре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след хулиганам. Г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го безропотно шеве- лились, а в глазах тле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 u="sng">
                <a:solidFill>
                  <a:srgbClr val="333333"/>
                </a:solidFill>
                <a:uFillTx/>
                <a:latin typeface="Tahoma"/>
              </a:rPr>
              <a:t>тысячелетняя скорбь, самая  безыс -ходная в мире скорбь, ибо она никогда не переходит в яр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356000" cy="486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9640" y="265320"/>
            <a:ext cx="360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ослый, здоровый, в матросском костюме, медаль «За отвагу», холодные, стальные, спокойные глаза, тяжелые шаги усталого хозя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0920" y="183240"/>
            <a:ext cx="8893080" cy="69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 Чик решается прибегнуть к возмезди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ие способы возмездия выбирает  Чик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му научило Чика наказание Кероп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ие глаза были у Моти, Кероп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ва разгадка взгляда Мо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во отношение окружающих к Моте, Керопчик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ое наказание выбирает Мотя для Кероп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ких ситуациях автор использует прием ретроспек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в эпилоге рассказа автор оставляет место для Керопчика, а Мотя исчезает из города навсегд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ездие – цель или средство для Чик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6050"/>
            </a:gs>
            <a:gs pos="50000">
              <a:srgbClr val="ffa219"/>
            </a:gs>
            <a:gs pos="100000">
              <a:srgbClr val="646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ик (возмездие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еропч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цель возмезди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1. Тревога-жалость-возмущ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2. Способы возмезд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3. «Приступ тоски по возмездию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«нельзя вспугивать дичь рань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времени» (охот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4. «Что-то кольнуло» ( разгов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о брате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5. Соучаст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6. Участник граб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7. «Страшно жалко» его ( тату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ровка - орел )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8. «Все неважно по сравнению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унижением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16000" y="1268280"/>
            <a:ext cx="40388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т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орудие возмездия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1. Ужас и восхищ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2.</a:t>
            </a:r>
            <a:r>
              <a:rPr b="0" lang="ru-RU" sz="28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Хотел быть похожим ( глаза ге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роев Джека Лондона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3. Восхищался дерзостью ограб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ления, но не хотел верить (носи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медаль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4. Процесс возмездия = 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прозрения для Чика (почему 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время наказания не говорит за чт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5. Значение глаз- презрение к лю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д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6. Перестал ходить на спортивну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площадку.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ahoma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17320" indent="-5173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419280" y="1052640"/>
            <a:ext cx="115236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052640"/>
            <a:ext cx="1079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40:16Z</dcterms:created>
  <dc:creator>usermmc</dc:creator>
  <dc:description/>
  <dc:language>en-US</dc:language>
  <cp:lastModifiedBy>Alexandr</cp:lastModifiedBy>
  <dcterms:modified xsi:type="dcterms:W3CDTF">2010-01-02T04:57:28Z</dcterms:modified>
  <cp:revision>15</cp:revision>
  <dc:subject/>
  <dc:title>Слайд 1</dc:title>
</cp:coreProperties>
</file>