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5E8-9DCF-439A-A69E-505CF4A2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5E8-9B1A-4DA2-93BE-491FBD76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5C9-1AFD-4E83-A197-06297977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D52-2C8B-4C3F-A9AA-A30983D4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C4F-820D-4C3F-AEBB-39AD90B4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AB4-D90D-4948-86A4-157A3186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EDD4-6ED2-4909-A9A1-31AECFF3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9B0-5EB2-4EF8-B82D-58DCAC3A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969-6BA7-424C-B4AA-C797B2D9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2FE-CC4D-4529-AC46-322D68D8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129-E9A4-45E5-B4D4-872DE812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5B1-8441-4953-8A5E-5BF96F79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B01B-E451-4A88-BBE0-B1C5228F50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8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ьи Калини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89000"/>
            <a:ext cx="6048360" cy="28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ртфоли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627360" cy="4941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0" y="5300640"/>
            <a:ext cx="75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олимпиады очень интересные, необычные, могут увлечь любого ученика. Но самый главный мой помощник –  компьютер. Благодаря ему хорошо развивается память, логика, сообраз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635280" y="1413000"/>
            <a:ext cx="55087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2006 года я стала постоянным участником Всероссийских дистанцио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вристических олимпиад по математике, русскому языку, краевед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имала 1,2 места, была лауреатом. В роли менеджера работала мама. 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ла заявку на участие в олимпиаде, получала задание, отправляла готов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. Бабушка редактировала материал и мои работы, дед помогал разыскивать нужные справочники и дис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641040" y="620640"/>
            <a:ext cx="52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ительное образо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076720" y="981000"/>
            <a:ext cx="4287960" cy="5877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4762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мы планируем работу, то ставим себ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ысл? (зачем мне это изучать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? (Что я хочу изучить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ы? (Как я буду это делать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и? (Когда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(Чему я научусь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вопросы я себе задаю, так как хочу стать человеком образованным, Научиться анализировать, принимать нестандартные решения. Проектные задания, которые нам дают в классе, участие в олимпиадах, очень расшир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озор. Поэтому скажем коротко: «Ребята! Делайте проекты!. Участвуйте в олимпиадах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ём маленькое задание на внимание. Найдите в ребусе 13 птиц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7"/>
          <p:cNvSpPr/>
          <p:nvPr/>
        </p:nvSpPr>
        <p:spPr>
          <a:xfrm>
            <a:off x="900000" y="90792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   р    а     е   щ     е     г     о     л    к  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   н    е     г     и    р     ь      к     а    ш   а   ф    р    о    л     а    с    т       о     ч     к   а    о     р    ё    л     к    ф    и      л     и    н  щ   с     в     о    р     о    н    а      л     е     т   а ц     а     п    л     я    л    у      д     о     д  о  к      о     т    о     в     о    р     о     б    е   й м     у      к    а     и    с     т     ш   л    я    п ч      и    ж    т     у    с     о      в    а    л   у т      и     п    а     с    о    р      о   к    а     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05280" y="1000080"/>
            <a:ext cx="43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403280" y="198900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258920" y="15764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кие игры вы можете играть всей семьё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могут быть на самые разные те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, чтобы все вмес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1116000" y="1844640"/>
            <a:ext cx="655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ы любим де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ья и шк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и прое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главные дост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ительное образ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ю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ая компьютерная игра. Отгадай ребу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186920" y="1341360"/>
            <a:ext cx="26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а сем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1"/>
          <a:stretch/>
        </p:blipFill>
        <p:spPr>
          <a:xfrm>
            <a:off x="6300720" y="333360"/>
            <a:ext cx="24685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3573000"/>
            <a:ext cx="381636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много времени проводим на даче, где выращиваем много цветов, овощей, ягод и даже фруктов. Даже куры и индюки живут у нас на даче. Зимой мы с мамой катаемся на коньках и горных лыж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292720" y="333360"/>
            <a:ext cx="399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я семья – это мама, бабушка и деду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мы любим читать интересные книги, разгадывать кроссворды и ребусы, настольные игры, переписываемся по Интерне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4197240" cy="221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2"/>
          <a:stretch/>
        </p:blipFill>
        <p:spPr>
          <a:xfrm>
            <a:off x="5072040" y="3214800"/>
            <a:ext cx="3714840" cy="336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4"/>
          <p:cNvSpPr/>
          <p:nvPr/>
        </p:nvSpPr>
        <p:spPr>
          <a:xfrm>
            <a:off x="324000" y="299736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любим поездки за грибами, рыбал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071960" cy="311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5572080" y="1857240"/>
            <a:ext cx="3303720" cy="4524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4788000" y="189000"/>
            <a:ext cx="4066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мы любим 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им новые книги, фильмы о животных, познавательные компьютерные иг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1116000" y="3860640"/>
            <a:ext cx="298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им путешествия, наряжать новогоднюю ёлку, кататься на коньках и горных лыжах, но можно и с друзьями на велосипеде или рол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773600" y="836640"/>
            <a:ext cx="4370400" cy="6021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0" y="1700280"/>
            <a:ext cx="45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ё первое знакомство с компьютером состоялось в первом классе. Мама учила меня пользоваться компьютером, а по субботам я ходила на кружок по информатике в школу. Во втором классе, мы сделали уже четыре проекта и портфолио. Работали всей семьей: подбирали материал, готовили работу и переносили всё в компьютер. С портфолио я приняла участие в школьном конкурсе и заняла 1 мес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767240" y="209520"/>
            <a:ext cx="27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и ш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85840" y="0"/>
            <a:ext cx="4572000" cy="65120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435640" y="0"/>
            <a:ext cx="32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ла сертифи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аво на рабочее место в фирме «Интеллектуал». С помощью портфоли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йся показывает свои достижения в учебе, проектах, спорте, тан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928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и главные дост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мые знаменит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ак как повысили авторитет нашей семьи и моего класса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ероссийской эвристической олимпиаде по краевед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1 мест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g233"/>
          <p:cNvPicPr/>
          <p:nvPr/>
        </p:nvPicPr>
        <p:blipFill>
          <a:blip r:embed="rId1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302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российской эвристической олимпиаде по русскому язы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сследования) занял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2 мест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g037"/>
          <p:cNvPicPr/>
          <p:nvPr/>
        </p:nvPicPr>
        <p:blipFill>
          <a:blip r:embed="rId1"/>
          <a:stretch/>
        </p:blipFill>
        <p:spPr>
          <a:xfrm>
            <a:off x="0" y="0"/>
            <a:ext cx="48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252720" y="4221000"/>
            <a:ext cx="867564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мые любимы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й первый проект «Моя Тюме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омню в нем каждую строчку, как мы всей семьей выбирали материал, составляли текст, искали фотографии и картинки. Как впервые в жизни я защищала свой проект в аудитории, и как переживали за меня мои родные и моя учительн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2:36:13Z</dcterms:created>
  <dc:creator>Владелец ПК</dc:creator>
  <dc:description/>
  <dc:language>en-US</dc:language>
  <cp:lastModifiedBy>123</cp:lastModifiedBy>
  <dcterms:modified xsi:type="dcterms:W3CDTF">2010-08-09T12:21:49Z</dcterms:modified>
  <cp:revision>25</cp:revision>
  <dc:subject/>
  <dc:title>ПОРТФОЛИО Использование ИКТ в проектной деятельности, дистанционных олимпиадах. </dc:title>
</cp:coreProperties>
</file>