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2C1-3D4D-4D30-92AB-DB89F324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007-B897-47DE-AD32-352B951A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821-0BF4-4BF9-AB62-E7CCC5E9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259-6DBC-4F95-94D2-6BCA7B87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E49-F430-4C8B-84C5-576044C8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1EE-68F6-4C27-9A80-4170E850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686-BFDC-4718-B7DD-23176926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023-9BDA-4A0B-9F45-F6615D47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2AA-AB4E-4660-A74B-C0F45E2A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386-BAFE-4807-93F1-10004DB9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560-AA55-4C39-B547-C5F8F220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77D-A56F-4519-A240-75B948F0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4F64-65B0-4D84-9A3E-53E2F5B38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8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ьи Калини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89000"/>
            <a:ext cx="604836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ртфоли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27360" cy="4941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0" y="5300640"/>
            <a:ext cx="75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олимпиады очень интересные, необычные, могут увлечь любого ученика. Но самый главный мой помощник –  компьютер. Благодаря ему хорошо развивается память, логика, сообраз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635280" y="1413000"/>
            <a:ext cx="5508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2006 года я стала постоянным участником Всероссийских дистанцио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вристических олимпиад по математике, русскому языку, краевед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ла 1,2 места, была лауреатом. В роли менеджера работала мама.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ла заявку на участие в олимпиаде, получала задание, отправляла готов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. Бабушка редактировала материал и мои работы, дед помогал разыскивать нужные справочники и дис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641040" y="620640"/>
            <a:ext cx="52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ельное образ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4287960" cy="5877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4762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мы планируем работу, то ставим себ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ысл? (зачем мне это изучат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? (Что я хочу изучит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ы? (Как я буду это делат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? (Когда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(Чему я научус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вопросы я себе задаю, так как хочу стать человеком образованным, Научиться анализировать, принимать нестандартные решения. Проектные задания, которые нам дают в классе, участие в олимпиадах, очень расшир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. Поэтому скажем коротко: «Ребята! Делайте проекты!. Участвуйте в олимпиадах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ём маленькое задание на внимание. Найдите в ребусе 13 птиц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900000" y="90792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   р    а     е   щ     е     г     о     л    к  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   н    е     г     и    р     ь      к     а    ш   а   ф    р    о    л     а    с    т       о     ч     к   а    о     р    ё    л     к    ф    и      л     и    н  щ   с     в     о    р     о    н    а      л     е     т   а ц     а     п    л     я    л    у      д     о     д  о  к      о     т    о     в     о    р     о     б    е   й м     у      к    а     и    с     т     ш   л    я    п ч      и    ж    т     у    с     о      в    а    л   у т      и     п    а     с    о    р      о   к    а     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05280" y="1000080"/>
            <a:ext cx="43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403280" y="1989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58920" y="15764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кие игры вы можете играть всей семьё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могут быть на самые разные те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, чтобы все вмес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1116000" y="1844640"/>
            <a:ext cx="655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любим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я и шк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 прое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лавные дост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ое обра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ю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ая компьютерная игра. Отгадай ре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186920" y="1341360"/>
            <a:ext cx="26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а сем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1"/>
          <a:stretch/>
        </p:blipFill>
        <p:spPr>
          <a:xfrm>
            <a:off x="6300720" y="333360"/>
            <a:ext cx="24685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3573000"/>
            <a:ext cx="381636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много времени проводим на даче, где выращиваем много цветов, овощей, ягод и даже фруктов. Даже куры и индюки живут у нас на даче. Зимой мы с мамой катаемся на коньках и горных лыж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292720" y="333360"/>
            <a:ext cx="399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я семья – это мама, бабушка и дед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ы любим читать интересные книги, разгадывать кроссворды и ребусы, настольные игры, переписываемся по Интерн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4197240" cy="221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2"/>
          <a:stretch/>
        </p:blipFill>
        <p:spPr>
          <a:xfrm>
            <a:off x="5072040" y="3214800"/>
            <a:ext cx="3714840" cy="336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324000" y="299736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любим поездки за грибами, рыбал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71960" cy="311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572080" y="1857240"/>
            <a:ext cx="3303720" cy="4524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4788000" y="189000"/>
            <a:ext cx="4066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мы любим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им новые книги, фильмы о животных, познавательные компьютерные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116000" y="3860640"/>
            <a:ext cx="298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им путешествия, наряжать новогоднюю ёлку, кататься на коньках и горных лыжах, но можно и с друзьями на велосипеде или рол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773600" y="836640"/>
            <a:ext cx="4370400" cy="6021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0" y="170028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ё первое знакомство с компьютером состоялось в первом классе. Мама учила меня пользоваться компьютером, а по субботам я ходила на кружок по информатике в школу. Во втором классе, мы сделали уже четыре проекта и портфолио. Работали всей семьей: подбирали материал, готовили работу и переносили всё в компьютер. С портфолио я приняла участие в школьном конкурсе и заняла 1 ме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767240" y="20952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и ш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5840" y="0"/>
            <a:ext cx="4572000" cy="6512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35640" y="0"/>
            <a:ext cx="32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ла сертифи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аво на рабочее место в фирме «Интеллектуал». С помощью портфоли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йся показывает свои достижения в учебе, проектах, спорте, тан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и главные дост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ые знаменит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ак как повысили авторитет нашей семьи и моего класса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российской эвристической олимпиаде по краевед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1 мест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g233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302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российской эвристической олимпиаде 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сследования) занял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2 мест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g037"/>
          <p:cNvPicPr/>
          <p:nvPr/>
        </p:nvPicPr>
        <p:blipFill>
          <a:blip r:embed="rId1"/>
          <a:stretch/>
        </p:blipFill>
        <p:spPr>
          <a:xfrm>
            <a:off x="0" y="0"/>
            <a:ext cx="48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252720" y="4221000"/>
            <a:ext cx="867564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ые любимы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й первый проект «Моя Тюм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мню в нем каждую строчку, как мы всей семьей выбирали материал, составляли текст, искали фотографии и картинки. Как впервые в жизни я защищала свой проект в аудитории, и как переживали за меня мои родные и моя учительн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2:36:13Z</dcterms:created>
  <dc:creator>Владелец ПК</dc:creator>
  <dc:description/>
  <dc:language>en-US</dc:language>
  <cp:lastModifiedBy>123</cp:lastModifiedBy>
  <dcterms:modified xsi:type="dcterms:W3CDTF">2010-08-09T12:21:49Z</dcterms:modified>
  <cp:revision>25</cp:revision>
  <dc:subject/>
  <dc:title>ПОРТФОЛИО Использование ИКТ в проектной деятельности, дистанционных олимпиадах. </dc:title>
</cp:coreProperties>
</file>