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gif" ContentType="image/gif"/>
  <Override PartName="/ppt/media/image25.jpeg" ContentType="image/jpeg"/>
  <Override PartName="/ppt/media/image21.gif" ContentType="image/gif"/>
  <Override PartName="/ppt/media/image23.png" ContentType="image/png"/>
  <Override PartName="/ppt/media/image20.gif" ContentType="image/gif"/>
  <Override PartName="/ppt/media/image19.jpeg" ContentType="image/jpeg"/>
  <Override PartName="/ppt/media/image2.gif" ContentType="image/gif"/>
  <Override PartName="/ppt/media/image18.wmf" ContentType="image/x-wmf"/>
  <Override PartName="/ppt/media/image29.jpeg" ContentType="image/jpeg"/>
  <Override PartName="/ppt/media/image33.wmf" ContentType="image/x-wmf"/>
  <Override PartName="/ppt/media/image52.jpeg" ContentType="image/jpeg"/>
  <Override PartName="/ppt/media/image28.png" ContentType="image/png"/>
  <Override PartName="/ppt/media/image7.jpeg" ContentType="image/jpeg"/>
  <Override PartName="/ppt/media/image5.gif" ContentType="image/gif"/>
  <Override PartName="/ppt/media/image22.jpeg" ContentType="image/jpeg"/>
  <Override PartName="/ppt/media/image39.png" ContentType="image/png"/>
  <Override PartName="/ppt/media/image15.wmf" ContentType="image/x-wmf"/>
  <Override PartName="/ppt/media/image14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6.png" ContentType="image/png"/>
  <Override PartName="/ppt/media/image8.gif" ContentType="image/gif"/>
  <Override PartName="/ppt/media/image38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41.png" ContentType="image/png"/>
  <Override PartName="/ppt/media/image42.png" ContentType="image/png"/>
  <Override PartName="/ppt/media/image45.png" ContentType="image/png"/>
  <Override PartName="/ppt/media/image46.jpeg" ContentType="image/jpeg"/>
  <Override PartName="/ppt/media/image44.png" ContentType="image/png"/>
  <Override PartName="/ppt/media/image51.gif" ContentType="image/gif"/>
  <Override PartName="/ppt/media/image43.png" ContentType="image/png"/>
  <Override PartName="/ppt/media/image47.jpeg" ContentType="image/jpeg"/>
  <Override PartName="/ppt/media/image49.jpeg" ContentType="image/jpeg"/>
  <Override PartName="/ppt/media/image37.png" ContentType="image/png"/>
  <Override PartName="/ppt/media/image34.jpeg" ContentType="image/jpeg"/>
  <Override PartName="/ppt/media/image31.jpeg" ContentType="image/jpeg"/>
  <Override PartName="/ppt/media/image30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48.jpeg" ContentType="image/jpeg"/>
  <Override PartName="/ppt/media/image13.gif" ContentType="image/gif"/>
  <Override PartName="/ppt/media/image32.wmf" ContentType="image/x-wmf"/>
  <Override PartName="/ppt/media/image6.gif" ContentType="image/gif"/>
  <Override PartName="/ppt/media/image17.wmf" ContentType="image/x-wmf"/>
  <Override PartName="/ppt/media/image10.gif" ContentType="image/gi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791-29BF-4851-826F-BA4F7D8B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357-482B-4D51-B21D-2C951723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F86-5E55-4DF2-B844-1E8E9B6C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C00-6FE8-4DF6-BBE3-D29FC22A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D75-BDB0-4AE1-8922-F91A26A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458-C60E-4551-BCB6-5C7939BB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54B-5BEE-4E28-A83A-6C522016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83C-CFCA-40AC-B1E8-AD4FEA6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28A-39DC-4DF6-BFB7-DC3AC889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8D5-D48B-47B2-94C9-D13DD442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927-2A1F-46D2-B50E-C6CBD0A6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F65-B81C-48A6-B042-95C6413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B70-6E91-4018-B8B8-FCD952F4C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33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43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44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35.jpeg"/><Relationship Id="rId9" Type="http://schemas.openxmlformats.org/officeDocument/2006/relationships/image" Target="../media/image35.jpeg"/><Relationship Id="rId10" Type="http://schemas.openxmlformats.org/officeDocument/2006/relationships/image" Target="../media/image46.jpeg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5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89000"/>
            <a:ext cx="655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Три состояния 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Круговорот 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в приро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24640"/>
            <a:ext cx="52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0493600">
            <a:off x="2268360" y="2565000"/>
            <a:ext cx="4867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Н Е Г</a:t>
            </a:r>
            <a:endParaRPr b="1" lang="en-US" sz="7200" spc="1" strike="noStrike">
              <a:ln w="2844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650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219640" y="5229360"/>
            <a:ext cx="1952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58920" y="907920"/>
            <a:ext cx="6553080" cy="4753080"/>
            <a:chOff x="1258920" y="907920"/>
            <a:chExt cx="6553080" cy="4753080"/>
          </a:xfrm>
        </p:grpSpPr>
        <p:sp>
          <p:nvSpPr>
            <p:cNvPr id="109" name=""/>
            <p:cNvSpPr/>
            <p:nvPr/>
          </p:nvSpPr>
          <p:spPr>
            <a:xfrm>
              <a:off x="1258920" y="155736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58920" y="907920"/>
              <a:ext cx="6553080" cy="1441440"/>
              <a:chOff x="1258920" y="907920"/>
              <a:chExt cx="6553080" cy="14414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58920" y="90792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58920" y="11253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58920" y="134136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258920" y="242100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258920" y="1771560"/>
              <a:ext cx="6553080" cy="1441440"/>
              <a:chOff x="1258920" y="1771560"/>
              <a:chExt cx="6553080" cy="1441440"/>
            </a:xfrm>
          </p:grpSpPr>
          <p:sp>
            <p:nvSpPr>
              <p:cNvPr id="116" name=""/>
              <p:cNvSpPr/>
              <p:nvPr/>
            </p:nvSpPr>
            <p:spPr>
              <a:xfrm>
                <a:off x="1258920" y="17715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58920" y="198900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58920" y="220500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258920" y="321300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258920" y="2563920"/>
              <a:ext cx="6553080" cy="1441440"/>
              <a:chOff x="1258920" y="2563920"/>
              <a:chExt cx="6553080" cy="144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1258920" y="256392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58920" y="27813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58920" y="299736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258920" y="3860640"/>
              <a:ext cx="6553080" cy="100836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258920" y="3211560"/>
              <a:ext cx="6553080" cy="1441440"/>
              <a:chOff x="1258920" y="3211560"/>
              <a:chExt cx="6553080" cy="144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1258920" y="32115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58920" y="342900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58920" y="364500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258920" y="465300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258920" y="4003560"/>
              <a:ext cx="6553080" cy="1441440"/>
              <a:chOff x="1258920" y="4003560"/>
              <a:chExt cx="6553080" cy="1441440"/>
            </a:xfrm>
          </p:grpSpPr>
          <p:sp>
            <p:nvSpPr>
              <p:cNvPr id="131" name=""/>
              <p:cNvSpPr/>
              <p:nvPr/>
            </p:nvSpPr>
            <p:spPr>
              <a:xfrm>
                <a:off x="1258920" y="40035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58920" y="422100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58920" y="443700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rot="20505600">
            <a:off x="7596360" y="5300640"/>
            <a:ext cx="1547640" cy="1177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352000">
            <a:off x="0" y="5299200"/>
            <a:ext cx="1459080" cy="1558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16960" y="1937520"/>
            <a:ext cx="6325920" cy="2165760"/>
          </a:xfrm>
          <a:prstGeom prst="rect">
            <a:avLst/>
          </a:prstGeom>
          <a:gradFill rotWithShape="0">
            <a:gsLst>
              <a:gs pos="0">
                <a:srgbClr val="004600">
                  <a:alpha val="44313"/>
                </a:srgbClr>
              </a:gs>
              <a:gs pos="100000">
                <a:srgbClr val="0099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Утром бусы засвер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всю траву собой затк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 пошли искать их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- ищем, ищем, не найдём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 </a:t>
            </a:r>
            <a:r>
              <a:rPr b="1" lang="en-US" sz="4000" spc="-1" strike="noStrike">
                <a:solidFill>
                  <a:srgbClr val="ff5050"/>
                </a:solidFill>
                <a:latin typeface="Arial Black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667640" y="5445000"/>
            <a:ext cx="102852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750"/>
                            </p:stCondLst>
                            <p:childTnLst>
                              <p:par>
                                <p:cTn id="22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375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 rot="20493600">
            <a:off x="1692360" y="1483920"/>
            <a:ext cx="48672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99cc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 О С А</a:t>
            </a:r>
            <a:endParaRPr b="1" lang="en-US" sz="7200" spc="1" strike="noStrike">
              <a:ln w="28440">
                <a:solidFill>
                  <a:srgbClr val="99cc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366516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4920" y="2080800"/>
            <a:ext cx="698328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28880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96440"/>
            <a:ext cx="698328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2550240"/>
            <a:ext cx="6983280" cy="155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Все в белом бархате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А как ветер по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Бархат этот опадёт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43664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515736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83664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4920" y="4653000"/>
            <a:ext cx="432000" cy="431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4920" y="620640"/>
            <a:ext cx="431640" cy="43200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414972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70028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189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948360" y="4869000"/>
            <a:ext cx="1952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7524720" y="5516640"/>
            <a:ext cx="1028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animClr clrSpc="rgb">
                                      <p:cBhvr>
                                        <p:cTn id="258" dur="10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259" dur="10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267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71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75" dur="25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79" dur="250" autoRev="1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86" dur="5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87" dur="5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cc"/>
                                      </p:to>
                                    </p:animClr>
                                    <p:animClr clrSpc="rgb">
                                      <p:cBhvr>
                                        <p:cTn id="290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cc"/>
                                      </p:to>
                                    </p:animClr>
                                    <p:set>
                                      <p:cBhvr>
                                        <p:cTn id="291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animClr clrSpc="rgb">
                                      <p:cBhvr>
                                        <p:cTn id="294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295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960"/>
                            </p:stCondLst>
                            <p:childTnLst>
                              <p:par>
                                <p:cTn id="30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640"/>
                            </p:stCondLst>
                            <p:childTnLst>
                              <p:par>
                                <p:cTn id="30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320"/>
                            </p:stCondLst>
                            <p:childTnLst>
                              <p:par>
                                <p:cTn id="31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820"/>
                            </p:stCondLst>
                            <p:childTnLst>
                              <p:par>
                                <p:cTn id="32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22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23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320"/>
                            </p:stCondLst>
                            <p:childTnLst>
                              <p:par>
                                <p:cTn id="32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27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28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820"/>
                            </p:stCondLst>
                            <p:childTnLst>
                              <p:par>
                                <p:cTn id="33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32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33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320"/>
                            </p:stCondLst>
                            <p:childTnLst>
                              <p:par>
                                <p:cTn id="33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37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38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820"/>
                            </p:stCondLst>
                            <p:childTnLst>
                              <p:par>
                                <p:cTn id="34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42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43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2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32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 rot="20493600">
            <a:off x="1979640" y="2349000"/>
            <a:ext cx="48672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9966ff"/>
                  </a:solidFill>
                  <a:miter/>
                </a:ln>
                <a:solidFill>
                  <a:srgbClr val="cc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Н Е Й</a:t>
            </a:r>
            <a:endParaRPr b="1" lang="en-US" sz="7200" spc="1" strike="noStrike">
              <a:ln w="28440">
                <a:solidFill>
                  <a:srgbClr val="9966ff"/>
                </a:solidFill>
                <a:miter/>
              </a:ln>
              <a:solidFill>
                <a:srgbClr val="cc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657600">
            <a:off x="0" y="259920"/>
            <a:ext cx="6408720" cy="5472360"/>
          </a:xfrm>
          <a:custGeom>
            <a:avLst/>
            <a:gdLst>
              <a:gd name="textAreaLeft" fmla="*/ 979920 w 6408720"/>
              <a:gd name="textAreaRight" fmla="*/ 5428800 w 6408720"/>
              <a:gd name="textAreaTop" fmla="*/ 836640 h 5472360"/>
              <a:gd name="textAreaBottom" fmla="*/ 463572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7" y="12092"/>
                </a:lnTo>
                <a:lnTo>
                  <a:pt x="368" y="13595"/>
                </a:lnTo>
                <a:lnTo>
                  <a:pt x="970" y="14772"/>
                </a:lnTo>
                <a:lnTo>
                  <a:pt x="1447" y="16200"/>
                </a:lnTo>
                <a:lnTo>
                  <a:pt x="2333" y="17180"/>
                </a:lnTo>
                <a:lnTo>
                  <a:pt x="3163" y="18437"/>
                </a:lnTo>
                <a:lnTo>
                  <a:pt x="4273" y="19154"/>
                </a:lnTo>
                <a:lnTo>
                  <a:pt x="5400" y="20153"/>
                </a:lnTo>
                <a:lnTo>
                  <a:pt x="6657" y="20559"/>
                </a:lnTo>
                <a:lnTo>
                  <a:pt x="8005" y="21232"/>
                </a:lnTo>
                <a:lnTo>
                  <a:pt x="9324" y="21299"/>
                </a:lnTo>
                <a:lnTo>
                  <a:pt x="10800" y="21600"/>
                </a:lnTo>
                <a:lnTo>
                  <a:pt x="12092" y="21323"/>
                </a:lnTo>
                <a:lnTo>
                  <a:pt x="13595" y="21232"/>
                </a:lnTo>
                <a:lnTo>
                  <a:pt x="14772" y="20630"/>
                </a:lnTo>
                <a:lnTo>
                  <a:pt x="16200" y="20153"/>
                </a:lnTo>
                <a:lnTo>
                  <a:pt x="17180" y="19267"/>
                </a:lnTo>
                <a:lnTo>
                  <a:pt x="18437" y="18437"/>
                </a:lnTo>
                <a:lnTo>
                  <a:pt x="19154" y="17327"/>
                </a:lnTo>
                <a:lnTo>
                  <a:pt x="20153" y="16200"/>
                </a:lnTo>
                <a:lnTo>
                  <a:pt x="20559" y="14943"/>
                </a:lnTo>
                <a:lnTo>
                  <a:pt x="21232" y="13595"/>
                </a:lnTo>
                <a:lnTo>
                  <a:pt x="21299" y="12276"/>
                </a:lnTo>
                <a:lnTo>
                  <a:pt x="21600" y="10800"/>
                </a:lnTo>
                <a:lnTo>
                  <a:pt x="21323" y="9508"/>
                </a:lnTo>
                <a:lnTo>
                  <a:pt x="21232" y="8005"/>
                </a:lnTo>
                <a:lnTo>
                  <a:pt x="20630" y="6828"/>
                </a:lnTo>
                <a:lnTo>
                  <a:pt x="20153" y="5400"/>
                </a:lnTo>
                <a:lnTo>
                  <a:pt x="19267" y="4420"/>
                </a:lnTo>
                <a:lnTo>
                  <a:pt x="18437" y="3163"/>
                </a:lnTo>
                <a:lnTo>
                  <a:pt x="17327" y="2446"/>
                </a:lnTo>
                <a:lnTo>
                  <a:pt x="16200" y="1447"/>
                </a:lnTo>
                <a:lnTo>
                  <a:pt x="14943" y="1041"/>
                </a:lnTo>
                <a:lnTo>
                  <a:pt x="13595" y="368"/>
                </a:lnTo>
                <a:lnTo>
                  <a:pt x="12276" y="301"/>
                </a:lnTo>
                <a:lnTo>
                  <a:pt x="10800" y="0"/>
                </a:lnTo>
                <a:lnTo>
                  <a:pt x="9508" y="277"/>
                </a:lnTo>
                <a:lnTo>
                  <a:pt x="8005" y="368"/>
                </a:lnTo>
                <a:lnTo>
                  <a:pt x="6828" y="970"/>
                </a:lnTo>
                <a:lnTo>
                  <a:pt x="5400" y="1447"/>
                </a:lnTo>
                <a:lnTo>
                  <a:pt x="4420" y="2333"/>
                </a:lnTo>
                <a:lnTo>
                  <a:pt x="3163" y="3163"/>
                </a:lnTo>
                <a:lnTo>
                  <a:pt x="2446" y="4273"/>
                </a:lnTo>
                <a:lnTo>
                  <a:pt x="1447" y="5400"/>
                </a:lnTo>
                <a:lnTo>
                  <a:pt x="1041" y="6657"/>
                </a:lnTo>
                <a:lnTo>
                  <a:pt x="368" y="8005"/>
                </a:lnTo>
                <a:lnTo>
                  <a:pt x="301" y="932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Молоко над речкой плыло,</a:t>
            </a: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Ничего не видно было.</a:t>
            </a: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Растворилось молоко –</a:t>
            </a: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Стало видно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028880" cy="119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400200">
            <a:off x="3668760" y="4276800"/>
            <a:ext cx="1681200" cy="1785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6659640" y="458136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 rot="1736400">
            <a:off x="2131560" y="2709360"/>
            <a:ext cx="48672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 У М А Н</a:t>
            </a:r>
            <a:endParaRPr b="1" lang="en-US" sz="7200" spc="1" strike="noStrike">
              <a:ln w="284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050920" y="3068640"/>
            <a:ext cx="2808360" cy="1655640"/>
          </a:xfrm>
          <a:prstGeom prst="cloudCallout">
            <a:avLst>
              <a:gd name="adj1" fmla="val -31231"/>
              <a:gd name="adj2" fmla="val 77898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Без паруса плы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028880" cy="1190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27280" y="1628640"/>
            <a:ext cx="3457440" cy="1800360"/>
          </a:xfrm>
          <a:prstGeom prst="cloudCallout">
            <a:avLst>
              <a:gd name="adj1" fmla="val 69513"/>
              <a:gd name="adj2" fmla="val 10407"/>
            </a:avLst>
          </a:prstGeom>
          <a:gradFill rotWithShape="0">
            <a:gsLst>
              <a:gs pos="0">
                <a:srgbClr val="3399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Без ног бегу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76280"/>
            <a:ext cx="4140360" cy="2160720"/>
          </a:xfrm>
          <a:prstGeom prst="cloudCallout">
            <a:avLst>
              <a:gd name="adj1" fmla="val -27912"/>
              <a:gd name="adj2" fmla="val 69912"/>
            </a:avLst>
          </a:prstGeom>
          <a:gradFill rotWithShape="0">
            <a:gsLst>
              <a:gs pos="0">
                <a:srgbClr val="ffff00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Без крыльев лет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04000" y="443700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4869000"/>
            <a:ext cx="3024000" cy="1368360"/>
          </a:xfrm>
          <a:prstGeom prst="cloudCallout">
            <a:avLst>
              <a:gd name="adj1" fmla="val 4749"/>
              <a:gd name="adj2" fmla="val -18212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573360"/>
            <a:ext cx="1800000" cy="792360"/>
          </a:xfrm>
          <a:prstGeom prst="cloudCallout">
            <a:avLst>
              <a:gd name="adj1" fmla="val -26013"/>
              <a:gd name="adj2" fmla="val 4912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500280"/>
            <a:ext cx="1800360" cy="792360"/>
          </a:xfrm>
          <a:prstGeom prst="cloudCallout">
            <a:avLst>
              <a:gd name="adj1" fmla="val -26013"/>
              <a:gd name="adj2" fmla="val 4912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1125360"/>
            <a:ext cx="2448000" cy="1224000"/>
          </a:xfrm>
          <a:prstGeom prst="cloudCallout">
            <a:avLst>
              <a:gd name="adj1" fmla="val -64722"/>
              <a:gd name="adj2" fmla="val -32231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 rot="1736400">
            <a:off x="2123640" y="2636640"/>
            <a:ext cx="48672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5000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Б Л А К 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564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твер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2762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жид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126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газообраз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184464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773360"/>
            <a:ext cx="215640" cy="936360"/>
          </a:xfrm>
          <a:prstGeom prst="downArrow">
            <a:avLst>
              <a:gd name="adj1" fmla="val 50000"/>
              <a:gd name="adj2" fmla="val 1085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4360" y="177336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3763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7560" y="3173400"/>
            <a:ext cx="2289240" cy="1852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8" name=""/>
          <p:cNvSpPr txBox="1"/>
          <p:nvPr/>
        </p:nvSpPr>
        <p:spPr>
          <a:xfrm>
            <a:off x="1258920" y="0"/>
            <a:ext cx="6353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>
                        <a:alpha val="79215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</a:rPr>
              <a:t>Вода в природе бывает 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>
                      <a:alpha val="79215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132000" y="6021360"/>
            <a:ext cx="2762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</a:rPr>
              <a:t>состояния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1855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5877000"/>
            <a:ext cx="2627280" cy="98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5661000"/>
            <a:ext cx="2050920" cy="11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805360"/>
            <a:ext cx="2050920" cy="105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76360" y="907920"/>
            <a:ext cx="590544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 слыхали о вод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ворят она везд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ее не замечае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привыкли, что вод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а спутница всегд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050920" y="5950080"/>
            <a:ext cx="205128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437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В каком состоянии вода бывает в природе  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067280" y="5661000"/>
            <a:ext cx="2050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2060640"/>
            <a:ext cx="216036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19640" y="1989000"/>
            <a:ext cx="2160360" cy="208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71600">
            <a:off x="6587640" y="2060280"/>
            <a:ext cx="216072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9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Comic Sans MS"/>
              </a:rPr>
              <a:t>Три состояния (</a:t>
            </a:r>
            <a:r>
              <a:rPr b="1" lang="en-US" sz="2800" spc="-1" strike="noStrike">
                <a:solidFill>
                  <a:srgbClr val="9966ff"/>
                </a:solidFill>
                <a:latin typeface="Comic Sans MS"/>
              </a:rPr>
              <a:t>формы</a:t>
            </a:r>
            <a:r>
              <a:rPr b="1" lang="en-US" sz="3200" spc="-1" strike="noStrike">
                <a:solidFill>
                  <a:srgbClr val="9966ff"/>
                </a:solidFill>
                <a:latin typeface="Comic Sans MS"/>
              </a:rPr>
              <a:t>)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5640" y="1628640"/>
            <a:ext cx="1295280" cy="2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7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ccff"/>
                  </a:solidFill>
                  <a:prstDash val="sysDot"/>
                  <a:miter/>
                </a:ln>
                <a:solidFill>
                  <a:srgbClr val="008080"/>
                </a:solidFill>
                <a:latin typeface="Arial"/>
              </a:rPr>
              <a:t>ТВЕРДАЯ</a:t>
            </a:r>
            <a:endParaRPr b="1" lang="en-US" sz="2400" spc="1" strike="noStrike">
              <a:ln w="9360">
                <a:solidFill>
                  <a:srgbClr val="99ccff"/>
                </a:solidFill>
                <a:prstDash val="sysDot"/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24360" y="1557360"/>
            <a:ext cx="1104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7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ccff"/>
                  </a:solidFill>
                  <a:prstDash val="sysDot"/>
                  <a:miter/>
                </a:ln>
                <a:solidFill>
                  <a:srgbClr val="008080"/>
                </a:solidFill>
                <a:latin typeface="Arial"/>
              </a:rPr>
              <a:t>ЖИДКАЯ</a:t>
            </a:r>
            <a:endParaRPr b="1" lang="en-US" sz="2000" spc="1" strike="noStrike">
              <a:ln w="9360">
                <a:solidFill>
                  <a:srgbClr val="99ccff"/>
                </a:solidFill>
                <a:prstDash val="sysDot"/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588000" y="1413000"/>
            <a:ext cx="241164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754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ccff"/>
                  </a:solidFill>
                  <a:prstDash val="sysDot"/>
                  <a:miter/>
                </a:ln>
                <a:solidFill>
                  <a:srgbClr val="008080"/>
                </a:solidFill>
                <a:latin typeface="Arial"/>
              </a:rPr>
              <a:t>ГАЗООБРАЗНАЯ</a:t>
            </a:r>
            <a:endParaRPr b="1" lang="en-US" sz="2800" spc="1" strike="noStrike">
              <a:ln w="9360">
                <a:solidFill>
                  <a:srgbClr val="99ccff"/>
                </a:solidFill>
                <a:prstDash val="sysDot"/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93080" y="4292640"/>
            <a:ext cx="1022400" cy="2162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360" y="2852640"/>
            <a:ext cx="287280" cy="28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0360" y="2852640"/>
            <a:ext cx="287280" cy="28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36720" y="2852640"/>
            <a:ext cx="287280" cy="28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3284640"/>
            <a:ext cx="287280" cy="28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60360" y="3284640"/>
            <a:ext cx="287280" cy="28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6720" y="3284640"/>
            <a:ext cx="287280" cy="28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292428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227664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364500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2781360"/>
            <a:ext cx="274680" cy="2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74680" cy="2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227664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2997360"/>
            <a:ext cx="287280" cy="287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12000" y="2421000"/>
            <a:ext cx="287280" cy="287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85080" y="3645000"/>
            <a:ext cx="287280" cy="287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70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96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3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8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3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2107 L -0.00729 -0.03148 L -0.00625 0.02107 L -0.00538 -0.03148 L -0.00434 0.02107 L -0.00347 -0.03148 L -0.00243 0.02107 L -0.00156 -0.03148 L -0.00052 0.02107 L 0.00052 -0.03148 L 0.00139 0.02107 L 0.00243 -0.03148 L 0.0033 0.02107 L 0.00434 -0.03148 L 0.00538 0.02107 L 0.00643 -0.03148 L 0.00781 0.02107 E">
                                      <p:cBhvr>
                                        <p:cTn id="574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3079 L -0.00746 -0.02917 L 0.00816 -0.02593 L -0.00746 -0.02246 L 0.00816 -0.01898 L -0.00746 -0.01598 L 0.00816 -0.0125 L -0.00746 -0.00973 L 0.00816 -0.00625 L -0.00746 -0.00278 L 0.00816 2.96296E-006 L -0.00746 0.00347 L 0.00816 0.00648 L -0.00746 0.00995 L 0.00816 0.01342 L -0.00746 0.01666 L 0.00816 0.02106 E">
                                      <p:cBhvr>
                                        <p:cTn id="576" dur="5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2084 L 0.01528 -0.0206 L 0.00782 -0.01806 L 0.01545 -0.01713 L 0.00799 -0.01459 L 0.01563 -0.01273 L 0.00816 -0.01065 L 0.01563 -0.00973 L 0.00834 -0.00718 L 0.0158 -0.00486 L 0.00851 -0.00301 L 0.01598 -0.00116 L 0.00834 0.00139 L 0.01615 0.00277 L 0.00868 0.00532 L 0.01632 0.00694 L 0.00886 0.01018 E">
                                      <p:cBhvr>
                                        <p:cTn id="578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6 -0.00046 L 0.0007 -0.00139 L -0.00781 0.00116 L 0.00087 0.00093 L -0.00781 0.00255 L 0.00104 0.00278 L -0.00764 0.00486 L 0.00104 0.0044 L -0.00781 0.00671 L 0.00122 0.00718 L -0.00746 0.00903 L 0.00139 0.00926 L -0.00729 0.01019 L 0.00139 0.01111 L -0.00712 0.01296 L 0.00174 0.01574 L -0.00712 0.01574 E">
                                      <p:cBhvr>
                                        <p:cTn id="580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042 L 0.01476 0.01042 L 0.0132 -0.01042 L 0.01163 0.01042 L 0.01007 -0.01042 L 0.00868 0.01042 L 0.00712 -0.01042 L 0.00591 0.01042 L 0.00434 -0.01042 L 0.00278 0.01042 L 0.00139 -0.01042 L -0.00017 0.01042 L -0.00139 -0.01042 L -0.00295 0.01042 L -0.00451 -0.01042 L -0.00607 0.01042 L -0.00781 -0.01042 E">
                                      <p:cBhvr>
                                        <p:cTn id="582" dur="5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01064 L -0.00712 0.03148 L -0.00608 -0.01064 L -0.00504 0.03148 L -0.00434 -0.01064 L -0.0033 0.03148 L -0.00226 -0.01064 L -0.00122 0.03148 L -0.00018 -0.01064 L 0.00052 0.03148 L 0.00156 -0.01064 L 0.0026 0.03148 L 0.00364 -0.01064 L 0.00468 0.03148 L 0.00538 -0.01064 L 0.00642 0.03148 L 0.00798 -0.01064 E">
                                      <p:cBhvr>
                                        <p:cTn id="584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3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3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72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78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83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3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997 0.09167 L 0.0441 -0.06018 L 0.15833 0.09167 L 0.0441 0.24421 L -0.06997 0.09167 Z">
                                      <p:cBhvr>
                                        <p:cTn id="60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4028 0.19167 L 0.04028 -0.00764 L -0.13298 0.19167 L 0.04028 0.19167 Z">
                                      <p:cBhvr>
                                        <p:cTn id="60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15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7813 0.14977 L 0.0243 0.06875 L -0.01528 -0.06019 L -0.14149 -0.06019 L -0.18038 0.06875 L -0.07813 0.14977 Z">
                                      <p:cBhvr>
                                        <p:cTn id="6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799 -0.12848 L -0.00451 -0.08311 L 0.05243 -0.12292 L 0.05 -0.03635 L 0.10365 0.00833 L 0.0467 0.04814 L 0.04462 0.13426 L -0.00955 0.08726 L -0.06632 0.12615 L -0.06337 0.04213 L -0.11754 -0.00533 L -0.06076 -0.04422 L -0.05799 -0.12848 Z">
                                      <p:cBhvr>
                                        <p:cTn id="61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0816 -0.11805 C 0.09445 -0.11782 0.08021 -0.11666 0.06685 -0.11157 C 0.004 -0.08727 -0.03316 -0.01365 -0.01857 0.05371 C -0.00451 0.11945 0.0566 0.15486 0.11945 0.13056 C 0.13282 0.12547 0.14549 0.11713 0.15695 0.10741 C 0.11094 0.10625 0.07205 0.07408 0.06094 0.02269 C 0.04966 -0.02963 0.0698 -0.08426 0.10816 -0.11805 Z">
                                      <p:cBhvr>
                                        <p:cTn id="61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7291 0.00694 C -0.06198 0.01713 -0.05052 0.02685 -0.03785 0.03217 C 0.0217 0.05648 0.08247 0.01204 0.10035 -0.06505 C 0.11771 -0.14074 0.08542 -0.22199 0.02604 -0.2463 C 0.0132 -0.25162 -0.00017 -0.25324 -0.01319 -0.25232 C 0.02222 -0.21597 0.03837 -0.15463 0.02483 -0.09583 C 0.01111 -0.03542 -0.0283 0.00324 -0.07291 0.00694 Z">
                                      <p:cBhvr>
                                        <p:cTn id="614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8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13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18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300"/>
                            </p:stCondLst>
                            <p:childTnLst>
                              <p:par>
                                <p:cTn id="628" nodeType="afterEffect" fill="hold" presetClass="path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5 -0.00764 C 0.01667 -0.02731 0.00903 -0.06065 0.0132 -0.09398 C 0.01528 -0.10556 0.01806 -0.1169 0.02222 -0.12616 C 0.025 -0.09977 0.03472 -0.07569 0.04931 -0.06065 C 0.04931 -0.09282 0.06042 -0.12384 0.07917 -0.13773 C 0.08542 -0.14352 0.09219 -0.1456 0.09931 -0.14676 C 0.08872 -0.12731 0.08316 -0.09977 0.08542 -0.07106 C 0.10052 -0.09167 0.12205 -0.0963 0.1408 -0.08148 C 0.14705 -0.07685 0.1533 -0.06852 0.15764 -0.06065 C 0.1415 -0.06273 0.12483 -0.05255 0.11302 -0.03194 C 0.13177 -0.025 0.14775 -0.000690000000000003 0.15243 0.03264 C 0.154 0.04398 0.154 0.05556 0.15243 0.0669 C 0.14341 0.04514 0.1283 0.03032 0.11163 0.02801 C 0.12014 0.05671 0.11788 0.09236 0.10556 0.11875 C 0.10052 0.12801 0.09497 0.13611 0.08872 0.14074 C 0.09358 0.11528 0.0908 0.08657 0.08177 0.06366 C 0.07361 0.09236 0.05556 0.11181 0.03472 0.11181 C 0.02709 0.11181 0.02014 0.10972 0.01389 0.10486 C 0.02917 0.0956 0.04097 0.07384 0.04653 0.04745 C 0.02709 0.0544 0.00712 0.04398 -0.00625 0.01759 C -0.01094 0.00718 -0.01371 -0.00301 -0.01562 -0.01481 C -0.00191 0.000229999999999999 0.01615 0.00278 0.03195 -0.00764 Z">
                                      <p:cBhvr>
                                        <p:cTn id="629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1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88 -0.23078 L 0.0316 0.00024 L -0.11701 0.00024 L -0.04288 -0.23078 Z">
                                      <p:cBhvr>
                                        <p:cTn id="631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9 -2.59259E-006 L 0.06319 -2.59259E-006 L 0.06319 0.16806 L -0.11789 0.16806 L -0.11789 -2.59259E-006 Z">
                                      <p:cBhvr>
                                        <p:cTn id="633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73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8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8300"/>
                            </p:stCondLst>
                            <p:childTnLst>
                              <p:par>
                                <p:cTn id="643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3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97080" y="2054160"/>
            <a:ext cx="6537240" cy="37339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70000" y="5751360"/>
            <a:ext cx="6743520" cy="190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5734080"/>
            <a:ext cx="3110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46880" y="5703840"/>
            <a:ext cx="1035000" cy="384120"/>
          </a:xfrm>
          <a:prstGeom prst="cloudCallout">
            <a:avLst>
              <a:gd name="adj1" fmla="val -19171"/>
              <a:gd name="adj2" fmla="val -950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34680" y="2210040"/>
            <a:ext cx="5035680" cy="3450960"/>
            <a:chOff x="2434680" y="2210040"/>
            <a:chExt cx="5035680" cy="3450960"/>
          </a:xfrm>
        </p:grpSpPr>
        <p:sp>
          <p:nvSpPr>
            <p:cNvPr id="211" name=""/>
            <p:cNvSpPr/>
            <p:nvPr/>
          </p:nvSpPr>
          <p:spPr>
            <a:xfrm rot="20382000">
              <a:off x="2984760" y="2777760"/>
              <a:ext cx="3053160" cy="2068920"/>
            </a:xfrm>
            <a:custGeom>
              <a:avLst/>
              <a:gdLst/>
              <a:ahLst/>
              <a:rect l="l" t="t" r="r" b="b"/>
              <a:pathLst>
                <a:path w="1335" h="981">
                  <a:moveTo>
                    <a:pt x="156" y="186"/>
                  </a:moveTo>
                  <a:lnTo>
                    <a:pt x="643" y="0"/>
                  </a:lnTo>
                  <a:lnTo>
                    <a:pt x="1180" y="31"/>
                  </a:lnTo>
                  <a:lnTo>
                    <a:pt x="1267" y="278"/>
                  </a:lnTo>
                  <a:lnTo>
                    <a:pt x="1335" y="607"/>
                  </a:lnTo>
                  <a:lnTo>
                    <a:pt x="1133" y="817"/>
                  </a:lnTo>
                  <a:lnTo>
                    <a:pt x="806" y="981"/>
                  </a:lnTo>
                  <a:lnTo>
                    <a:pt x="337" y="916"/>
                  </a:lnTo>
                  <a:lnTo>
                    <a:pt x="0" y="496"/>
                  </a:lnTo>
                  <a:lnTo>
                    <a:pt x="151" y="1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000240" y="2210040"/>
              <a:ext cx="4125960" cy="2988720"/>
              <a:chOff x="3000240" y="2210040"/>
              <a:chExt cx="4125960" cy="2988720"/>
            </a:xfrm>
          </p:grpSpPr>
          <p:sp>
            <p:nvSpPr>
              <p:cNvPr id="213" name="desk2"/>
              <p:cNvSpPr/>
              <p:nvPr/>
            </p:nvSpPr>
            <p:spPr>
              <a:xfrm rot="10859400">
                <a:off x="3020760" y="2450880"/>
                <a:ext cx="2606760" cy="24040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desk2"/>
              <p:cNvSpPr/>
              <p:nvPr/>
            </p:nvSpPr>
            <p:spPr>
              <a:xfrm rot="885000">
                <a:off x="4256280" y="2502000"/>
                <a:ext cx="2606760" cy="24040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desk2"/>
            <p:cNvSpPr/>
            <p:nvPr/>
          </p:nvSpPr>
          <p:spPr>
            <a:xfrm rot="19449000">
              <a:off x="3017160" y="2621160"/>
              <a:ext cx="155520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desk2"/>
            <p:cNvSpPr/>
            <p:nvPr/>
          </p:nvSpPr>
          <p:spPr>
            <a:xfrm rot="19449000">
              <a:off x="3859920" y="2511360"/>
              <a:ext cx="1554840" cy="16257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desk2"/>
            <p:cNvSpPr/>
            <p:nvPr/>
          </p:nvSpPr>
          <p:spPr>
            <a:xfrm rot="19449000">
              <a:off x="5586480" y="268884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desk2"/>
            <p:cNvSpPr/>
            <p:nvPr/>
          </p:nvSpPr>
          <p:spPr>
            <a:xfrm rot="19449000">
              <a:off x="5586480" y="268884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desk2"/>
            <p:cNvSpPr/>
            <p:nvPr/>
          </p:nvSpPr>
          <p:spPr>
            <a:xfrm rot="19449000">
              <a:off x="4224960" y="349848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desk2"/>
            <p:cNvSpPr/>
            <p:nvPr/>
          </p:nvSpPr>
          <p:spPr>
            <a:xfrm rot="19449000">
              <a:off x="4224960" y="349848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desk2"/>
            <p:cNvSpPr/>
            <p:nvPr/>
          </p:nvSpPr>
          <p:spPr>
            <a:xfrm rot="19449000">
              <a:off x="2763360" y="3733560"/>
              <a:ext cx="155520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700360" y="350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Вода жид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08000" y="357336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Вода газообраз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6165720"/>
            <a:ext cx="3816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испарение</a:t>
            </a: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356000" y="-2043000"/>
            <a:ext cx="720720" cy="5184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073160 h 5184720"/>
              <a:gd name="textAreaBottom" fmla="*/ 370044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43" stAng="-5400000" swAng="5400000"/>
                <a:lnTo>
                  <a:pt x="21600" y="10945"/>
                </a:lnTo>
                <a:arcTo wR="21600" hR="8943" stAng="0" swAng="2838389"/>
                <a:lnTo>
                  <a:pt x="7707" y="21011"/>
                </a:lnTo>
                <a:lnTo>
                  <a:pt x="0" y="18886"/>
                </a:lnTo>
                <a:lnTo>
                  <a:pt x="7707" y="15583"/>
                </a:lnTo>
                <a:lnTo>
                  <a:pt x="7707" y="17296"/>
                </a:lnTo>
                <a:arcTo wR="21600" hR="8943" stAng="2838389" swAng="-2678183"/>
                <a:lnTo>
                  <a:pt x="21464" y="9944"/>
                </a:lnTo>
                <a:arcTo wR="21600" hR="8943" stAng="-160206" swAng="-5239794"/>
                <a:close/>
              </a:path>
              <a:path fill="darkenLess" w="21600" h="21600">
                <a:moveTo>
                  <a:pt x="0" y="0"/>
                </a:moveTo>
                <a:arcTo wR="21600" hR="8943" stAng="-5400000" swAng="5400000"/>
                <a:lnTo>
                  <a:pt x="21600" y="10945"/>
                </a:lnTo>
                <a:arcTo wR="21600" hR="8943" stAng="0" swAng="-160206"/>
                <a:lnTo>
                  <a:pt x="21464" y="9944"/>
                </a:lnTo>
                <a:arcTo wR="21600" hR="8943" stAng="-160206" swAng="-5239794"/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15845E-007 C -0.00521 -0.00971 -0.00573 -0.01689 -0.01198 -0.02521 C -0.01702 -0.04326 -0.01372 -0.03585 -0.02014 -0.04765 C -0.02292 -0.06107 -0.02275 -0.07472 -0.02622 -0.08744 C -0.02674 -0.09669 -0.02674 -0.10571 -0.02813 -0.11473 C -0.02952 -0.1226 -0.03473 -0.12908 -0.03629 -0.13717 C -0.04011 -0.15799 -0.04393 -0.1765 -0.05816 -0.18968 C -0.0632 -0.20588 -0.07969 -0.22415 -0.08993 -0.2371 C -0.09931 -0.2489 -0.09323 -0.23456 -0.10191 -0.24959 C -0.11233 -0.26718 -0.11788 -0.28938 -0.13195 -0.30187 C -0.13507 -0.31367 -0.1474 -0.3331 -0.15591 -0.33981 C -0.16042 -0.356 -0.15417 -0.3375 -0.16407 -0.35161 C -0.17726 -0.37058 -0.16563 -0.36387 -0.17761 -0.36919 C -0.18299 -0.38862 -0.17518 -0.36687 -0.18577 -0.37913 C -0.18716 -0.38122 -0.18663 -0.38469 -0.18768 -0.38654 C -0.18907 -0.38862 -0.19184 -0.38978 -0.19375 -0.39163 C -0.19861 -0.40018 -0.20313 -0.40597 -0.20973 -0.41175 C -0.23091 -0.45131 -0.28073 -0.44946 -0.31354 -0.45131 C -0.33872 -0.44367 -0.30747 -0.45131 -0.32761 -0.45131 C -0.33056 -0.45131 -0.34202 -0.44761 -0.34549 -0.44668 C -0.35348 -0.43997 -0.36129 -0.43581 -0.36962 -0.4291 C -0.37309 -0.42609 -0.38143 -0.42378 -0.38143 -0.42332 C -0.3915 -0.40597 -0.37639 -0.42979 -0.3974 -0.41175 C -0.40139 -0.40851 -0.40938 -0.4018 -0.40938 -0.40134 C -0.41389 -0.39278 -0.42309 -0.38168 -0.42952 -0.37428 C -0.43299 -0.36132 -0.43351 -0.36618 -0.41736 -0.36919 C -0.41337 -0.36988 -0.40955 -0.37104 -0.40556 -0.3715 C -0.39723 -0.37867 -0.38924 -0.37913 -0.37934 -0.38145 C -0.37483 -0.38469 -0.37049 -0.38862 -0.36563 -0.39163 C -0.36181 -0.39371 -0.35348 -0.39648 -0.35348 -0.39602 C -0.3257 -0.43164 -0.27101 -0.44113 -0.23386 -0.44922 C -0.23125 -0.44853 -0.2283 -0.44761 -0.2257 -0.44668 C -0.2217 -0.44529 -0.21372 -0.44182 -0.21372 -0.44113 C -0.21216 -0.43928 -0.2099 -0.43673 -0.20973 -0.43396 C -0.20764 -0.41545 -0.22743 -0.39533 -0.23993 -0.39163 C -0.24896 -0.38353 -0.25886 -0.38168 -0.26979 -0.37913 C -0.27188 -0.37867 -0.27379 -0.37798 -0.27552 -0.37682 C -0.27743 -0.37543 -0.27934 -0.37312 -0.2816 -0.3715 C -0.28681 -0.36919 -0.29775 -0.36687 -0.29775 -0.36641 C -0.30764 -0.35832 -0.31806 -0.35762 -0.32969 -0.35415 C -0.33872 -0.34675 -0.3507 -0.3442 -0.36163 -0.34166 C -0.36771 -0.33727 -0.37379 -0.33472 -0.37934 -0.32963 C -0.38195 -0.32454 -0.3849 -0.31968 -0.3875 -0.31436 C -0.38976 -0.3102 -0.3915 -0.29933 -0.3915 -0.2991 C -0.39098 -0.29563 -0.39271 -0.28799 -0.38941 -0.28707 C -0.37049 -0.28221 -0.34966 -0.29123 -0.3316 -0.29725 C -0.31302 -0.30326 -0.29948 -0.31668 -0.28351 -0.32963 C -0.27552 -0.33657 -0.26441 -0.33796 -0.25591 -0.34397 C -0.22622 -0.36618 -0.2158 -0.38006 -0.17969 -0.38654 C -0.17691 -0.38561 -0.16979 -0.38237 -0.16806 -0.37913 C -0.16563 -0.37497 -0.16407 -0.36433 -0.16407 -0.36387 C -0.16563 -0.34744 -0.16372 -0.3405 -0.17396 -0.33241 C -0.17466 -0.32963 -0.17396 -0.32616 -0.1757 -0.32454 C -0.179 -0.322 -0.20799 -0.3102 -0.21181 -0.30951 C -0.22431 -0.30766 -0.24983 -0.30419 -0.24983 -0.30396 C -0.27535 -0.29378 -0.30157 -0.28961 -0.3257 -0.27458 C -0.33577 -0.26856 -0.34375 -0.257 -0.35157 -0.24728 C -0.35348 -0.24474 -0.35764 -0.23988 -0.35764 -0.23942 C -0.35955 -0.23178 -0.36285 -0.22346 -0.35764 -0.2149 C -0.35486 -0.2105 -0.34549 -0.20981 -0.34549 -0.20958 C -0.31146 -0.21235 -0.31407 -0.21351 -0.28768 -0.22438 C -0.26545 -0.23386 -0.24636 -0.26185 -0.2217 -0.26949 C -0.21459 -0.2755 -0.20851 -0.27967 -0.19983 -0.28221 C -0.1882 -0.2917 -0.17761 -0.29887 -0.16407 -0.30419 C -0.16163 -0.30581 -0.16025 -0.30858 -0.15799 -0.30951 C -0.15608 -0.3102 -0.13299 -0.31436 -0.13195 -0.31436 C -0.12309 -0.31182 -0.11875 -0.31298 -0.11598 -0.30187 C -0.1165 -0.29632 -0.1165 -0.28984 -0.11788 -0.28476 C -0.11997 -0.2762 -0.12344 -0.27689 -0.12795 -0.27203 C -0.14306 -0.25653 -0.16268 -0.23502 -0.1816 -0.22716 C -0.19983 -0.21004 -0.22084 -0.19778 -0.23993 -0.18205 C -0.24896 -0.17442 -0.26059 -0.16979 -0.26979 -0.16239 C -0.27344 -0.14851 -0.27309 -0.14851 -0.26372 -0.14203 C -0.24288 -0.12815 -0.25903 -0.13578 -0.24566 -0.12977 C -0.23438 -0.13093 -0.22223 -0.12908 -0.21181 -0.13463 C -0.20452 -0.13856 -0.19983 -0.14203 -0.19184 -0.14458 C -0.1842 -0.15059 -0.17622 -0.1536 -0.16806 -0.15707 C -0.16563 -0.15822 -0.16424 -0.16146 -0.16198 -0.16239 C -0.15538 -0.16586 -0.13941 -0.17395 -0.13195 -0.17696 C -0.12205 -0.1765 -0.11181 -0.1765 -0.10191 -0.17442 C -0.09983 -0.17418 -0.09827 -0.17071 -0.09601 -0.16979 C -0.09184 -0.16748 -0.08403 -0.16493 -0.08403 -0.1647 C -0.07049 -0.14804 -0.05608 -0.13347 -0.04393 -0.11473 C -0.03768 -0.10502 -0.03316 -0.08883 -0.03021 -0.07772 C -0.02813 -0.07032 -0.02292 -0.06222 -0.02014 -0.05529 C -0.01528 -0.04326 -0.0132 -0.02799 -0.01007 -0.01527 C -0.00903 -0.00995 -0.01042 -5.15845E-007 -0.00643 -5.15845E-007 C -0.00434 -5.15845E-007 -0.00226 -5.15845E-007 3.05556E-006 -5.15845E-007 Z">
                                      <p:cBhvr>
                                        <p:cTn id="653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84987E-006 L -0.31094 -0.36733 E">
                                      <p:cBhvr>
                                        <p:cTn id="66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2" nodeType="after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4.87856E-006 L 0.21267 -0.37636 E">
                                      <p:cBhvr>
                                        <p:cTn id="673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 rot="21117000">
            <a:off x="4932000" y="1700280"/>
            <a:ext cx="2808360" cy="2808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aeaea">
                <a:alpha val="50000"/>
              </a:srgbClr>
            </a:outerShdw>
          </a:effectLst>
        </p:spPr>
      </p:pic>
      <p:sp>
        <p:nvSpPr>
          <p:cNvPr id="227" name=""/>
          <p:cNvSpPr/>
          <p:nvPr/>
        </p:nvSpPr>
        <p:spPr>
          <a:xfrm rot="15239400">
            <a:off x="6407640" y="3177000"/>
            <a:ext cx="360360" cy="431640"/>
          </a:xfrm>
          <a:prstGeom prst="wedgeEllipseCallout">
            <a:avLst>
              <a:gd name="adj1" fmla="val 64083"/>
              <a:gd name="adj2" fmla="val 55268"/>
            </a:avLst>
          </a:prstGeom>
          <a:blipFill rotWithShape="0">
            <a:blip r:embed="rId2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 rot="1350600">
            <a:off x="2771280" y="1341360"/>
            <a:ext cx="3961080" cy="3960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aeaea">
                <a:alpha val="50000"/>
              </a:srgbClr>
            </a:outerShdw>
          </a:effectLst>
        </p:spPr>
      </p:pic>
      <p:sp>
        <p:nvSpPr>
          <p:cNvPr id="229" name=""/>
          <p:cNvSpPr/>
          <p:nvPr/>
        </p:nvSpPr>
        <p:spPr>
          <a:xfrm rot="15239400">
            <a:off x="5186880" y="3609000"/>
            <a:ext cx="360360" cy="43164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4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4140200">
            <a:off x="4496040" y="3652920"/>
            <a:ext cx="360360" cy="43200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5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140200">
            <a:off x="5217840" y="3043080"/>
            <a:ext cx="287640" cy="287280"/>
          </a:xfrm>
          <a:prstGeom prst="wedgeEllipseCallout">
            <a:avLst>
              <a:gd name="adj1" fmla="val 68824"/>
              <a:gd name="adj2" fmla="val 101518"/>
            </a:avLst>
          </a:prstGeom>
          <a:blipFill rotWithShape="0">
            <a:blip r:embed="rId6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2710400">
            <a:off x="4284360" y="2852280"/>
            <a:ext cx="287280" cy="287280"/>
          </a:xfrm>
          <a:prstGeom prst="wedgeEllipseCallout">
            <a:avLst>
              <a:gd name="adj1" fmla="val 141847"/>
              <a:gd name="adj2" fmla="val 110583"/>
            </a:avLst>
          </a:prstGeom>
          <a:blipFill rotWithShape="0">
            <a:blip r:embed="rId7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4140200">
            <a:off x="5760720" y="3750480"/>
            <a:ext cx="142920" cy="73080"/>
          </a:xfrm>
          <a:prstGeom prst="wedgeEllipseCallout">
            <a:avLst>
              <a:gd name="adj1" fmla="val 672083"/>
              <a:gd name="adj2" fmla="val 341888"/>
            </a:avLst>
          </a:prstGeom>
          <a:blipFill rotWithShape="0">
            <a:blip r:embed="rId8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4140200">
            <a:off x="4176360" y="3894840"/>
            <a:ext cx="142920" cy="73080"/>
          </a:xfrm>
          <a:prstGeom prst="wedgeEllipseCallout">
            <a:avLst>
              <a:gd name="adj1" fmla="val 399861"/>
              <a:gd name="adj2" fmla="val 486277"/>
            </a:avLst>
          </a:prstGeom>
          <a:blipFill rotWithShape="0">
            <a:blip r:embed="rId9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4140200">
            <a:off x="4249440" y="3607560"/>
            <a:ext cx="142920" cy="73080"/>
          </a:xfrm>
          <a:prstGeom prst="wedgeEllipseCallout">
            <a:avLst>
              <a:gd name="adj1" fmla="val 773097"/>
              <a:gd name="adj2" fmla="val 502361"/>
            </a:avLst>
          </a:prstGeom>
          <a:blipFill rotWithShape="0">
            <a:blip r:embed="rId10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4140200">
            <a:off x="6624360" y="3894840"/>
            <a:ext cx="142920" cy="73080"/>
          </a:xfrm>
          <a:prstGeom prst="wedgeEllipseCallout">
            <a:avLst>
              <a:gd name="adj1" fmla="val 1190245"/>
              <a:gd name="adj2" fmla="val 527546"/>
            </a:avLst>
          </a:prstGeom>
          <a:blipFill rotWithShape="0">
            <a:blip r:embed="rId11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333360"/>
            <a:ext cx="381636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333360"/>
            <a:ext cx="324036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жид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104000" y="-1215360"/>
            <a:ext cx="647640" cy="5040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69200 h 5040360"/>
              <a:gd name="textAreaBottom" fmla="*/ 346680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6" stAng="-5400000" swAng="5400000"/>
                <a:lnTo>
                  <a:pt x="21600" y="10274"/>
                </a:lnTo>
                <a:arcTo wR="21600" hR="9166" stAng="0" swAng="3012016"/>
                <a:lnTo>
                  <a:pt x="7200" y="21076"/>
                </a:lnTo>
                <a:lnTo>
                  <a:pt x="0" y="18886"/>
                </a:lnTo>
                <a:lnTo>
                  <a:pt x="7200" y="15648"/>
                </a:lnTo>
                <a:lnTo>
                  <a:pt x="7200" y="17808"/>
                </a:lnTo>
                <a:arcTo wR="21600" hR="9166" stAng="3012016" swAng="-2923702"/>
                <a:lnTo>
                  <a:pt x="21561" y="9720"/>
                </a:lnTo>
                <a:arcTo wR="21600" hR="9166" stAng="-88314" swAng="-5311686"/>
                <a:close/>
              </a:path>
              <a:path fill="darkenLess" w="21600" h="21600">
                <a:moveTo>
                  <a:pt x="0" y="0"/>
                </a:moveTo>
                <a:arcTo wR="21600" hR="9166" stAng="-5400000" swAng="5400000"/>
                <a:lnTo>
                  <a:pt x="21600" y="10274"/>
                </a:lnTo>
                <a:arcTo wR="21600" hR="9166" stAng="0" swAng="-88314"/>
                <a:lnTo>
                  <a:pt x="21561" y="9720"/>
                </a:lnTo>
                <a:arcTo wR="21600" hR="9166" stAng="-88314" swAng="-5311686"/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50000">
                <a:srgbClr val="009900"/>
              </a:gs>
              <a:gs pos="100000">
                <a:srgbClr val="ff7c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5589720"/>
            <a:ext cx="410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ВЫПАДЕНИЕ 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1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5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6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 rot="1350600">
            <a:off x="2711520" y="2707920"/>
            <a:ext cx="2433600" cy="2433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aeaea">
                <a:alpha val="50000"/>
              </a:srgbClr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21117000">
            <a:off x="3878280" y="2668680"/>
            <a:ext cx="2635200" cy="2635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 rot="19946400">
            <a:off x="2999880" y="1484280"/>
            <a:ext cx="2630520" cy="2630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rot="19612200">
            <a:off x="4295880" y="206064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372360" y="3141720"/>
            <a:ext cx="2592360" cy="9471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жид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2852640"/>
            <a:ext cx="2592360" cy="13737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3333960" y="2218320"/>
            <a:ext cx="2160720" cy="6165720"/>
          </a:xfrm>
          <a:custGeom>
            <a:avLst/>
            <a:gdLst>
              <a:gd name="textAreaLeft" fmla="*/ 289440 w 2160720"/>
              <a:gd name="textAreaRight" fmla="*/ 1871280 w 2160720"/>
              <a:gd name="textAreaTop" fmla="*/ 1312920 h 6165720"/>
              <a:gd name="textAreaBottom" fmla="*/ 4236120 h 616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3897275"/>
                <a:lnTo>
                  <a:pt x="4216" y="21423"/>
                </a:lnTo>
                <a:lnTo>
                  <a:pt x="0" y="18920"/>
                </a:lnTo>
                <a:lnTo>
                  <a:pt x="4216" y="16062"/>
                </a:lnTo>
                <a:lnTo>
                  <a:pt x="4216" y="18222"/>
                </a:lnTo>
                <a:arcTo wR="21600" hR="9200" stAng="3897275" swAng="-3814318"/>
                <a:lnTo>
                  <a:pt x="21565" y="9720"/>
                </a:lnTo>
                <a:arcTo wR="21600" hR="9200" stAng="-82957" swAng="-5317043"/>
                <a:close/>
              </a:path>
              <a:path fill="darkenLess"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-82957"/>
                <a:lnTo>
                  <a:pt x="21565" y="9720"/>
                </a:lnTo>
                <a:arcTo wR="21600" hR="9200" stAng="-82957" swAng="-5317043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 rot="5400000">
            <a:off x="3836520" y="-1597680"/>
            <a:ext cx="2160720" cy="6165720"/>
          </a:xfrm>
          <a:custGeom>
            <a:avLst/>
            <a:gdLst>
              <a:gd name="textAreaLeft" fmla="*/ 289440 w 2160720"/>
              <a:gd name="textAreaRight" fmla="*/ 1871280 w 2160720"/>
              <a:gd name="textAreaTop" fmla="*/ 1312560 h 6165720"/>
              <a:gd name="textAreaBottom" fmla="*/ 4235760 h 616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3897275"/>
                <a:lnTo>
                  <a:pt x="4216" y="21423"/>
                </a:lnTo>
                <a:lnTo>
                  <a:pt x="0" y="18920"/>
                </a:lnTo>
                <a:lnTo>
                  <a:pt x="4216" y="16062"/>
                </a:lnTo>
                <a:lnTo>
                  <a:pt x="4216" y="18222"/>
                </a:lnTo>
                <a:arcTo wR="21600" hR="9200" stAng="3897275" swAng="-3814318"/>
                <a:lnTo>
                  <a:pt x="21565" y="9720"/>
                </a:lnTo>
                <a:arcTo wR="21600" hR="9200" stAng="-82957" swAng="-5317043"/>
                <a:close/>
              </a:path>
              <a:path fill="darkenLess"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-82957"/>
                <a:lnTo>
                  <a:pt x="21565" y="9720"/>
                </a:lnTo>
                <a:arcTo wR="21600" hR="9200" stAng="-82957" swAng="-5317043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140200">
            <a:off x="4796280" y="3653280"/>
            <a:ext cx="360360" cy="43164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5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5239400">
            <a:off x="5493960" y="3598200"/>
            <a:ext cx="144360" cy="284040"/>
          </a:xfrm>
          <a:prstGeom prst="wedgeEllipseCallout">
            <a:avLst>
              <a:gd name="adj1" fmla="val 40569"/>
              <a:gd name="adj2" fmla="val 175680"/>
            </a:avLst>
          </a:prstGeom>
          <a:blipFill rotWithShape="0">
            <a:blip r:embed="rId6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4140200">
            <a:off x="4476240" y="3894840"/>
            <a:ext cx="142920" cy="73080"/>
          </a:xfrm>
          <a:prstGeom prst="wedgeEllipseCallout">
            <a:avLst>
              <a:gd name="adj1" fmla="val 399861"/>
              <a:gd name="adj2" fmla="val 486277"/>
            </a:avLst>
          </a:prstGeom>
          <a:blipFill rotWithShape="0">
            <a:blip r:embed="rId7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4140200">
            <a:off x="3827880" y="2529360"/>
            <a:ext cx="360360" cy="431640"/>
          </a:xfrm>
          <a:prstGeom prst="wedgeEllipseCallout">
            <a:avLst>
              <a:gd name="adj1" fmla="val 65148"/>
              <a:gd name="adj2" fmla="val 50620"/>
            </a:avLst>
          </a:prstGeom>
          <a:blipFill rotWithShape="0">
            <a:blip r:embed="rId8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140200">
            <a:off x="3467520" y="3969360"/>
            <a:ext cx="360360" cy="431640"/>
          </a:xfrm>
          <a:prstGeom prst="wedgeEllipseCallout">
            <a:avLst>
              <a:gd name="adj1" fmla="val 65148"/>
              <a:gd name="adj2" fmla="val 50620"/>
            </a:avLst>
          </a:prstGeom>
          <a:blipFill rotWithShape="0">
            <a:blip r:embed="rId9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5239400">
            <a:off x="5699520" y="4113720"/>
            <a:ext cx="360360" cy="43164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10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4140200">
            <a:off x="3825720" y="4551120"/>
            <a:ext cx="288720" cy="212760"/>
          </a:xfrm>
          <a:prstGeom prst="wedgeEllipseCallout">
            <a:avLst>
              <a:gd name="adj1" fmla="val 122087"/>
              <a:gd name="adj2" fmla="val 58087"/>
            </a:avLst>
          </a:prstGeom>
          <a:blipFill rotWithShape="0">
            <a:blip r:embed="rId11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140200">
            <a:off x="4044600" y="3679200"/>
            <a:ext cx="142920" cy="73080"/>
          </a:xfrm>
          <a:prstGeom prst="wedgeEllipseCallout">
            <a:avLst>
              <a:gd name="adj1" fmla="val 773097"/>
              <a:gd name="adj2" fmla="val 502361"/>
            </a:avLst>
          </a:prstGeom>
          <a:blipFill rotWithShape="0">
            <a:blip r:embed="rId12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4140200">
            <a:off x="4249440" y="2455200"/>
            <a:ext cx="142920" cy="73080"/>
          </a:xfrm>
          <a:prstGeom prst="wedgeEllipseCallout">
            <a:avLst>
              <a:gd name="adj1" fmla="val 1392231"/>
              <a:gd name="adj2" fmla="val 678930"/>
            </a:avLst>
          </a:prstGeom>
          <a:blipFill rotWithShape="0">
            <a:blip r:embed="rId13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4140200">
            <a:off x="5124240" y="3392280"/>
            <a:ext cx="142560" cy="72720"/>
          </a:xfrm>
          <a:prstGeom prst="wedgeEllipseCallout">
            <a:avLst>
              <a:gd name="adj1" fmla="val 2455402"/>
              <a:gd name="adj2" fmla="val 1072611"/>
            </a:avLst>
          </a:prstGeom>
          <a:blipFill rotWithShape="0">
            <a:blip r:embed="rId14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4140200">
            <a:off x="5123880" y="4687560"/>
            <a:ext cx="142920" cy="72720"/>
          </a:xfrm>
          <a:prstGeom prst="wedgeEllipseCallout">
            <a:avLst>
              <a:gd name="adj1" fmla="val 841305"/>
              <a:gd name="adj2" fmla="val 1985481"/>
            </a:avLst>
          </a:prstGeom>
          <a:blipFill rotWithShape="0">
            <a:blip r:embed="rId15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5373720"/>
            <a:ext cx="2950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ff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арение</a:t>
            </a:r>
            <a:endParaRPr b="1" lang="en-US" sz="1800" spc="1" strike="noStrike">
              <a:ln w="9360">
                <a:solidFill>
                  <a:srgbClr val="0099ff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132000" y="981000"/>
            <a:ext cx="295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адение рос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6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6000"/>
                            </p:stCondLst>
                            <p:childTnLst>
                              <p:par>
                                <p:cTn id="8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9000"/>
                            </p:stCondLst>
                            <p:childTnLst>
                              <p:par>
                                <p:cTn id="8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8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45000"/>
                            </p:stCondLst>
                            <p:childTnLst>
                              <p:par>
                                <p:cTn id="8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48000"/>
                            </p:stCondLst>
                            <p:childTnLst>
                              <p:par>
                                <p:cTn id="8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1000"/>
                            </p:stCondLst>
                            <p:childTnLst>
                              <p:par>
                                <p:cTn id="8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4000"/>
                            </p:stCondLst>
                            <p:childTnLst>
                              <p:par>
                                <p:cTn id="8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7000"/>
                            </p:stCondLst>
                            <p:childTnLst>
                              <p:par>
                                <p:cTn id="8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0"/>
                            </p:stCondLst>
                            <p:childTnLst>
                              <p:par>
                                <p:cTn id="9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96fa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0" r="0" b="23712"/>
          <a:stretch/>
        </p:blipFill>
        <p:spPr>
          <a:xfrm>
            <a:off x="2843280" y="981000"/>
            <a:ext cx="3868560" cy="4464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843280" y="2279520"/>
            <a:ext cx="3865320" cy="69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3204000" y="3861360"/>
            <a:ext cx="309564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5445000"/>
            <a:ext cx="5832720" cy="216000"/>
          </a:xfrm>
          <a:prstGeom prst="parallelogram">
            <a:avLst>
              <a:gd name="adj" fmla="val 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76720" y="5734080"/>
            <a:ext cx="378000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твер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6237360"/>
            <a:ext cx="5184720" cy="503280"/>
          </a:xfrm>
          <a:custGeom>
            <a:avLst/>
            <a:gdLst>
              <a:gd name="textAreaLeft" fmla="*/ 1006920 w 5184720"/>
              <a:gd name="textAreaRight" fmla="*/ 3317400 w 5184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0" hR="21600" stAng="10800000" swAng="-5400000"/>
                <a:lnTo>
                  <a:pt x="9626" y="21600"/>
                </a:lnTo>
                <a:arcTo wR="8390" hR="21600" stAng="5400000" swAng="-2611200"/>
                <a:lnTo>
                  <a:pt x="20976" y="8177"/>
                </a:lnTo>
                <a:lnTo>
                  <a:pt x="17397" y="0"/>
                </a:lnTo>
                <a:lnTo>
                  <a:pt x="12570" y="8177"/>
                </a:lnTo>
                <a:lnTo>
                  <a:pt x="16155" y="8177"/>
                </a:lnTo>
                <a:arcTo wR="8390" hR="21600" stAng="2788800" swAng="2512601"/>
                <a:lnTo>
                  <a:pt x="9008" y="21541"/>
                </a:lnTo>
                <a:arcTo wR="8390" hR="21600" stAng="5498599" swAng="5301401"/>
                <a:close/>
              </a:path>
              <a:path fill="darkenLess" w="21600" h="21600">
                <a:moveTo>
                  <a:pt x="0" y="0"/>
                </a:moveTo>
                <a:arcTo wR="8390" hR="21600" stAng="10800000" swAng="-5400000"/>
                <a:lnTo>
                  <a:pt x="9626" y="21600"/>
                </a:lnTo>
                <a:arcTo wR="8390" hR="21600" stAng="5400000" swAng="98599"/>
                <a:lnTo>
                  <a:pt x="9008" y="21541"/>
                </a:lnTo>
                <a:arcTo wR="8390" hR="21600" stAng="5498599" swAng="5301401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771640" y="2349360"/>
            <a:ext cx="1954440" cy="3078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788000" y="2349360"/>
            <a:ext cx="1954080" cy="3078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2843280" y="1125360"/>
            <a:ext cx="3744720" cy="115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5400000">
            <a:off x="4788360" y="2636280"/>
            <a:ext cx="4464000" cy="1296720"/>
          </a:xfrm>
          <a:custGeom>
            <a:avLst/>
            <a:gdLst>
              <a:gd name="textAreaLeft" fmla="*/ 21240 w 4464000"/>
              <a:gd name="textAreaRight" fmla="*/ 4485600 w 4464000"/>
              <a:gd name="textAreaTop" fmla="*/ 128520 h 1296720"/>
              <a:gd name="textAreaBottom" fmla="*/ 1168200 h 1296720"/>
            </a:gdLst>
            <a:ahLst/>
            <a:rect l="textAreaLeft" t="textAreaTop" r="textAreaRight" b="textAreaBottom"/>
            <a:pathLst>
              <a:path w="21600" h="21600">
                <a:moveTo>
                  <a:pt x="104" y="1071"/>
                </a:moveTo>
                <a:cubicBezTo>
                  <a:pt x="3652" y="-2723"/>
                  <a:pt x="7304" y="4865"/>
                  <a:pt x="10852" y="1071"/>
                </a:cubicBezTo>
                <a:cubicBezTo>
                  <a:pt x="14400" y="-2723"/>
                  <a:pt x="18052" y="4865"/>
                  <a:pt x="21600" y="1071"/>
                </a:cubicBezTo>
                <a:lnTo>
                  <a:pt x="21496" y="20529"/>
                </a:lnTo>
                <a:cubicBezTo>
                  <a:pt x="17948" y="24323"/>
                  <a:pt x="14296" y="16735"/>
                  <a:pt x="10748" y="20529"/>
                </a:cubicBezTo>
                <a:cubicBezTo>
                  <a:pt x="7200" y="24323"/>
                  <a:pt x="3548" y="16735"/>
                  <a:pt x="0" y="20529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107640" y="2565360"/>
            <a:ext cx="4464000" cy="1295280"/>
          </a:xfrm>
          <a:custGeom>
            <a:avLst/>
            <a:gdLst>
              <a:gd name="textAreaLeft" fmla="*/ 21240 w 4464000"/>
              <a:gd name="textAreaRight" fmla="*/ 4485600 w 4464000"/>
              <a:gd name="textAreaTop" fmla="*/ 128160 h 1295280"/>
              <a:gd name="textAreaBottom" fmla="*/ 1167120 h 1295280"/>
            </a:gdLst>
            <a:ahLst/>
            <a:rect l="textAreaLeft" t="textAreaTop" r="textAreaRight" b="textAreaBottom"/>
            <a:pathLst>
              <a:path w="21600" h="21600">
                <a:moveTo>
                  <a:pt x="104" y="1071"/>
                </a:moveTo>
                <a:cubicBezTo>
                  <a:pt x="3652" y="-2723"/>
                  <a:pt x="7304" y="4865"/>
                  <a:pt x="10852" y="1071"/>
                </a:cubicBezTo>
                <a:cubicBezTo>
                  <a:pt x="14400" y="-2723"/>
                  <a:pt x="18052" y="4865"/>
                  <a:pt x="21600" y="1071"/>
                </a:cubicBezTo>
                <a:lnTo>
                  <a:pt x="21496" y="20529"/>
                </a:lnTo>
                <a:cubicBezTo>
                  <a:pt x="17948" y="24323"/>
                  <a:pt x="14296" y="16735"/>
                  <a:pt x="10748" y="20529"/>
                </a:cubicBezTo>
                <a:cubicBezTo>
                  <a:pt x="7200" y="24323"/>
                  <a:pt x="3548" y="16735"/>
                  <a:pt x="0" y="20529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11440" y="907920"/>
            <a:ext cx="5975280" cy="217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5734080"/>
            <a:ext cx="381636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1"/>
          <a:stretch/>
        </p:blipFill>
        <p:spPr>
          <a:xfrm>
            <a:off x="395280" y="1700280"/>
            <a:ext cx="109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5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000"/>
                            </p:stCondLst>
                            <p:childTnLst>
                              <p:par>
                                <p:cTn id="9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2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4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08000" y="5734080"/>
            <a:ext cx="4321080" cy="936720"/>
          </a:xfrm>
          <a:prstGeom prst="cloudCallout">
            <a:avLst>
              <a:gd name="adj1" fmla="val -38425"/>
              <a:gd name="adj2" fmla="val 1186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7800" cy="1411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080200" y="1341360"/>
            <a:ext cx="216000" cy="482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24920" y="335772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1" lang="en-US" sz="2800" spc="-1" strike="noStrike" baseline="50000">
                <a:solidFill>
                  <a:srgbClr val="ff00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80200" y="3646440"/>
            <a:ext cx="216000" cy="129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80200" y="4870440"/>
            <a:ext cx="216000" cy="129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35280" y="5157720"/>
            <a:ext cx="378000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твер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5280" y="5157720"/>
            <a:ext cx="381636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36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3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6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2000" y="18900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Comic Sans MS"/>
              </a:rPr>
              <a:t>Замерза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5877000"/>
            <a:ext cx="32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Вода жид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5877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Вода тверд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2021040"/>
            <a:ext cx="4248000" cy="345600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rcRect l="32271" t="26051" r="37014" b="27865"/>
          <a:stretch/>
        </p:blipFill>
        <p:spPr>
          <a:xfrm>
            <a:off x="755640" y="2813040"/>
            <a:ext cx="3384720" cy="2255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572000" y="2028960"/>
            <a:ext cx="4176720" cy="3456000"/>
          </a:xfrm>
          <a:prstGeom prst="roundRect">
            <a:avLst>
              <a:gd name="adj" fmla="val 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rcRect l="43820" t="9649" r="11709" b="60749"/>
          <a:stretch/>
        </p:blipFill>
        <p:spPr>
          <a:xfrm>
            <a:off x="5003640" y="2830680"/>
            <a:ext cx="3384720" cy="21016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979640" y="1484280"/>
            <a:ext cx="5329080" cy="107964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3061" y="9523"/>
                </a:moveTo>
                <a:arcTo wR="-7844" hR="-7844" stAng="-10237881" swAng="-11473889"/>
                <a:lnTo>
                  <a:pt x="6" y="11151"/>
                </a:lnTo>
                <a:arcTo wR="10800" hR="10800" stAng="10688230" swAng="11473889"/>
                <a:lnTo>
                  <a:pt x="24120" y="12998"/>
                </a:lnTo>
                <a:lnTo>
                  <a:pt x="19318" y="16440"/>
                </a:lnTo>
                <a:lnTo>
                  <a:pt x="15875" y="11637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317080" y="11253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19700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6165720"/>
            <a:ext cx="1295280" cy="144720"/>
          </a:xfrm>
          <a:prstGeom prst="rightArrow">
            <a:avLst>
              <a:gd name="adj1" fmla="val 50000"/>
              <a:gd name="adj2" fmla="val 223756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15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150"/>
                            </p:stCondLst>
                            <p:childTnLst>
                              <p:par>
                                <p:cTn id="9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7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6150"/>
                            </p:stCondLst>
                            <p:childTnLst>
                              <p:par>
                                <p:cTn id="10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8150"/>
                            </p:stCondLst>
                            <p:childTnLst>
                              <p:par>
                                <p:cTn id="10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773360"/>
            <a:ext cx="6696000" cy="4319640"/>
          </a:xfrm>
          <a:prstGeom prst="cloudCallout">
            <a:avLst>
              <a:gd name="adj1" fmla="val -60314"/>
              <a:gd name="adj2" fmla="val 5360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52216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Не пешеход, а ид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Мокнут люди у воро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Ловит дворник его в к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Очень трудная загадка?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188604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0036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211640" y="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979640" y="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118200" y="0"/>
            <a:ext cx="302580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77080" y="465300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667640" y="5445000"/>
            <a:ext cx="102852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20493600">
            <a:off x="2268360" y="3141360"/>
            <a:ext cx="4867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 О Ж Д Ь</a:t>
            </a:r>
            <a:endParaRPr b="1" lang="en-US" sz="7200" spc="1" strike="noStrike">
              <a:ln w="2844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40000" y="363600"/>
            <a:ext cx="5256360" cy="1152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cc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На дворе переполо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515960"/>
            <a:ext cx="576108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С неба сыплется горо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813040"/>
            <a:ext cx="5761080" cy="12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 неба сыплется горо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108320"/>
            <a:ext cx="7127640" cy="1081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ъела шесть горошин Ни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187960"/>
            <a:ext cx="5975280" cy="981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У нее теперь ангина.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31080" y="1698480"/>
            <a:ext cx="1101600" cy="117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4000" y="515772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63640" y="5667480"/>
            <a:ext cx="1028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 rot="20493600">
            <a:off x="2268360" y="3141360"/>
            <a:ext cx="4867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 Р А Д</a:t>
            </a:r>
            <a:endParaRPr b="1" lang="en-US" sz="7200" spc="1" strike="noStrike">
              <a:ln w="28440">
                <a:solidFill>
                  <a:srgbClr val="cc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650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1190200">
            <a:off x="250560" y="4941360"/>
            <a:ext cx="2087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47640" y="549360"/>
            <a:ext cx="6481800" cy="4537080"/>
          </a:xfrm>
          <a:prstGeom prst="wedgeEllipseCallout">
            <a:avLst>
              <a:gd name="adj1" fmla="val -39319"/>
              <a:gd name="adj2" fmla="val 62175"/>
            </a:avLst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5360" y="1915200"/>
            <a:ext cx="740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urier New"/>
              </a:rPr>
              <a:t>Рыбам в зиму жить теп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cc3300"/>
                </a:solidFill>
                <a:latin typeface="Courier New"/>
              </a:rPr>
              <a:t>Крыша – толстое стекло.</a:t>
            </a:r>
            <a:r>
              <a:rPr b="1" lang="ru-RU" sz="2800" spc="-1" strike="noStrike">
                <a:solidFill>
                  <a:srgbClr val="cc3300"/>
                </a:solidFill>
                <a:latin typeface="Courier New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40360" y="5915160"/>
            <a:ext cx="198144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47636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1636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5600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79600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723600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496360" y="5924520"/>
            <a:ext cx="64764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692360" y="5915160"/>
            <a:ext cx="198108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4500720" y="5915160"/>
            <a:ext cx="1981080" cy="94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020000" y="501336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8115480" y="5667480"/>
            <a:ext cx="10285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68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20493600">
            <a:off x="611280" y="1628280"/>
            <a:ext cx="41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 Ё Д</a:t>
            </a:r>
            <a:endParaRPr b="1" lang="en-US" sz="72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650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Бел как мел,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 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5445000"/>
            <a:ext cx="1028880" cy="119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844560" cy="838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84360" y="458136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2924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с неба приле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36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Courier New"/>
              </a:rPr>
              <a:t>Зиму пролежа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437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</a:rPr>
              <a:t>в землю убеж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348000" y="1268280"/>
            <a:ext cx="658800" cy="65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27640" y="69228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979640" y="620640"/>
            <a:ext cx="61416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028000" y="1052640"/>
            <a:ext cx="658800" cy="65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867280" y="333360"/>
            <a:ext cx="84456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900000" y="620640"/>
            <a:ext cx="365400" cy="35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4427640" y="1700280"/>
            <a:ext cx="365040" cy="352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6877080" y="907920"/>
            <a:ext cx="365040" cy="3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5796000" y="2276640"/>
            <a:ext cx="270000" cy="26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2"/>
          <a:stretch/>
        </p:blipFill>
        <p:spPr>
          <a:xfrm>
            <a:off x="8101080" y="3933720"/>
            <a:ext cx="269640" cy="26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3"/>
          <a:stretch/>
        </p:blipFill>
        <p:spPr>
          <a:xfrm>
            <a:off x="7524720" y="1844640"/>
            <a:ext cx="270000" cy="26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4"/>
          <a:stretch/>
        </p:blipFill>
        <p:spPr>
          <a:xfrm>
            <a:off x="1042920" y="3068640"/>
            <a:ext cx="3650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8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64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200"/>
                            </p:stCondLst>
                            <p:childTnLst>
                              <p:par>
                                <p:cTn id="141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6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200"/>
                            </p:stCondLst>
                            <p:childTnLst>
                              <p:par>
                                <p:cTn id="1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37:41Z</dcterms:created>
  <dc:creator>Galina</dc:creator>
  <dc:description/>
  <dc:language>en-US</dc:language>
  <cp:lastModifiedBy>Блинчик</cp:lastModifiedBy>
  <dcterms:modified xsi:type="dcterms:W3CDTF">2010-09-19T08:42:50Z</dcterms:modified>
  <cp:revision>68</cp:revision>
  <dc:subject/>
  <dc:title>Слайд 1</dc:title>
</cp:coreProperties>
</file>