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2B2A9-D47F-4691-99E0-29BD95146CBC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EA8EF-FA51-48AE-B297-CAAA7ED7195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A86-7522-4DC8-BA9E-02A4443B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5DB6-C81D-4D0C-8A97-BB609BD7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B1A-6138-4C6E-86DE-589867AD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E9E8-FBC3-4DA9-AB94-3144FCD0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D163-E329-49A3-84CF-D1A586B3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60C0-F48F-486B-91B8-60257FD7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F277-27D7-4A5D-833B-D8852B4F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1B2F-B0DD-439B-9E57-D43AD45C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8C8C-67ED-40C1-AF44-ABEC1439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A26F-C817-474C-B704-28B5C66F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14B2-8505-40A0-92D4-E5CACDBA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EB9-3C33-430B-8795-6C60697A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DB87-E519-4532-B5AB-B8E907CA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B5E9-07DC-48F7-AACE-2A5DCEFD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403C-FCBF-42CE-93E8-6D33C95E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406E-09C4-414A-9A86-3E9B904F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A31D-F85F-4C07-96A4-02B53D74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AC18-C7D5-46EF-9B12-118B1749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BB0-06E5-4C8B-B4B0-6E6D3379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6C5-4F5C-4BA0-B4F2-35B2F5F3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DDD-6C19-44A5-AD55-C89FABF5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F448-2FD1-4D44-B66A-657A04D4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915-6230-4FAE-8CC8-A2E8E209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D07-9F02-49C8-9CE0-D693BEB8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C590-7A4F-44F9-906B-86E566ADF3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62C9-52D6-446E-A8E3-9928990C23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5859-CCBF-4610-8206-A25D2505BD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416720" cy="23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Алгоритм организации преемственности между начальной и средней школой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сёнова Л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68AF-2C41-4F86-B4B3-73A32C89597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001000" cy="30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 Образование методического объединения учителей, выпускающих 4-е классы и готовящихся принять 5-е классы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395280" y="5445000"/>
            <a:ext cx="295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9410"/>
                </a:solidFill>
                <a:latin typeface="Arial"/>
              </a:rPr>
              <a:t>НАЧАЛЬ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9410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5076720" y="5373720"/>
            <a:ext cx="295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РЕДНЯ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780000" y="5300640"/>
            <a:ext cx="122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STR 67-7"/>
          <p:cNvPicPr/>
          <p:nvPr/>
        </p:nvPicPr>
        <p:blipFill>
          <a:blip r:embed="rId1"/>
          <a:stretch/>
        </p:blipFill>
        <p:spPr>
          <a:xfrm>
            <a:off x="1042920" y="3141720"/>
            <a:ext cx="2048040" cy="2303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STR 67-7"/>
          <p:cNvPicPr/>
          <p:nvPr/>
        </p:nvPicPr>
        <p:blipFill>
          <a:blip r:embed="rId2"/>
          <a:stretch/>
        </p:blipFill>
        <p:spPr>
          <a:xfrm>
            <a:off x="5508720" y="3068640"/>
            <a:ext cx="20476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5688-EEF4-419B-8516-8177D2C1CE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 Обсуждение и принятие общеучебных и предметных умений на выходе из начальной школы в среднюю, договоренность о соблюдении единых технологий и т.п. 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5" descr="STR 91-1 copy"/>
          <p:cNvPicPr/>
          <p:nvPr/>
        </p:nvPicPr>
        <p:blipFill>
          <a:blip r:embed="rId1"/>
          <a:stretch/>
        </p:blipFill>
        <p:spPr>
          <a:xfrm>
            <a:off x="34920" y="3429000"/>
            <a:ext cx="5256360" cy="3429000"/>
          </a:xfrm>
          <a:prstGeom prst="rect">
            <a:avLst/>
          </a:prstGeom>
          <a:ln w="0">
            <a:noFill/>
          </a:ln>
        </p:spPr>
      </p:pic>
      <p:sp>
        <p:nvSpPr>
          <p:cNvPr id="169" name="Line 7"/>
          <p:cNvSpPr/>
          <p:nvPr/>
        </p:nvSpPr>
        <p:spPr>
          <a:xfrm>
            <a:off x="5219640" y="4365720"/>
            <a:ext cx="1074960" cy="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68360" y="2852640"/>
            <a:ext cx="4680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9410"/>
                </a:solidFill>
                <a:latin typeface="Arial"/>
              </a:rPr>
              <a:t>Метод.объ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5292720" y="2852640"/>
            <a:ext cx="4067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9410"/>
                </a:solidFill>
                <a:latin typeface="Arial"/>
              </a:rPr>
              <a:t>«портрет учен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DSC01856"/>
          <p:cNvPicPr/>
          <p:nvPr/>
        </p:nvPicPr>
        <p:blipFill>
          <a:blip r:embed="rId2"/>
          <a:stretch/>
        </p:blipFill>
        <p:spPr>
          <a:xfrm>
            <a:off x="6227640" y="3573360"/>
            <a:ext cx="25592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D6AF-DCAB-4528-A1B7-9D000292D6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8317080" cy="351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 Посещение учителями средней школы уроков в 4-м классе по своим предметам и коллективное обсуждение увиденного с позиции соблюдения принципов и технологий развивающего образования, демонстрации учениками требуемых умений, корректировка.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3076560" cy="3184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STR 91-1 copy"/>
          <p:cNvPicPr/>
          <p:nvPr/>
        </p:nvPicPr>
        <p:blipFill>
          <a:blip r:embed="rId2"/>
          <a:stretch/>
        </p:blipFill>
        <p:spPr>
          <a:xfrm>
            <a:off x="4211640" y="3429000"/>
            <a:ext cx="493236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Line 7"/>
          <p:cNvSpPr/>
          <p:nvPr/>
        </p:nvSpPr>
        <p:spPr>
          <a:xfrm flipV="1">
            <a:off x="3348000" y="5084280"/>
            <a:ext cx="858960" cy="180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8170-23A4-435D-B5B0-F5832CCD81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7921800" cy="329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Arial"/>
              </a:rPr>
              <a:t>4. </a:t>
            </a: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Разработка и проведение учителями средней школы и педагогами 4-го класса совместных уроков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835280" y="3500280"/>
            <a:ext cx="3076560" cy="3184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STR 67-7"/>
          <p:cNvPicPr/>
          <p:nvPr/>
        </p:nvPicPr>
        <p:blipFill>
          <a:blip r:embed="rId2"/>
          <a:stretch/>
        </p:blipFill>
        <p:spPr>
          <a:xfrm>
            <a:off x="4788000" y="3357720"/>
            <a:ext cx="2879640" cy="3240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7"/>
          <p:cNvSpPr/>
          <p:nvPr/>
        </p:nvSpPr>
        <p:spPr>
          <a:xfrm>
            <a:off x="4356000" y="4221000"/>
            <a:ext cx="122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9941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214D-66E0-440D-88D6-64DF22B3B61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640" y="-27360"/>
            <a:ext cx="8064360" cy="33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 Диагностика общеучебных и предметных умений, психологического состояния учеников на выходе из начальной школы и на входе в среднюю школу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95280" y="5734080"/>
            <a:ext cx="295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9410"/>
                </a:solidFill>
                <a:latin typeface="Arial"/>
              </a:rPr>
              <a:t>НАЧАЛЬ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9410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5651640" y="5734080"/>
            <a:ext cx="295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РЕДНЯ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3492360" y="6021360"/>
            <a:ext cx="2592360" cy="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1"/>
          <a:stretch/>
        </p:blipFill>
        <p:spPr>
          <a:xfrm flipH="1">
            <a:off x="2411280" y="3067200"/>
            <a:ext cx="4392720" cy="2666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PE07677_"/>
          <p:cNvPicPr/>
          <p:nvPr/>
        </p:nvPicPr>
        <p:blipFill>
          <a:blip r:embed="rId2"/>
          <a:stretch/>
        </p:blipFill>
        <p:spPr>
          <a:xfrm>
            <a:off x="179280" y="3573360"/>
            <a:ext cx="2071800" cy="2078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PE07677_"/>
          <p:cNvPicPr/>
          <p:nvPr/>
        </p:nvPicPr>
        <p:blipFill>
          <a:blip r:embed="rId3"/>
          <a:stretch/>
        </p:blipFill>
        <p:spPr>
          <a:xfrm flipH="1">
            <a:off x="6876720" y="3573360"/>
            <a:ext cx="20718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806F-326C-4093-9429-5D9CEC8F82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7921800" cy="321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 Посещение уроков в 5-м классе руководителем метод.объединения и педагогами бывшего 4-го класса (помощь в соблюдении технологий, совместные уроки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214200" y="3357720"/>
            <a:ext cx="781236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7.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Регулярные заседания метод.объединения в 1-м полугодье 5-го класса – обсуждение и решение возникающих пробл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9910-19BD-4600-9A15-4E71CF5EB7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442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бщий порядок действ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49160"/>
            <a:ext cx="9144000" cy="53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 метод.объединения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говоренность об общих целях (умениях), соблюдении технологий, принципов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учителями средней школы уроков в 4-м классе по своим предметам и коллективное обсуждение уроков с позиции соблюдения принципов и технологий развивающего образования, демонстрации учениками требуемых ум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учителями средней школы и педагогами 4-го класса совместных уро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ка общеучебных и предметных умений, психологического состояния учеников на выходе из начальной школы и на входе в среднюю шко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уроков в 5-м классе руководителем метод.объединения и учителями начальн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ые метод.объединения в 5-м классе – обсуждение и решение возникающих проб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эффективности – диагностика,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4:32:40Z</dcterms:created>
  <dc:creator>Шура</dc:creator>
  <dc:description/>
  <dc:language>en-US</dc:language>
  <cp:lastModifiedBy>Admin</cp:lastModifiedBy>
  <dcterms:modified xsi:type="dcterms:W3CDTF">2010-10-17T13:22:53Z</dcterms:modified>
  <cp:revision>91</cp:revision>
  <dc:subject/>
  <dc:title>Учебники Образовательной системы «Школа 2100»</dc:title>
</cp:coreProperties>
</file>