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062DF-C681-4F4E-B51E-3CEA12738FA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9469-3055-496A-BA4B-3CA845C75AF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785-A32E-4F86-9D3A-D96FEA95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8E7-7418-4305-A93E-9C13B21F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CEB-3CE9-4323-8443-4B45D1E8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D85-7773-4337-A746-25CAD1E7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8C93-FF63-4908-9624-8638A44D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F8DD-54C0-4857-B569-60B41E19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C4A-9C79-4707-80CD-4DE2CFC2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5104-AFC8-408F-9135-5EFE8B5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161C-6A91-49FD-B95B-56C433B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034B-682C-4E6F-9586-E2B76DA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D9A9-98C9-4C97-B271-C242684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827-0BC3-4EC8-B86C-20BEF78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35D8-0C4D-4237-8081-ABF2315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A88F-DBB5-4E4D-99F7-B7487E9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5A81-D246-40EB-9FE9-8A471FD1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1B7C-45AB-4F54-BA9D-784CABB4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963A-36FD-45C8-9DF1-98C72030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51D-1682-4FFF-A528-C20F1A6A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7D8-D494-4AD7-A270-A1A13F8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D17-492F-4DB2-BA02-60E0C743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9E5-5941-4C49-B72B-67B2AFFD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992-6365-4BEF-96A6-14C4E8C7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21D-3F45-40BB-8696-46564BB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ACD-F41B-47BA-8205-02362DB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6BB0-C5CF-4DAE-B867-D4BCC279C6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4C62-46F2-429F-A26C-6EED1B5665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A8A-F30B-4D3F-B75F-DC06413B3A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16720" cy="23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Алгоритм организации преемственности между начальной и средней школо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сёнова Л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097-3AD5-43AF-A7C2-B780EAF161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0010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Образование методического объединения учителей, выпускающих 4-е классы и готовящихся принять 5-е класс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95280" y="544500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НАЧ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076720" y="537372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РЕД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780000" y="5300640"/>
            <a:ext cx="122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STR 67-7"/>
          <p:cNvPicPr/>
          <p:nvPr/>
        </p:nvPicPr>
        <p:blipFill>
          <a:blip r:embed="rId1"/>
          <a:stretch/>
        </p:blipFill>
        <p:spPr>
          <a:xfrm>
            <a:off x="1042920" y="3141720"/>
            <a:ext cx="2048040" cy="230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STR 67-7"/>
          <p:cNvPicPr/>
          <p:nvPr/>
        </p:nvPicPr>
        <p:blipFill>
          <a:blip r:embed="rId2"/>
          <a:stretch/>
        </p:blipFill>
        <p:spPr>
          <a:xfrm>
            <a:off x="5508720" y="3068640"/>
            <a:ext cx="2047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8D5-849D-45D3-BEFE-38125A911A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Обсуждение и принятие общеучебных и предметных умений на выходе из начальной школы в среднюю, договоренность о соблюдении единых технологий и т.п. 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5" descr="STR 91-1 copy"/>
          <p:cNvPicPr/>
          <p:nvPr/>
        </p:nvPicPr>
        <p:blipFill>
          <a:blip r:embed="rId1"/>
          <a:stretch/>
        </p:blipFill>
        <p:spPr>
          <a:xfrm>
            <a:off x="34920" y="3429000"/>
            <a:ext cx="5256360" cy="3429000"/>
          </a:xfrm>
          <a:prstGeom prst="rect">
            <a:avLst/>
          </a:prstGeom>
          <a:ln w="0">
            <a:noFill/>
          </a:ln>
        </p:spPr>
      </p:pic>
      <p:sp>
        <p:nvSpPr>
          <p:cNvPr id="169" name="Line 7"/>
          <p:cNvSpPr/>
          <p:nvPr/>
        </p:nvSpPr>
        <p:spPr>
          <a:xfrm>
            <a:off x="5219640" y="4365720"/>
            <a:ext cx="1074960" cy="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68360" y="285264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Метод.объ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92720" y="2852640"/>
            <a:ext cx="406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«портрет уче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DSC01856"/>
          <p:cNvPicPr/>
          <p:nvPr/>
        </p:nvPicPr>
        <p:blipFill>
          <a:blip r:embed="rId2"/>
          <a:stretch/>
        </p:blipFill>
        <p:spPr>
          <a:xfrm>
            <a:off x="6227640" y="3573360"/>
            <a:ext cx="2559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EF13-1CDA-4E62-A3E8-DB3F0DD1C6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8317080" cy="35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Посещение учителями средней школы уроков в 4-м классе по своим предметам и коллективное обсуждение увиденного с позиции соблюдения принципов и технологий развивающего образования, демонстрации учениками требуемых умений, корректировка.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076560" cy="3184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STR 91-1 copy"/>
          <p:cNvPicPr/>
          <p:nvPr/>
        </p:nvPicPr>
        <p:blipFill>
          <a:blip r:embed="rId2"/>
          <a:stretch/>
        </p:blipFill>
        <p:spPr>
          <a:xfrm>
            <a:off x="4211640" y="3429000"/>
            <a:ext cx="49323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 flipV="1">
            <a:off x="3348000" y="5084280"/>
            <a:ext cx="858960" cy="18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7553-8044-4BBC-9BF1-CF16AA0BB2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7921800" cy="329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Разработка и проведение учителями средней школы и педагогами 4-го класса совместных уро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3076560" cy="318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TR 67-7"/>
          <p:cNvPicPr/>
          <p:nvPr/>
        </p:nvPicPr>
        <p:blipFill>
          <a:blip r:embed="rId2"/>
          <a:stretch/>
        </p:blipFill>
        <p:spPr>
          <a:xfrm>
            <a:off x="4788000" y="3357720"/>
            <a:ext cx="2879640" cy="3240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4356000" y="4221000"/>
            <a:ext cx="12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941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6ACB-94DB-4361-ABBE-ADBDB3D6C5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640" y="-27360"/>
            <a:ext cx="806436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Диагностика общеучебных и предметных умений, психологического состояния учеников на выходе из начальной школы и на входе в среднюю школ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95280" y="573408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НАЧ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5651640" y="573408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РЕД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3492360" y="6021360"/>
            <a:ext cx="2592360" cy="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 flipH="1">
            <a:off x="2411280" y="3067200"/>
            <a:ext cx="4392720" cy="2666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PE07677_"/>
          <p:cNvPicPr/>
          <p:nvPr/>
        </p:nvPicPr>
        <p:blipFill>
          <a:blip r:embed="rId2"/>
          <a:stretch/>
        </p:blipFill>
        <p:spPr>
          <a:xfrm>
            <a:off x="179280" y="3573360"/>
            <a:ext cx="2071800" cy="2078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PE07677_"/>
          <p:cNvPicPr/>
          <p:nvPr/>
        </p:nvPicPr>
        <p:blipFill>
          <a:blip r:embed="rId3"/>
          <a:stretch/>
        </p:blipFill>
        <p:spPr>
          <a:xfrm flipH="1">
            <a:off x="6876720" y="3573360"/>
            <a:ext cx="20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AA10-74E4-49AA-B0D5-9D236C1334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7921800" cy="321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Посещение уроков в 5-м классе руководителем метод.объединения и педагогами бывшего 4-го класса (помощь в соблюдении технологий, совместные уроки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14200" y="3357720"/>
            <a:ext cx="781236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Регулярные заседания метод.объединения в 1-м полугодье 5-го класса – обсуждение и решение возникающих проб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710-4991-4E5D-B07A-4725DF5DE7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щий порядок действ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49160"/>
            <a:ext cx="9144000" cy="53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метод.объединения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оворенность об общих целях (умениях), соблюдении технологий, принципо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учителями средней школы уроков в 4-м классе по своим предметам и коллективное обсуждение уроков с позиции соблюдения принципов и технологий развивающего образования, демонстрации учениками требуемых ум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учителями средней школы и педагогами 4-го класса совместных ур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общеучебных и предметных умений, психологического состояния учеников на выходе из начальной школы и на входе в среднюю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уроков в 5-м классе руководителем метод.объединения и учителями нач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ые метод.объединения в 5-м классе – обсуждение и решение возникающ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ффективности – диагностика,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32:40Z</dcterms:created>
  <dc:creator>Шура</dc:creator>
  <dc:description/>
  <dc:language>en-US</dc:language>
  <cp:lastModifiedBy>Admin</cp:lastModifiedBy>
  <dcterms:modified xsi:type="dcterms:W3CDTF">2010-10-17T13:22:53Z</dcterms:modified>
  <cp:revision>91</cp:revision>
  <dc:subject/>
  <dc:title>Учебники Образовательной системы «Школа 2100»</dc:title>
</cp:coreProperties>
</file>