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.jpeg" ContentType="image/jpeg"/>
  <Override PartName="/ppt/media/image36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5.jpeg" ContentType="image/jpeg"/>
  <Override PartName="/ppt/media/image20.jpeg" ContentType="image/jpeg"/>
  <Override PartName="/ppt/media/image51.jpeg" ContentType="image/jpeg"/>
  <Override PartName="/ppt/media/image21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39.jpeg" ContentType="image/jpeg"/>
  <Override PartName="/ppt/media/image64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24.jpeg" ContentType="image/jpeg"/>
  <Override PartName="/ppt/media/image2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26.jpeg" ContentType="image/jpeg"/>
  <Override PartName="/ppt/media/image7.gif" ContentType="image/gif"/>
  <Override PartName="/ppt/media/image52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  <p:custShowLst>
    <p:custShow name="Понятие машина" id="0">
      <p:sldLst>
        <p:sld r:id="rId6"/>
        <p:sld r:id="rId7"/>
      </p:sldLst>
    </p:custShow>
    <p:custShow name="история" id="1">
      <p:sldLst>
        <p:sld r:id="rId8"/>
        <p:sld r:id="rId9"/>
        <p:sld r:id="rId10"/>
        <p:sld r:id="rId11"/>
      </p:sldLst>
    </p:custShow>
    <p:custShow name="Виды швейных машин" id="2">
      <p:sldLst>
        <p:sld r:id="rId13"/>
      </p:sldLst>
    </p:custShow>
    <p:custShow name="Основные механизмы" id="3">
      <p:sldLst>
        <p:sld r:id="rId28"/>
        <p:sld r:id="rId29"/>
        <p:sld r:id="rId30"/>
        <p:sld r:id="rId31"/>
        <p:sld r:id="rId32"/>
        <p:sld r:id="rId33"/>
      </p:sldLst>
    </p:custShow>
    <p:custShow name="приводы" id="4">
      <p:sldLst>
        <p:sld r:id="rId35"/>
        <p:sld r:id="rId36"/>
        <p:sld r:id="rId37"/>
        <p:sld r:id="rId38"/>
        <p:sld r:id="rId39"/>
      </p:sldLst>
    </p:custShow>
    <p:custShow name="Машинные строчки" id="5">
      <p:sldLst>
        <p:sld r:id="rId41"/>
        <p:sld r:id="rId42"/>
        <p:sld r:id="rId43"/>
        <p:sld r:id="rId45"/>
        <p:sld r:id="rId44"/>
        <p:sld r:id="rId46"/>
      </p:sldLst>
    </p:custShow>
    <p:custShow name="Заправка верхней нитки" id="6">
      <p:sldLst>
        <p:sld r:id="rId50"/>
        <p:sld r:id="rId51"/>
      </p:sldLst>
    </p:custShow>
    <p:custShow name="моталка" id="7">
      <p:sldLst>
        <p:sld r:id="rId48"/>
      </p:sldLst>
    </p:custShow>
    <p:custShow name="нижняя нитка" id="8">
      <p:sldLst>
        <p:sld r:id="rId52"/>
        <p:sld r:id="rId53"/>
        <p:sld r:id="rId54"/>
      </p:sldLst>
    </p:custShow>
    <p:custShow name="регуляторы" id="9">
      <p:sldLst>
        <p:sld r:id="rId56"/>
      </p:sldLst>
    </p:custShow>
    <p:custShow name="верхняя нить" id="10">
      <p:sldLst>
        <p:sld r:id="rId57"/>
        <p:sld r:id="rId58"/>
      </p:sldLst>
    </p:custShow>
    <p:custShow name="регулятор нижней нити" id="11">
      <p:sldLst>
        <p:sld r:id="rId59"/>
        <p:sld r:id="rId46"/>
      </p:sldLst>
    </p:custShow>
    <p:custShow name="регулятор длины стежка" id="12">
      <p:sldLst>
        <p:sld r:id="rId61"/>
      </p:sldLst>
    </p:custShow>
    <p:custShow name="игла" id="13">
      <p:sldLst>
        <p:sld r:id="rId63"/>
        <p:sld r:id="rId64"/>
      </p:sldLst>
    </p:custShow>
    <p:custShow name="уход" id="14">
      <p:sldLst>
        <p:sld r:id="rId66"/>
        <p:sld r:id="rId67"/>
      </p:sldLst>
    </p:custShow>
    <p:custShow name="приспособления" id="15">
      <p:sldLst>
        <p:sld r:id="rId69"/>
        <p:sld r:id="rId70"/>
        <p:sld r:id="rId71"/>
        <p:sld r:id="rId72"/>
        <p:sld r:id="rId73"/>
        <p:sld r:id="rId74"/>
        <p:sld r:id="rId75"/>
        <p:sld r:id="rId76"/>
      </p:sldLst>
    </p:custShow>
    <p:custShow name="современное производство" id="16">
      <p:sldLst>
        <p:sld r:id="rId78"/>
        <p:sld r:id="rId79"/>
        <p:sld r:id="rId80"/>
        <p:sld r:id="rId81"/>
        <p:sld r:id="rId82"/>
      </p:sldLst>
    </p:custShow>
    <p:custShow name="профессии" id="17">
      <p:sldLst>
        <p:sld r:id="rId83"/>
      </p:sldLst>
    </p:custShow>
    <p:custShow name="Правила ТБ" id="18">
      <p:sldLst>
        <p:sld r:id="rId19"/>
        <p:sld r:id="rId20"/>
        <p:sld r:id="rId21"/>
        <p:sld r:id="rId22"/>
        <p:sld r:id="rId23"/>
        <p:sld r:id="rId24"/>
        <p:sld r:id="rId25"/>
      </p:sldLst>
    </p:custShow>
    <p:custShow name="универсальные" id="19">
      <p:sldLst>
        <p:sld r:id="rId14"/>
        <p:sld r:id="rId15"/>
      </p:sldLst>
    </p:custShow>
    <p:custShow name="специальные" id="20">
      <p:sldLst>
        <p:sld r:id="rId16"/>
        <p:sld r:id="rId17"/>
      </p:sldLst>
    </p:custShow>
    <p:custShow name="11" id="21">
      <p:sldLst>
        <p:sld r:id="rId77"/>
      </p:sldLst>
    </p:custShow>
    <p:custShow name="12" id="22">
      <p:sldLst>
        <p:sld r:id="rId84"/>
      </p:sldLst>
    </p:custShow>
    <p:custShow name="13" id="23">
      <p:sldLst>
        <p:sld r:id="rId8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0CE-9D8E-4686-A312-5E8124ED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D23-46A2-48DA-A4FB-AA016D09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FF9-D561-440C-BFF3-01A16AB1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428-8FC1-4343-9EAE-D02D9A23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898F-1CF5-4340-B2BD-6CD1C83F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A7EF-1A47-43BF-8156-83CEDEF9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A038-0FD9-4F42-887D-B04F2D08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B68C-3FC6-4C54-9DFE-55EA9E82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559F-93D2-4493-85CB-3B7F6781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163E-135D-4063-A8F3-1665751A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9ABE-4B96-472D-9860-2EECB55D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F53-3FD9-48DC-AD3A-2A1B4653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7612-7FBB-4900-9EAA-D83E949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F9FC-E9E1-443A-A691-3F85A921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F484-E9A2-4E5C-A769-6E0DD0EE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9119-9A01-4770-9270-ACDEC279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77AC-459A-424F-9B21-42727C18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78A-C328-471C-8A56-71AD5D5E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AE0-B237-44AE-B959-103D3737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CF1-FE72-4227-9271-D6767009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84E-EDD0-4535-9E63-0E9A00FF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DD9-3527-4D3B-9A7B-98FCB812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ECD-C080-4CB2-9F2A-13A59607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3AB-63C6-45C5-8937-59445560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ACCD-A1A9-4BFC-A9C9-B2F9CB951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AE34-B4CE-408C-8C96-3BD9384F8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0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0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0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0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ЭЛЕМЕНТЫ    МАШИНОВЕДЕНИЯ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(электронное учебное  пособие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43280" y="4869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: Первитская И.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обслуживающего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уда  Макушинской СО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швейных маш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916280"/>
            <a:ext cx="8006760" cy="4189680"/>
            <a:chOff x="900000" y="1916280"/>
            <a:chExt cx="8006760" cy="4189680"/>
          </a:xfrm>
        </p:grpSpPr>
        <p:cxnSp>
          <p:nvCxnSpPr>
            <p:cNvPr id="142" name="_s16389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5561280" y="2932200"/>
              <a:ext cx="838440" cy="215640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16390"/>
            <p:cNvCxnSpPr>
              <a:stCxn id="146" idx="0"/>
              <a:endCxn id="144" idx="2"/>
            </p:cNvCxnSpPr>
            <p:nvPr/>
          </p:nvCxnSpPr>
          <p:spPr>
            <a:xfrm flipH="1" flipV="1" rot="5400000">
              <a:off x="3405960" y="2932920"/>
              <a:ext cx="838440" cy="215568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4" name="_s16391"/>
            <p:cNvSpPr/>
            <p:nvPr/>
          </p:nvSpPr>
          <p:spPr>
            <a:xfrm>
              <a:off x="3054960" y="1916280"/>
              <a:ext cx="369540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Швейные маши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16392"/>
            <p:cNvSpPr/>
            <p:nvPr/>
          </p:nvSpPr>
          <p:spPr>
            <a:xfrm>
              <a:off x="900000" y="4430160"/>
              <a:ext cx="369540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Универсальн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бытов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6393"/>
            <p:cNvSpPr/>
            <p:nvPr/>
          </p:nvSpPr>
          <p:spPr>
            <a:xfrm>
              <a:off x="5211360" y="4430160"/>
              <a:ext cx="369540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Специализи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рова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швейные маши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90800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3794"/>
                </a:moveTo>
                <a:lnTo>
                  <a:pt x="24343" y="10800"/>
                </a:lnTo>
                <a:lnTo>
                  <a:pt x="10330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3794"/>
                </a:moveTo>
                <a:lnTo>
                  <a:pt x="24343" y="10800"/>
                </a:lnTo>
                <a:lnTo>
                  <a:pt x="10330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227664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3794"/>
                </a:moveTo>
                <a:lnTo>
                  <a:pt x="18874" y="10800"/>
                </a:lnTo>
                <a:lnTo>
                  <a:pt x="4861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343-C39F-4C55-9821-E10CDB9D75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ниверсальные бытов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240360" cy="2400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11640" y="1413000"/>
            <a:ext cx="4633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80cb0"/>
                </a:solidFill>
                <a:latin typeface="Arial"/>
              </a:rPr>
              <a:t>Предназначены для выполнения стачивающих и отделочных строчек, петель, вышивки тканей различных структу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2М ПМ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Чайка 1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43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EW HOME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JANOME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CBC-CDC7-45EF-A670-00D09FB9F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-243000"/>
            <a:ext cx="8169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ниверсальные бытовы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970560" y="31417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М ПМ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6160" y="31417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«Чайка 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3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7640" y="623736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W HOME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6021360"/>
            <a:ext cx="27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ANOME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378240" cy="2004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708360" cy="2401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384720" cy="2617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076720" y="3600360"/>
            <a:ext cx="3672000" cy="244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CCE-9306-4FE6-83DF-0A0341D95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пециализированные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         швейные   машин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74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i="1" lang="ru-RU" sz="2800" spc="-1" strike="noStrike">
                <a:solidFill>
                  <a:srgbClr val="b80cb0"/>
                </a:solidFill>
                <a:latin typeface="Arial"/>
              </a:rPr>
              <a:t>Выполняют одну или несколько   технологических операций одновременно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чивание дета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езку края и обметывание сре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ачивание рукавов в пройму с посадкой верхнего слоя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метывание пет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шивание пугов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97-А класса ОЗЛ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85 класса ПМЗ,  51 класс ПМЗ,  «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Merry Lock</a:t>
            </a: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511360" cy="19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0FD-E4F7-421F-87AA-4A39A88D1B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-45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пециализирован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1590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1417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erry Lock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11280" y="3141720"/>
            <a:ext cx="2879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51 класс ПМ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98920" y="6237360"/>
            <a:ext cx="2826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97-А класса ОЗЛ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3240360" cy="3168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3851280" cy="2421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724360" y="549360"/>
            <a:ext cx="3167280" cy="2639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27800" y="3673440"/>
            <a:ext cx="3616200" cy="26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4F5-9C25-4077-B0FF-51FA5FF933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Какие универсальные машины вы зна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швейные машины называют универсальн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Какие операции могут выполнить  специализированные швейные маши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чего применяют краеобметочные швейные маш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6093000"/>
            <a:ext cx="649080" cy="5029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73" h="21600">
                <a:moveTo>
                  <a:pt x="0" y="0"/>
                </a:moveTo>
                <a:lnTo>
                  <a:pt x="27873" y="0"/>
                </a:lnTo>
                <a:lnTo>
                  <a:pt x="27873" y="21600"/>
                </a:lnTo>
                <a:lnTo>
                  <a:pt x="0" y="21600"/>
                </a:lnTo>
                <a:close/>
              </a:path>
              <a:path fill="lightenLess" w="27873" h="21600">
                <a:moveTo>
                  <a:pt x="0" y="0"/>
                </a:moveTo>
                <a:lnTo>
                  <a:pt x="27873" y="0"/>
                </a:lnTo>
                <a:lnTo>
                  <a:pt x="26473" y="1400"/>
                </a:lnTo>
                <a:lnTo>
                  <a:pt x="1400" y="1400"/>
                </a:lnTo>
                <a:close/>
              </a:path>
              <a:path fill="darken" w="27873" h="21600">
                <a:moveTo>
                  <a:pt x="27873" y="0"/>
                </a:moveTo>
                <a:lnTo>
                  <a:pt x="27873" y="21600"/>
                </a:lnTo>
                <a:lnTo>
                  <a:pt x="26473" y="20200"/>
                </a:lnTo>
                <a:lnTo>
                  <a:pt x="26473" y="1400"/>
                </a:lnTo>
                <a:close/>
              </a:path>
              <a:path fill="darkenLess" w="27873" h="21600">
                <a:moveTo>
                  <a:pt x="27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73" y="20200"/>
                </a:lnTo>
                <a:close/>
              </a:path>
              <a:path fill="lighten" w="27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73" h="21600">
                <a:moveTo>
                  <a:pt x="6930" y="7493"/>
                </a:moveTo>
                <a:lnTo>
                  <a:pt x="10438" y="7493"/>
                </a:lnTo>
                <a:lnTo>
                  <a:pt x="10438" y="12828"/>
                </a:lnTo>
                <a:cubicBezTo>
                  <a:pt x="10438" y="13751"/>
                  <a:pt x="11238" y="14482"/>
                  <a:pt x="12274" y="14482"/>
                </a:cubicBezTo>
                <a:lnTo>
                  <a:pt x="13936" y="14482"/>
                </a:lnTo>
                <a:cubicBezTo>
                  <a:pt x="14972" y="14482"/>
                  <a:pt x="15773" y="13751"/>
                  <a:pt x="15773" y="12828"/>
                </a:cubicBezTo>
                <a:lnTo>
                  <a:pt x="15773" y="7493"/>
                </a:lnTo>
                <a:lnTo>
                  <a:pt x="13936" y="7493"/>
                </a:lnTo>
                <a:lnTo>
                  <a:pt x="17444" y="3985"/>
                </a:lnTo>
                <a:lnTo>
                  <a:pt x="21117" y="7493"/>
                </a:lnTo>
                <a:lnTo>
                  <a:pt x="19281" y="7493"/>
                </a:lnTo>
                <a:lnTo>
                  <a:pt x="19281" y="12828"/>
                </a:lnTo>
                <a:cubicBezTo>
                  <a:pt x="19281" y="15596"/>
                  <a:pt x="16704" y="18155"/>
                  <a:pt x="13936" y="18155"/>
                </a:cubicBezTo>
                <a:lnTo>
                  <a:pt x="12274" y="18155"/>
                </a:lnTo>
                <a:cubicBezTo>
                  <a:pt x="9506" y="18155"/>
                  <a:pt x="6930" y="15596"/>
                  <a:pt x="6930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D82-47DB-48B2-8CEC-1D0213213B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авила безопас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27640" y="1904760"/>
            <a:ext cx="441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Перед работо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Уберите волосы, проверьте, не остались ли в изделии иглы или булавки стул поставьте напротив иг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1125360"/>
            <a:ext cx="3381480" cy="52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FF3-69A3-4129-87F7-AF23972CE5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До начала работ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берите волосы под головной уб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ть состояние электрического шнура и вилки (отсутствие оголенных мес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ть состояни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ть заземлени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брать посторонние предм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ть, не осталось ли в изделиях булав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обуйте машину на холостом х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7DD-9510-4E4D-B952-DE292A2F1D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4653000"/>
            <a:ext cx="8007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При шить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е кладите на машину посторонние предме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ите за правильным положением рук и но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наклоняйтесь низко к движущимся частям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760920" cy="465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88080" y="549360"/>
            <a:ext cx="4255920" cy="370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F7B-2267-47EF-8353-7B66809653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При шить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руки близко к игл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касайтесь рем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888160" y="0"/>
            <a:ext cx="3255840" cy="4581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3816360" cy="36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00C-BC65-4863-A915-1D7AA05ECD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80899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здания швейной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ды швейных маш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а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ройство  швейной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оды швейной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хема образования машинного стеж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мотка нитки на шпуль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равка верхней и нижней ни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ройство и установка швейной и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уляторы швейной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ход за швейной маш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способления к швейной маш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ременное швей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76500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26828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7002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2133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49228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860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9242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3357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292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724280"/>
            <a:ext cx="433080" cy="28908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46" h="21600">
                <a:moveTo>
                  <a:pt x="0" y="0"/>
                </a:moveTo>
                <a:lnTo>
                  <a:pt x="32346" y="0"/>
                </a:lnTo>
                <a:lnTo>
                  <a:pt x="32346" y="21600"/>
                </a:lnTo>
                <a:lnTo>
                  <a:pt x="0" y="21600"/>
                </a:lnTo>
                <a:close/>
              </a:path>
              <a:path fill="lightenLess" w="32346" h="21600">
                <a:moveTo>
                  <a:pt x="0" y="0"/>
                </a:moveTo>
                <a:lnTo>
                  <a:pt x="32346" y="0"/>
                </a:lnTo>
                <a:lnTo>
                  <a:pt x="30946" y="1400"/>
                </a:lnTo>
                <a:lnTo>
                  <a:pt x="1400" y="1400"/>
                </a:lnTo>
                <a:close/>
              </a:path>
              <a:path fill="darken" w="32346" h="21600">
                <a:moveTo>
                  <a:pt x="32346" y="0"/>
                </a:moveTo>
                <a:lnTo>
                  <a:pt x="32346" y="21600"/>
                </a:lnTo>
                <a:lnTo>
                  <a:pt x="30946" y="20200"/>
                </a:lnTo>
                <a:lnTo>
                  <a:pt x="30946" y="1400"/>
                </a:lnTo>
                <a:close/>
              </a:path>
              <a:path fill="darkenLess" w="32346" h="21600">
                <a:moveTo>
                  <a:pt x="3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6" y="20200"/>
                </a:lnTo>
                <a:close/>
              </a:path>
              <a:path fill="lighten" w="3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6" h="21600">
                <a:moveTo>
                  <a:pt x="9167" y="3794"/>
                </a:moveTo>
                <a:lnTo>
                  <a:pt x="23180" y="10800"/>
                </a:lnTo>
                <a:lnTo>
                  <a:pt x="9167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58972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021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5157720"/>
            <a:ext cx="433080" cy="28908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46" h="21600">
                <a:moveTo>
                  <a:pt x="0" y="0"/>
                </a:moveTo>
                <a:lnTo>
                  <a:pt x="32346" y="0"/>
                </a:lnTo>
                <a:lnTo>
                  <a:pt x="32346" y="21600"/>
                </a:lnTo>
                <a:lnTo>
                  <a:pt x="0" y="21600"/>
                </a:lnTo>
                <a:close/>
              </a:path>
              <a:path fill="lightenLess" w="32346" h="21600">
                <a:moveTo>
                  <a:pt x="0" y="0"/>
                </a:moveTo>
                <a:lnTo>
                  <a:pt x="32346" y="0"/>
                </a:lnTo>
                <a:lnTo>
                  <a:pt x="30946" y="1400"/>
                </a:lnTo>
                <a:lnTo>
                  <a:pt x="1400" y="1400"/>
                </a:lnTo>
                <a:close/>
              </a:path>
              <a:path fill="darken" w="32346" h="21600">
                <a:moveTo>
                  <a:pt x="32346" y="0"/>
                </a:moveTo>
                <a:lnTo>
                  <a:pt x="32346" y="21600"/>
                </a:lnTo>
                <a:lnTo>
                  <a:pt x="30946" y="20200"/>
                </a:lnTo>
                <a:lnTo>
                  <a:pt x="30946" y="1400"/>
                </a:lnTo>
                <a:close/>
              </a:path>
              <a:path fill="darkenLess" w="32346" h="21600">
                <a:moveTo>
                  <a:pt x="3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6" y="20200"/>
                </a:lnTo>
                <a:close/>
              </a:path>
              <a:path fill="lighten" w="3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6" h="21600">
                <a:moveTo>
                  <a:pt x="9167" y="3794"/>
                </a:moveTo>
                <a:lnTo>
                  <a:pt x="23180" y="10800"/>
                </a:lnTo>
                <a:lnTo>
                  <a:pt x="9167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F81-758D-43A2-B7F1-1557658447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о время работы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отвлекайтесь и не отвлекайте других разговор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наклоняйтесь близко к головк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пальцы рук на уровне лапки ( иначе они попадут под иголк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опускайте, чтобы во время работы на её платформе оказывались металлические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опускайте передавать через обучающихся, работающих на швейных машинах, какие-либо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70A-63FF-46A1-B67D-6FFB4FE9B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9840" y="2492280"/>
            <a:ext cx="907416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8B7-8C1B-4BA9-B4D2-D623C4294F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5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о время работы (продолжение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допускать работу на машине при ощущении электротока на её корпу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устраняйте неисправности без 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лючите шнур маш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берите рабочее ме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трите швейную машину мягкой фланел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дайте швейную машину дежур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060-21A9-430E-BB02-B3620E7173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Швейная мастерска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344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588-DA74-4D6E-AC99-EF75E4A1D3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739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Что необходимо выполнить перед началом работы на швейной маши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Какие правила надо соблюдать при  работе на швейной маши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необходимо выполнить по окончании работы на швейной маши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Какие меры предосторожности надо соблюдать чтобы не поранить руки игл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поступить, если почувствуешь действие тока при прикосновении к корпусу маш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5815080"/>
            <a:ext cx="576000" cy="566640"/>
          </a:xfrm>
          <a:custGeom>
            <a:avLst/>
            <a:gdLst>
              <a:gd name="textAreaLeft" fmla="*/ 36720 w 576000"/>
              <a:gd name="textAreaRight" fmla="*/ 539280 w 57600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1957" h="21600">
                <a:moveTo>
                  <a:pt x="0" y="0"/>
                </a:moveTo>
                <a:lnTo>
                  <a:pt x="21957" y="0"/>
                </a:lnTo>
                <a:lnTo>
                  <a:pt x="21957" y="21600"/>
                </a:lnTo>
                <a:lnTo>
                  <a:pt x="0" y="21600"/>
                </a:lnTo>
                <a:close/>
              </a:path>
              <a:path fill="lightenLess" w="21957" h="21600">
                <a:moveTo>
                  <a:pt x="0" y="0"/>
                </a:moveTo>
                <a:lnTo>
                  <a:pt x="21957" y="0"/>
                </a:lnTo>
                <a:lnTo>
                  <a:pt x="20557" y="1400"/>
                </a:lnTo>
                <a:lnTo>
                  <a:pt x="1400" y="1400"/>
                </a:lnTo>
                <a:close/>
              </a:path>
              <a:path fill="darken" w="21957" h="21600">
                <a:moveTo>
                  <a:pt x="21957" y="0"/>
                </a:moveTo>
                <a:lnTo>
                  <a:pt x="21957" y="21600"/>
                </a:lnTo>
                <a:lnTo>
                  <a:pt x="20557" y="20200"/>
                </a:lnTo>
                <a:lnTo>
                  <a:pt x="20557" y="1400"/>
                </a:lnTo>
                <a:close/>
              </a:path>
              <a:path fill="darkenLess" w="21957" h="21600">
                <a:moveTo>
                  <a:pt x="21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57" y="20200"/>
                </a:lnTo>
                <a:close/>
              </a:path>
              <a:path fill="lighten" w="21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57" h="21600">
                <a:moveTo>
                  <a:pt x="3972" y="7493"/>
                </a:moveTo>
                <a:lnTo>
                  <a:pt x="7479" y="7493"/>
                </a:lnTo>
                <a:lnTo>
                  <a:pt x="7479" y="12828"/>
                </a:lnTo>
                <a:cubicBezTo>
                  <a:pt x="7479" y="13751"/>
                  <a:pt x="8280" y="14482"/>
                  <a:pt x="9316" y="14482"/>
                </a:cubicBezTo>
                <a:lnTo>
                  <a:pt x="10978" y="14482"/>
                </a:lnTo>
                <a:cubicBezTo>
                  <a:pt x="12014" y="14482"/>
                  <a:pt x="12815" y="13751"/>
                  <a:pt x="12815" y="12828"/>
                </a:cubicBezTo>
                <a:lnTo>
                  <a:pt x="12815" y="7493"/>
                </a:lnTo>
                <a:lnTo>
                  <a:pt x="10978" y="7493"/>
                </a:lnTo>
                <a:lnTo>
                  <a:pt x="14486" y="3985"/>
                </a:lnTo>
                <a:lnTo>
                  <a:pt x="18159" y="7493"/>
                </a:lnTo>
                <a:lnTo>
                  <a:pt x="16322" y="7493"/>
                </a:lnTo>
                <a:lnTo>
                  <a:pt x="16322" y="12828"/>
                </a:lnTo>
                <a:cubicBezTo>
                  <a:pt x="16322" y="15596"/>
                  <a:pt x="13746" y="18155"/>
                  <a:pt x="10978" y="18155"/>
                </a:cubicBezTo>
                <a:lnTo>
                  <a:pt x="9316" y="18155"/>
                </a:lnTo>
                <a:cubicBezTo>
                  <a:pt x="6548" y="18155"/>
                  <a:pt x="3972" y="15596"/>
                  <a:pt x="3972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BD5-C5CE-4943-BA9B-64C4E9F87F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части швейной машин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4360" y="789120"/>
            <a:ext cx="7704000" cy="606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FBE-C190-4FD6-AC00-5921FD5907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Платфор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а платформе име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вижная пласти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ольная пласти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 платформой расположе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лночное устройст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убцы двигателя тка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а рукаве  расположен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ховое колес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  Мотал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улятор натяжения верхней ни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чки регулирования длины стеж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ржень для катуш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тенаправите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од рукавом крепятся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жимная лап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DB1-CD8A-46DA-8C45-DAFF4D4070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ные механизмы швейной машины 2 М ПМЗ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34544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7DA-E862-4CC0-B32D-6CF3610860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867280" y="-168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2019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79280" y="5661000"/>
            <a:ext cx="82947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Схема швейной маш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134136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14130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276720" y="1773360"/>
            <a:ext cx="3456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2276640"/>
            <a:ext cx="0" cy="172872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4005360"/>
            <a:ext cx="432000" cy="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3280" y="2349360"/>
            <a:ext cx="0" cy="1511280"/>
          </a:xfrm>
          <a:prstGeom prst="line">
            <a:avLst/>
          </a:prstGeom>
          <a:ln w="63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4221000"/>
            <a:ext cx="49687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4437000"/>
            <a:ext cx="576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4653000"/>
            <a:ext cx="576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4869000"/>
            <a:ext cx="57636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43640" y="189000"/>
            <a:ext cx="1800360" cy="863640"/>
          </a:xfrm>
          <a:prstGeom prst="wedgeRectCallout">
            <a:avLst>
              <a:gd name="adj1" fmla="val -35273"/>
              <a:gd name="adj2" fmla="val 129962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Ручной </a:t>
            </a:r>
            <a:r>
              <a:rPr b="0" lang="en-US" sz="2400" spc="-1" strike="noStrike">
                <a:solidFill>
                  <a:srgbClr val="929292"/>
                </a:solidFill>
                <a:latin typeface="Arial"/>
              </a:rPr>
              <a:t>при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189000"/>
            <a:ext cx="2519280" cy="936360"/>
          </a:xfrm>
          <a:prstGeom prst="wedgeRectCallout">
            <a:avLst>
              <a:gd name="adj1" fmla="val 2675"/>
              <a:gd name="adj2" fmla="val 117796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Механизм главного в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89000"/>
            <a:ext cx="2952720" cy="936360"/>
          </a:xfrm>
          <a:prstGeom prst="wedgeRectCallout">
            <a:avLst>
              <a:gd name="adj1" fmla="val 33120"/>
              <a:gd name="adj2" fmla="val 85254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Механизм нитепритягив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1413000"/>
            <a:ext cx="1763640" cy="1041120"/>
          </a:xfrm>
          <a:prstGeom prst="wedgeRectCallout">
            <a:avLst>
              <a:gd name="adj1" fmla="val 81324"/>
              <a:gd name="adj2" fmla="val 75763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Механизм ла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1727280" cy="863640"/>
          </a:xfrm>
          <a:prstGeom prst="wedgeRectCallout">
            <a:avLst>
              <a:gd name="adj1" fmla="val -109833"/>
              <a:gd name="adj2" fmla="val 41546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еханизм иг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3068640"/>
            <a:ext cx="1871640" cy="609480"/>
          </a:xfrm>
          <a:prstGeom prst="wedgeRectCallout">
            <a:avLst>
              <a:gd name="adj1" fmla="val -81893"/>
              <a:gd name="adj2" fmla="val 134375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Плат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3789360"/>
            <a:ext cx="1368360" cy="2735280"/>
          </a:xfrm>
          <a:prstGeom prst="wedgeRectCallout">
            <a:avLst>
              <a:gd name="adj1" fmla="val 123435"/>
              <a:gd name="adj2" fmla="val -20342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7.Механизм зубчатой рей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двигателя  ткан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4581360"/>
            <a:ext cx="3743280" cy="576360"/>
          </a:xfrm>
          <a:prstGeom prst="wedgeRectCallout">
            <a:avLst>
              <a:gd name="adj1" fmla="val -91601"/>
              <a:gd name="adj2" fmla="val 66805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Челночный мех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BF1-277A-449C-9F04-51D32E4F3F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675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Назовите основные       механизмы швейной машин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9280" y="1483920"/>
            <a:ext cx="8007480" cy="4406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72360" y="2565360"/>
            <a:ext cx="1008000" cy="986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2492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987640" y="2997360"/>
            <a:ext cx="3456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3357720"/>
            <a:ext cx="0" cy="1800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5157720"/>
            <a:ext cx="5032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3429000"/>
            <a:ext cx="0" cy="151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76360" y="5373720"/>
            <a:ext cx="496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5661000"/>
            <a:ext cx="576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95640" y="5877000"/>
            <a:ext cx="576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6093000"/>
            <a:ext cx="576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D74-CCB7-46DE-83FE-C0415AEB60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Швейные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0cb0"/>
                </a:solidFill>
                <a:latin typeface="Arial"/>
              </a:rPr>
              <a:t>Швейные маши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лужат для стачивания детал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з ткан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и пошив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различных издел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именение швейных машин </a:t>
            </a:r>
            <a:r>
              <a:rPr b="0" i="1" lang="en-US" sz="2800" spc="-1" strike="noStrike">
                <a:solidFill>
                  <a:srgbClr val="b80cb0"/>
                </a:solidFill>
                <a:latin typeface="Arial"/>
              </a:rPr>
              <a:t>позволяет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ускорить и облегчить труд, </a:t>
            </a:r>
            <a:r>
              <a:rPr b="0" i="1" lang="en-US" sz="2800" spc="-1" strike="noStrike">
                <a:solidFill>
                  <a:srgbClr val="b80cb0"/>
                </a:solidFill>
                <a:latin typeface="Arial"/>
              </a:rPr>
              <a:t>повысить качество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вейная машина выполняет работу в </a:t>
            </a:r>
            <a:r>
              <a:rPr b="0" i="1" lang="en-US" sz="3200" spc="-1" strike="noStrike">
                <a:solidFill>
                  <a:srgbClr val="b80cb0"/>
                </a:solidFill>
                <a:latin typeface="Arial"/>
              </a:rPr>
              <a:t>50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 раз быстре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ем это можно сделать в ручн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2EB-0988-4E65-A24F-D7984D04A3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77080" y="-1755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404280"/>
            <a:ext cx="82342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.Ручной при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2.Механизм главного в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3.Механизм нитепритягив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4.Механизм лап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5.Механизм иг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Arial"/>
              </a:rPr>
              <a:t>6.Платфор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7.Механизм зубчатой рей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(двигателя  ткан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8. Челночный механиз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6C2-376E-496E-84D9-AF6CE8B7BA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80186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Для чего служит механизм нитепритягив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Какую роль  выполняет челночный механиз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основные рабочие механизмы  швейной маши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985-8627-4CCA-8FC4-A6DA448BDE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приводов для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швейной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b80cb0"/>
                </a:solidFill>
                <a:latin typeface="Arial"/>
              </a:rPr>
              <a:t>ПРИВОД </a:t>
            </a: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– это устройство, с помощью которого машина приводится в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вейные машины быва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с руч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нож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электрически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80cb0"/>
                </a:solidFill>
                <a:latin typeface="Arial"/>
              </a:rPr>
              <a:t>ПРИВОДАМИ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308720" y="414972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3837"/>
                </a:moveTo>
                <a:lnTo>
                  <a:pt x="17806" y="10843"/>
                </a:lnTo>
                <a:lnTo>
                  <a:pt x="3794" y="17850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30872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08720" y="537372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3837"/>
                </a:moveTo>
                <a:lnTo>
                  <a:pt x="17806" y="10843"/>
                </a:lnTo>
                <a:lnTo>
                  <a:pt x="3794" y="17850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AC4-F3EC-4833-AA20-9F65F72985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 РУЧНЫМ ПРИВОД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03280" y="1711440"/>
            <a:ext cx="662472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EB1-9604-43CE-8666-06389FF3A1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 НОЖНЫМ ПРИВОД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295880" cy="55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E7A-0435-45C7-B0AB-494690ADC9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 ЭЛЕКТРИЧЕСКИМ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ПРИВОД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74760" y="1628640"/>
            <a:ext cx="4494240" cy="52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878-D8E4-4120-A280-E2B9C9FC25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приводов для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швейной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1268280"/>
            <a:ext cx="1238400" cy="825480"/>
          </a:xfrm>
          <a:prstGeom prst="wedgeRectCallout">
            <a:avLst>
              <a:gd name="adj1" fmla="val 123319"/>
              <a:gd name="adj2" fmla="val 163074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чной при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4508640"/>
            <a:ext cx="1331640" cy="1224000"/>
          </a:xfrm>
          <a:prstGeom prst="wedgeRectCallout">
            <a:avLst>
              <a:gd name="adj1" fmla="val 94814"/>
              <a:gd name="adj2" fmla="val -47796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1916280"/>
            <a:ext cx="1547640" cy="1295280"/>
          </a:xfrm>
          <a:prstGeom prst="wedgeRectCallout">
            <a:avLst>
              <a:gd name="adj1" fmla="val -93587"/>
              <a:gd name="adj2" fmla="val 154902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жной при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113440" cy="50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63A-34E7-4C05-9A39-C682D66EEB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. Как различаются швейные машины в зависимости от прив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В каком направлении вращается маховое колесо в разных видах маши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 помощью каких деталей передается движение от рукоятки к маховому колесу в машине с ножным привод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а какой машине, с каким приводом добнее работать и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5661000"/>
            <a:ext cx="792000" cy="79236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7"/>
                </a:moveTo>
                <a:lnTo>
                  <a:pt x="7301" y="7497"/>
                </a:lnTo>
                <a:lnTo>
                  <a:pt x="7301" y="12833"/>
                </a:lnTo>
                <a:cubicBezTo>
                  <a:pt x="7301" y="13755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5"/>
                  <a:pt x="12636" y="12833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3A1-6DC5-4E89-9A85-77D9F4D585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ЯМАЯ СТРОЧ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979640" y="1554120"/>
            <a:ext cx="5400720" cy="46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D9E-395F-4B1D-A149-BE1E8B7DCD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ГЗАГООБРАЗНА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176720" cy="2963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3024000" cy="2408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443640" y="47242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ПЕТ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59A-D824-49C9-B10F-A0AC89A4F9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80071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вейные машины подразделяют на клас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i="1" lang="ru-RU" sz="4000" spc="-1" strike="noStrike">
                <a:solidFill>
                  <a:srgbClr val="b80cb0"/>
                </a:solidFill>
                <a:latin typeface="Arial"/>
              </a:rPr>
              <a:t>2М ПМ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2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класс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ПМЗ</a:t>
            </a:r>
            <a:r>
              <a:rPr b="0" lang="ru-RU" sz="2800" spc="-1" strike="noStrike">
                <a:solidFill>
                  <a:srgbClr val="b80cb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завод изготовит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ПМ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ольский механический зав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ОЗЛ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ршанский завод «Легмаш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350-F657-4C4D-9D2E-32989B1FCB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РМ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80cb0"/>
                </a:solidFill>
                <a:latin typeface="Arial"/>
              </a:rPr>
              <a:t>СТЕЖОК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это повторяющийся элемент ниточной строчки между проколами и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80cb0"/>
                </a:solidFill>
                <a:latin typeface="Arial"/>
              </a:rPr>
              <a:t>СТРОЧКА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это последовательно повторяющийся ряд стеж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80cb0"/>
                </a:solidFill>
                <a:latin typeface="Arial"/>
              </a:rPr>
              <a:t>Ш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соединение строчкой двух или нескольких слоев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80cb0"/>
                </a:solidFill>
                <a:latin typeface="Arial"/>
              </a:rPr>
              <a:t>Ширина ш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расстояние от строчки до среза де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A3C-FE48-4ABB-A084-798D0B5711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хема образования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стеж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5280" y="1735200"/>
            <a:ext cx="8497800" cy="44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882-BF6B-4825-B28B-1145CB38AA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ЧКА СТАЧИ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502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зуется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переплетением в ткан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ерхне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игольной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нижней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(челночной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т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её выполнении участвуют 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механизм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маши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Иг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Лап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вигатель т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Чел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Нитепритягива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FE0-9B5A-4053-B37C-7608487A47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ашинная строч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148000" cy="890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63640" y="1341360"/>
            <a:ext cx="3481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ьная стр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тляние сверху (</a:t>
            </a:r>
            <a:r>
              <a:rPr b="0" lang="ru-RU" sz="2800" spc="-1" strike="noStrike">
                <a:solidFill>
                  <a:srgbClr val="f43d18"/>
                </a:solidFill>
                <a:latin typeface="Arial"/>
              </a:rPr>
              <a:t>верхня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итка перетягивает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ижню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тляние снизу (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ижня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итка перетягивает </a:t>
            </a:r>
            <a:r>
              <a:rPr b="0" lang="ru-RU" sz="2800" spc="-1" strike="noStrike">
                <a:solidFill>
                  <a:srgbClr val="f43d18"/>
                </a:solidFill>
                <a:latin typeface="Arial"/>
              </a:rPr>
              <a:t>верхню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5148000" cy="8575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250920" y="4724280"/>
            <a:ext cx="5148000" cy="74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338-DDE7-4A2E-B4E9-BFDDACD88B3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Как называется место соединения двух или нескольких дета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Как называется расстояние от строчки до среза дета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ми нитками выполняют все внутренние машинные шв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Что обеспечивает выполнение требований, предъявляемых к машинным работ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нужно делать с временными строчками после выполнения машинной рабо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5950080"/>
            <a:ext cx="649440" cy="50472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389" y="1400"/>
                </a:lnTo>
                <a:lnTo>
                  <a:pt x="1400" y="140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389" y="20200"/>
                </a:lnTo>
                <a:lnTo>
                  <a:pt x="26389" y="140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9" y="2020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9" h="21600">
                <a:moveTo>
                  <a:pt x="6888" y="7493"/>
                </a:moveTo>
                <a:lnTo>
                  <a:pt x="10396" y="7493"/>
                </a:lnTo>
                <a:lnTo>
                  <a:pt x="10396" y="12828"/>
                </a:lnTo>
                <a:cubicBezTo>
                  <a:pt x="10396" y="13751"/>
                  <a:pt x="11196" y="14482"/>
                  <a:pt x="12232" y="14482"/>
                </a:cubicBezTo>
                <a:lnTo>
                  <a:pt x="13895" y="14482"/>
                </a:lnTo>
                <a:cubicBezTo>
                  <a:pt x="14930" y="14482"/>
                  <a:pt x="15731" y="13751"/>
                  <a:pt x="15731" y="12828"/>
                </a:cubicBezTo>
                <a:lnTo>
                  <a:pt x="15731" y="7493"/>
                </a:lnTo>
                <a:lnTo>
                  <a:pt x="13895" y="7493"/>
                </a:lnTo>
                <a:lnTo>
                  <a:pt x="17402" y="3985"/>
                </a:lnTo>
                <a:lnTo>
                  <a:pt x="21075" y="7493"/>
                </a:lnTo>
                <a:lnTo>
                  <a:pt x="19239" y="7493"/>
                </a:lnTo>
                <a:lnTo>
                  <a:pt x="19239" y="12828"/>
                </a:lnTo>
                <a:cubicBezTo>
                  <a:pt x="19239" y="15596"/>
                  <a:pt x="16662" y="18155"/>
                  <a:pt x="13895" y="18155"/>
                </a:cubicBezTo>
                <a:lnTo>
                  <a:pt x="12232" y="18155"/>
                </a:lnTo>
                <a:cubicBezTo>
                  <a:pt x="9464" y="18155"/>
                  <a:pt x="6888" y="15596"/>
                  <a:pt x="6888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B13-A05D-4D75-827F-706E0C90B5F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41292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Намотка ни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на шпульк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авить машину на свободный х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деть катушку на катушечный стерж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мотать на катушку несколько витков ни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деть шпульку на шпиндель мотал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ередвинуть моталку до уп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ести в движение маховое колесо и нитка начнет наматываться на шпуль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10960" y="0"/>
            <a:ext cx="44420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E73-0245-48BB-87D5-107E93FAEC4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Что нужно сделать до начала работы на швейной маши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будете наматывать нитки на шпуль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Для чего необходимо переключать машину на холостой ход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ясните, как это сдел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5950080"/>
            <a:ext cx="865080" cy="709560"/>
          </a:xfrm>
          <a:custGeom>
            <a:avLst/>
            <a:gdLst>
              <a:gd name="textAreaLeft" fmla="*/ 45720 w 865080"/>
              <a:gd name="textAreaRight" fmla="*/ 819360 w 86508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6332" h="21600">
                <a:moveTo>
                  <a:pt x="0" y="0"/>
                </a:moveTo>
                <a:lnTo>
                  <a:pt x="26332" y="0"/>
                </a:lnTo>
                <a:lnTo>
                  <a:pt x="26332" y="21600"/>
                </a:lnTo>
                <a:lnTo>
                  <a:pt x="0" y="21600"/>
                </a:lnTo>
                <a:close/>
              </a:path>
              <a:path fill="lightenLess" w="26332" h="21600">
                <a:moveTo>
                  <a:pt x="0" y="0"/>
                </a:moveTo>
                <a:lnTo>
                  <a:pt x="26332" y="0"/>
                </a:lnTo>
                <a:lnTo>
                  <a:pt x="24932" y="1400"/>
                </a:lnTo>
                <a:lnTo>
                  <a:pt x="1400" y="1400"/>
                </a:lnTo>
                <a:close/>
              </a:path>
              <a:path fill="darken" w="26332" h="21600">
                <a:moveTo>
                  <a:pt x="26332" y="0"/>
                </a:moveTo>
                <a:lnTo>
                  <a:pt x="26332" y="21600"/>
                </a:lnTo>
                <a:lnTo>
                  <a:pt x="24932" y="20200"/>
                </a:lnTo>
                <a:lnTo>
                  <a:pt x="24932" y="1400"/>
                </a:lnTo>
                <a:close/>
              </a:path>
              <a:path fill="darkenLess" w="26332" h="21600">
                <a:moveTo>
                  <a:pt x="26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2" y="20200"/>
                </a:lnTo>
                <a:close/>
              </a:path>
              <a:path fill="lighten" w="26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2" h="21600">
                <a:moveTo>
                  <a:pt x="6159" y="7493"/>
                </a:moveTo>
                <a:lnTo>
                  <a:pt x="9667" y="7493"/>
                </a:lnTo>
                <a:lnTo>
                  <a:pt x="9667" y="12828"/>
                </a:lnTo>
                <a:cubicBezTo>
                  <a:pt x="9667" y="13751"/>
                  <a:pt x="10468" y="14482"/>
                  <a:pt x="11504" y="14482"/>
                </a:cubicBezTo>
                <a:lnTo>
                  <a:pt x="13166" y="14482"/>
                </a:lnTo>
                <a:cubicBezTo>
                  <a:pt x="14202" y="14482"/>
                  <a:pt x="15002" y="13751"/>
                  <a:pt x="15002" y="12828"/>
                </a:cubicBezTo>
                <a:lnTo>
                  <a:pt x="15002" y="7493"/>
                </a:lnTo>
                <a:lnTo>
                  <a:pt x="13166" y="7493"/>
                </a:lnTo>
                <a:lnTo>
                  <a:pt x="16674" y="3985"/>
                </a:lnTo>
                <a:lnTo>
                  <a:pt x="20346" y="7493"/>
                </a:lnTo>
                <a:lnTo>
                  <a:pt x="18510" y="7493"/>
                </a:lnTo>
                <a:lnTo>
                  <a:pt x="18510" y="12828"/>
                </a:lnTo>
                <a:cubicBezTo>
                  <a:pt x="18510" y="15596"/>
                  <a:pt x="15934" y="18155"/>
                  <a:pt x="13166" y="18155"/>
                </a:cubicBezTo>
                <a:lnTo>
                  <a:pt x="11504" y="18155"/>
                </a:lnTo>
                <a:cubicBezTo>
                  <a:pt x="8736" y="18155"/>
                  <a:pt x="6159" y="15596"/>
                  <a:pt x="6159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2B0-812B-4E47-B472-381B8E7D8D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правка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верхней нит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0" r="23623" b="0"/>
          <a:stretch/>
        </p:blipFill>
        <p:spPr>
          <a:xfrm>
            <a:off x="0" y="907920"/>
            <a:ext cx="2519280" cy="5516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rcRect l="0" t="0" r="15132" b="0"/>
          <a:stretch/>
        </p:blipFill>
        <p:spPr>
          <a:xfrm>
            <a:off x="6515280" y="765000"/>
            <a:ext cx="2628720" cy="5373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rcRect l="0" t="0" r="2003" b="7125"/>
          <a:stretch/>
        </p:blipFill>
        <p:spPr>
          <a:xfrm>
            <a:off x="2556000" y="836640"/>
            <a:ext cx="3960720" cy="60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989-57F8-4471-9D54-D320D3D61C7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оследовательность заправ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тавь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шину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 рабочий 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днимите </a:t>
            </a:r>
            <a:r>
              <a:rPr b="0" i="1" lang="ru-RU" sz="2400" spc="-1" strike="noStrike">
                <a:solidFill>
                  <a:srgbClr val="b80cb0"/>
                </a:solidFill>
                <a:latin typeface="Arial"/>
              </a:rPr>
              <a:t>иглу в верхнее 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ставьте катушку с нитками на катушечный стержень и пропустите нитку через прорезь </a:t>
            </a: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нитенаправител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едите </a:t>
            </a: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нитку между шайбами регулятора натяжения верхней нит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ротянув ее за оба конца вверх, а затем в петлю компенсационной пруж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Вденьте нитку в ушко рычага нитепритягивателя и заведите ее за крючок нитенаправителя на фронтовой доске за крючок нитенаправителя на иглодержате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Вставьте </a:t>
            </a: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нитку в ушко иглы со стороны нитенаправите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ставив свободный конец нитки длиной 10-15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1BD-BBA0-46E2-8695-1C1DF75CED6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40000" y="259920"/>
            <a:ext cx="500364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правка </a:t>
            </a: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нижней нит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211640" y="3141720"/>
            <a:ext cx="47052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ро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ночного механ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0546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079-747F-444D-8EA0-658A7B2E960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20960" y="260280"/>
            <a:ext cx="722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тория создания швейной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720" y="2060640"/>
            <a:ext cx="4680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Леонардо да Вин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ложил первый про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вейной машины в кон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15 век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52640" cy="504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4F6-36E0-4BF5-814C-E244A3DBF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66C-E0B4-4190-BC40-658AAE266BB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оследовательность заправки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Вставте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 шпуль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 намотанной ниткой в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шпульный колпачо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Заправьте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нит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д пружинку натяжения нитки шпульного колпачка,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оставив конец длиной 10-15 с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Вставьте шпульный колпачок в челночное устройство.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Палец шпульного колпачка должен войти в прорезь челночного устрой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Если при этом послышится щелчок, то, значит, колпачок со шпулькой установлен прави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Закройте задвижную пластин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выведите нижнюю нитку наверх через отверстие игольной пласти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Концы обеих нито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заведите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назад, под лап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B1E-936E-4A3C-94BA-735ED225713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76500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1.Что  представляет собой рабочее место для выполнения машинных рабо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С чего следует начать подготовку машины к рабо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к установить нипепритягиватель и игловод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4. Как нужно вынимать  шпуль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бъясните, как будете заправлять нит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6. Сколько ниток должно оказаться под лапк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7. Расскажите последовательность заправки верхней ни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Расскажите последовательность заправки нижней ни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9. Для чего необходимо выполнять пробные строч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589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493"/>
                </a:moveTo>
                <a:lnTo>
                  <a:pt x="11580" y="7493"/>
                </a:lnTo>
                <a:lnTo>
                  <a:pt x="11580" y="12828"/>
                </a:lnTo>
                <a:cubicBezTo>
                  <a:pt x="11580" y="13751"/>
                  <a:pt x="12381" y="14482"/>
                  <a:pt x="13417" y="14482"/>
                </a:cubicBezTo>
                <a:lnTo>
                  <a:pt x="15079" y="14482"/>
                </a:lnTo>
                <a:cubicBezTo>
                  <a:pt x="16115" y="14482"/>
                  <a:pt x="16916" y="13751"/>
                  <a:pt x="16916" y="12828"/>
                </a:cubicBezTo>
                <a:lnTo>
                  <a:pt x="16916" y="7493"/>
                </a:lnTo>
                <a:lnTo>
                  <a:pt x="15079" y="7493"/>
                </a:lnTo>
                <a:lnTo>
                  <a:pt x="18587" y="3985"/>
                </a:lnTo>
                <a:lnTo>
                  <a:pt x="22260" y="7493"/>
                </a:lnTo>
                <a:lnTo>
                  <a:pt x="20423" y="7493"/>
                </a:lnTo>
                <a:lnTo>
                  <a:pt x="20423" y="12828"/>
                </a:lnTo>
                <a:cubicBezTo>
                  <a:pt x="20423" y="15596"/>
                  <a:pt x="17847" y="18155"/>
                  <a:pt x="15079" y="18155"/>
                </a:cubicBezTo>
                <a:lnTo>
                  <a:pt x="13417" y="18155"/>
                </a:lnTo>
                <a:cubicBezTo>
                  <a:pt x="10649" y="18155"/>
                  <a:pt x="8073" y="15596"/>
                  <a:pt x="8073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FBF-75A6-474D-BD3D-FFD0C488ACD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ы швейной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егулятор натяжения верхней н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Регулятор натяжения нижней н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тор длины стеж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172360" y="2133720"/>
            <a:ext cx="432000" cy="3585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6020" h="21600">
                <a:moveTo>
                  <a:pt x="0" y="0"/>
                </a:moveTo>
                <a:lnTo>
                  <a:pt x="26020" y="0"/>
                </a:lnTo>
                <a:lnTo>
                  <a:pt x="26020" y="21600"/>
                </a:lnTo>
                <a:lnTo>
                  <a:pt x="0" y="21600"/>
                </a:lnTo>
                <a:close/>
              </a:path>
              <a:path fill="lightenLess" w="26020" h="21600">
                <a:moveTo>
                  <a:pt x="0" y="0"/>
                </a:moveTo>
                <a:lnTo>
                  <a:pt x="26020" y="0"/>
                </a:lnTo>
                <a:lnTo>
                  <a:pt x="24620" y="1400"/>
                </a:lnTo>
                <a:lnTo>
                  <a:pt x="1400" y="1400"/>
                </a:lnTo>
                <a:close/>
              </a:path>
              <a:path fill="darken" w="26020" h="21600">
                <a:moveTo>
                  <a:pt x="26020" y="0"/>
                </a:moveTo>
                <a:lnTo>
                  <a:pt x="26020" y="21600"/>
                </a:lnTo>
                <a:lnTo>
                  <a:pt x="24620" y="20200"/>
                </a:lnTo>
                <a:lnTo>
                  <a:pt x="24620" y="1400"/>
                </a:lnTo>
                <a:close/>
              </a:path>
              <a:path fill="darkenLess" w="26020" h="21600">
                <a:moveTo>
                  <a:pt x="26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0" y="20200"/>
                </a:lnTo>
                <a:close/>
              </a:path>
              <a:path fill="lighten" w="26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20" h="21600">
                <a:moveTo>
                  <a:pt x="6003" y="3794"/>
                </a:moveTo>
                <a:lnTo>
                  <a:pt x="20016" y="10800"/>
                </a:lnTo>
                <a:lnTo>
                  <a:pt x="600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72360" y="3284640"/>
            <a:ext cx="432000" cy="3585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6020" h="21600">
                <a:moveTo>
                  <a:pt x="0" y="0"/>
                </a:moveTo>
                <a:lnTo>
                  <a:pt x="26020" y="0"/>
                </a:lnTo>
                <a:lnTo>
                  <a:pt x="26020" y="21600"/>
                </a:lnTo>
                <a:lnTo>
                  <a:pt x="0" y="21600"/>
                </a:lnTo>
                <a:close/>
              </a:path>
              <a:path fill="lightenLess" w="26020" h="21600">
                <a:moveTo>
                  <a:pt x="0" y="0"/>
                </a:moveTo>
                <a:lnTo>
                  <a:pt x="26020" y="0"/>
                </a:lnTo>
                <a:lnTo>
                  <a:pt x="24620" y="1400"/>
                </a:lnTo>
                <a:lnTo>
                  <a:pt x="1400" y="1400"/>
                </a:lnTo>
                <a:close/>
              </a:path>
              <a:path fill="darken" w="26020" h="21600">
                <a:moveTo>
                  <a:pt x="26020" y="0"/>
                </a:moveTo>
                <a:lnTo>
                  <a:pt x="26020" y="21600"/>
                </a:lnTo>
                <a:lnTo>
                  <a:pt x="24620" y="20200"/>
                </a:lnTo>
                <a:lnTo>
                  <a:pt x="24620" y="1400"/>
                </a:lnTo>
                <a:close/>
              </a:path>
              <a:path fill="darkenLess" w="26020" h="21600">
                <a:moveTo>
                  <a:pt x="26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0" y="20200"/>
                </a:lnTo>
                <a:close/>
              </a:path>
              <a:path fill="lighten" w="26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20" h="21600">
                <a:moveTo>
                  <a:pt x="6003" y="3794"/>
                </a:moveTo>
                <a:lnTo>
                  <a:pt x="20016" y="10800"/>
                </a:lnTo>
                <a:lnTo>
                  <a:pt x="600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72360" y="4292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3794"/>
                </a:moveTo>
                <a:lnTo>
                  <a:pt x="19995" y="10800"/>
                </a:lnTo>
                <a:lnTo>
                  <a:pt x="5982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B5D-2DB4-4168-8047-CA3FC06DE73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 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верхней ни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4720" cy="3848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788000" cy="37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B33-3E3B-4FBE-A3B9-851795C5B3D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604000" cy="568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F93-5D53-40C2-8048-191027BD403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888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 </a:t>
            </a: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нижней ни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692360" y="1335240"/>
            <a:ext cx="583236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1EF-A3B6-49BA-9134-64EE9E4A6F7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 длины стежк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42160" cy="50068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198-C769-4785-B736-064FF031F54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 длины стеж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ина стежка машинной строчки зависит  от  места расположения положения рычага регулятора на шка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тный ход машины используют при выполнении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машинной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закреп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74600" y="1268280"/>
            <a:ext cx="4791240" cy="558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988-61EA-4A7A-BC0C-FB6F9FFF02D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Где расположен регулятор натяжения верхней нит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де расположен регулятор натяжения нижней нит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Где расположен регулятор длины стежка на швейной маши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применяют обратный ход швейной маши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87280" y="595008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7493"/>
                </a:moveTo>
                <a:lnTo>
                  <a:pt x="7307" y="7493"/>
                </a:lnTo>
                <a:lnTo>
                  <a:pt x="7307" y="12828"/>
                </a:lnTo>
                <a:cubicBezTo>
                  <a:pt x="7307" y="13751"/>
                  <a:pt x="8108" y="14482"/>
                  <a:pt x="9144" y="14482"/>
                </a:cubicBezTo>
                <a:lnTo>
                  <a:pt x="10806" y="14482"/>
                </a:lnTo>
                <a:cubicBezTo>
                  <a:pt x="11842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6" y="7493"/>
                </a:lnTo>
                <a:lnTo>
                  <a:pt x="14314" y="3985"/>
                </a:lnTo>
                <a:lnTo>
                  <a:pt x="17987" y="7493"/>
                </a:lnTo>
                <a:lnTo>
                  <a:pt x="16150" y="7493"/>
                </a:lnTo>
                <a:lnTo>
                  <a:pt x="16150" y="12828"/>
                </a:lnTo>
                <a:cubicBezTo>
                  <a:pt x="16150" y="15596"/>
                  <a:pt x="13574" y="18155"/>
                  <a:pt x="10806" y="18155"/>
                </a:cubicBezTo>
                <a:lnTo>
                  <a:pt x="9144" y="18155"/>
                </a:lnTo>
                <a:cubicBezTo>
                  <a:pt x="6376" y="18155"/>
                  <a:pt x="3800" y="15596"/>
                  <a:pt x="3800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68D-668F-4CF5-A8F0-DB856389D89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31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1755 г Карл Вейзента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зобрел швейную машину, в которой использовалась игла с ушком посеред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1808 г Д. Пир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зобрел машину, в основе работы которой лежал принцип получения однониточного цепного стеж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1834 г Уолтер Ха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зобрел иглу с уш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заостренном конце и челночное устрой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1844-1845 г Элиот Х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здал стабильно работающую швейную маш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842-8DCA-425A-8B48-B645AFD21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тройство и установка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швейной иг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839960" y="1557360"/>
            <a:ext cx="4464000" cy="530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347-497C-4742-83F7-E2C0834B5AE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395280" y="1905120"/>
          <a:ext cx="8450280" cy="4822560"/>
        </p:xfrm>
        <a:graphic>
          <a:graphicData uri="http://schemas.openxmlformats.org/drawingml/2006/table">
            <a:tbl>
              <a:tblPr/>
              <a:tblGrid>
                <a:gridCol w="2016000"/>
                <a:gridCol w="2132280"/>
                <a:gridCol w="2146320"/>
                <a:gridCol w="21556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ид матери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Номер иг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en-US" sz="18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омер ни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лопчатобумаж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шелков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Тонкий шелк, бат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итец, сатин, шелк, бельевые тка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80- 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 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Тяжелая хлопчатобумажная ткань, бязь, фланель, тонкая шерстяная ткань, тяжелый толстый шелк, простынное полот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90-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 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Шерстяная костюмная ткань, т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Толстая шерстяная ткань, сук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О-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дбор номеров машинной иглы и швейных ниток в зависимости от вида ткан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6AC-AA93-46CB-B6D5-483AFCC58FD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ие части имеет швейная иг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Почему конец иглы должен быть остр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необходимо ушко игл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 подбирают иглу и нитки для выполнения машинных рабо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служит винт на иглодержател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6021360"/>
            <a:ext cx="648000" cy="5763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83" h="21600">
                <a:moveTo>
                  <a:pt x="0" y="0"/>
                </a:moveTo>
                <a:lnTo>
                  <a:pt x="24283" y="0"/>
                </a:lnTo>
                <a:lnTo>
                  <a:pt x="24283" y="21600"/>
                </a:lnTo>
                <a:lnTo>
                  <a:pt x="0" y="21600"/>
                </a:lnTo>
                <a:close/>
              </a:path>
              <a:path fill="lightenLess" w="24283" h="21600">
                <a:moveTo>
                  <a:pt x="0" y="0"/>
                </a:moveTo>
                <a:lnTo>
                  <a:pt x="24283" y="0"/>
                </a:lnTo>
                <a:lnTo>
                  <a:pt x="22883" y="1400"/>
                </a:lnTo>
                <a:lnTo>
                  <a:pt x="1400" y="1400"/>
                </a:lnTo>
                <a:close/>
              </a:path>
              <a:path fill="darken" w="24283" h="21600">
                <a:moveTo>
                  <a:pt x="24283" y="0"/>
                </a:moveTo>
                <a:lnTo>
                  <a:pt x="24283" y="21600"/>
                </a:lnTo>
                <a:lnTo>
                  <a:pt x="22883" y="20200"/>
                </a:lnTo>
                <a:lnTo>
                  <a:pt x="22883" y="1400"/>
                </a:lnTo>
                <a:close/>
              </a:path>
              <a:path fill="darkenLess" w="24283" h="21600">
                <a:moveTo>
                  <a:pt x="24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3" y="20200"/>
                </a:lnTo>
                <a:close/>
              </a:path>
              <a:path fill="lighten" w="24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3" h="21600">
                <a:moveTo>
                  <a:pt x="5135" y="7493"/>
                </a:moveTo>
                <a:lnTo>
                  <a:pt x="8643" y="7493"/>
                </a:lnTo>
                <a:lnTo>
                  <a:pt x="8643" y="12828"/>
                </a:lnTo>
                <a:cubicBezTo>
                  <a:pt x="8643" y="13751"/>
                  <a:pt x="9443" y="14482"/>
                  <a:pt x="10479" y="14482"/>
                </a:cubicBezTo>
                <a:lnTo>
                  <a:pt x="12142" y="14482"/>
                </a:lnTo>
                <a:cubicBezTo>
                  <a:pt x="13177" y="14482"/>
                  <a:pt x="13978" y="13751"/>
                  <a:pt x="13978" y="12828"/>
                </a:cubicBezTo>
                <a:lnTo>
                  <a:pt x="13978" y="7493"/>
                </a:lnTo>
                <a:lnTo>
                  <a:pt x="12142" y="7493"/>
                </a:lnTo>
                <a:lnTo>
                  <a:pt x="15649" y="3985"/>
                </a:lnTo>
                <a:lnTo>
                  <a:pt x="19322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09" y="18155"/>
                  <a:pt x="12142" y="18155"/>
                </a:cubicBezTo>
                <a:lnTo>
                  <a:pt x="10479" y="18155"/>
                </a:lnTo>
                <a:cubicBezTo>
                  <a:pt x="7711" y="18155"/>
                  <a:pt x="5135" y="15596"/>
                  <a:pt x="5135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266-9425-40B4-A35E-15DDD6E07B5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Уход за швейной машино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772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Уход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за швейной машиной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заключаетс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 своевременной её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чистке, смазке и налад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тка и смазка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сохраняю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етали от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полом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быстрого изно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способствуют устранению ряда неполад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шину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сначала чистя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т обрывок ниток и пы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174-AD92-4F36-9B7D-3FBF8700A76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219640" y="549000"/>
            <a:ext cx="36259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Смазываю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 - 3 каплям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 специальной масленки чистым, прозрачны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машинным масл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смотри схему смазки швейной маш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2410920" y="-1827360"/>
            <a:ext cx="8385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64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3BF-D544-42B6-BFF0-2B508C5D6CF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В чем заключается уход за швейной машин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Каким маслом смазывают детали швейной маш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к швейной машине надо относится береж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Для чего по окончании работы необходимо подложить под лапку ткань и опустить лап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587700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3794" y="8711"/>
                </a:moveTo>
                <a:lnTo>
                  <a:pt x="7301" y="8711"/>
                </a:lnTo>
                <a:lnTo>
                  <a:pt x="7301" y="14046"/>
                </a:lnTo>
                <a:cubicBezTo>
                  <a:pt x="7301" y="14969"/>
                  <a:pt x="8102" y="15700"/>
                  <a:pt x="9138" y="15700"/>
                </a:cubicBezTo>
                <a:lnTo>
                  <a:pt x="10800" y="15700"/>
                </a:lnTo>
                <a:cubicBezTo>
                  <a:pt x="11836" y="15700"/>
                  <a:pt x="12636" y="14969"/>
                  <a:pt x="12636" y="14046"/>
                </a:cubicBezTo>
                <a:lnTo>
                  <a:pt x="12636" y="8711"/>
                </a:lnTo>
                <a:lnTo>
                  <a:pt x="10800" y="8711"/>
                </a:lnTo>
                <a:lnTo>
                  <a:pt x="14308" y="5203"/>
                </a:lnTo>
                <a:lnTo>
                  <a:pt x="17981" y="8711"/>
                </a:lnTo>
                <a:lnTo>
                  <a:pt x="16144" y="8711"/>
                </a:lnTo>
                <a:lnTo>
                  <a:pt x="16144" y="14046"/>
                </a:lnTo>
                <a:cubicBezTo>
                  <a:pt x="16144" y="16814"/>
                  <a:pt x="13568" y="19373"/>
                  <a:pt x="10800" y="19373"/>
                </a:cubicBezTo>
                <a:lnTo>
                  <a:pt x="9138" y="19373"/>
                </a:lnTo>
                <a:cubicBezTo>
                  <a:pt x="6370" y="19373"/>
                  <a:pt x="3794" y="16814"/>
                  <a:pt x="3794" y="14046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74E-08C1-4B55-99DF-BD63CEA183F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способ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27640" y="1628280"/>
            <a:ext cx="261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ранич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ьная лине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0" y="1407960"/>
            <a:ext cx="5796000" cy="47516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940360" y="3573360"/>
            <a:ext cx="2830680" cy="26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C39-96FF-4215-8065-34E8E66A818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ЛЯ ПАРАЛЛЕЛЬНЫХ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СТРОЧ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02680" cy="41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663-B42E-435F-B50A-E99FE850913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87640" y="1267920"/>
            <a:ext cx="23288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пка –запошиват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6443640" cy="4953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675160" cy="26748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450800" cy="14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0C1-2C01-4B40-B993-8B3E25F961B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11640" y="836280"/>
            <a:ext cx="2833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а - руби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9280" y="1150920"/>
            <a:ext cx="5472360" cy="5068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732720" y="3860640"/>
            <a:ext cx="1450800" cy="14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31D-5313-4888-ACCB-5B196112B6F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1280" y="4941720"/>
            <a:ext cx="800712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b80cb0"/>
                </a:solidFill>
                <a:latin typeface="Arial"/>
              </a:rPr>
              <a:t>1850-1851 Ален Вильсон и Исаак Зинг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ли современную швейную маш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664000" cy="2278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3203640" cy="2767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59280" y="0"/>
            <a:ext cx="3143160" cy="2252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rcRect l="0" t="0" r="46766" b="-1827"/>
          <a:stretch/>
        </p:blipFill>
        <p:spPr>
          <a:xfrm>
            <a:off x="179280" y="0"/>
            <a:ext cx="2808360" cy="237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rcRect l="57051" t="-2183" r="0" b="0"/>
          <a:stretch/>
        </p:blipFill>
        <p:spPr>
          <a:xfrm>
            <a:off x="3059280" y="-171360"/>
            <a:ext cx="3314520" cy="2663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250920" y="2133720"/>
            <a:ext cx="3816360" cy="2813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7524720" y="189000"/>
            <a:ext cx="1295280" cy="96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894-94E3-4DEA-8CFB-B5094BB05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56360" y="980640"/>
            <a:ext cx="2617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а д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ш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л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79280" y="777960"/>
            <a:ext cx="6048360" cy="4979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2103480" cy="24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5A2-6CAB-4D54-8651-A7FDDC1AB7D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5866920" y="1413000"/>
            <a:ext cx="29782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а для выполнения сбо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борочни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5833800" cy="50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1EE-6CAF-4C67-A215-0307613CA10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5795640" y="1341000"/>
            <a:ext cx="30970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а для настрач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сь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6119640" cy="46623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8F8-1027-4713-82C8-EA0F704B60E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АПКА ДЛЯ ПЕТ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98508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038-190C-4647-B6BB-36E6A04972C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3772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Для чего применяют приспособления для швейных маши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применяют направляющие линей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Для чего применяют лапку-запошивате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какого шва применяют лапку-рубильн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71640" y="5805360"/>
            <a:ext cx="718920" cy="692280"/>
          </a:xfrm>
          <a:custGeom>
            <a:avLst/>
            <a:gdLst>
              <a:gd name="textAreaLeft" fmla="*/ 44640 w 718920"/>
              <a:gd name="textAreaRight" fmla="*/ 674280 w 718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31" h="21600">
                <a:moveTo>
                  <a:pt x="0" y="0"/>
                </a:moveTo>
                <a:lnTo>
                  <a:pt x="22431" y="0"/>
                </a:lnTo>
                <a:lnTo>
                  <a:pt x="22431" y="21600"/>
                </a:lnTo>
                <a:lnTo>
                  <a:pt x="0" y="21600"/>
                </a:lnTo>
                <a:close/>
              </a:path>
              <a:path fill="lightenLess" w="22431" h="21600">
                <a:moveTo>
                  <a:pt x="0" y="0"/>
                </a:moveTo>
                <a:lnTo>
                  <a:pt x="22431" y="0"/>
                </a:lnTo>
                <a:lnTo>
                  <a:pt x="21031" y="1400"/>
                </a:lnTo>
                <a:lnTo>
                  <a:pt x="1400" y="1400"/>
                </a:lnTo>
                <a:close/>
              </a:path>
              <a:path fill="darken" w="22431" h="21600">
                <a:moveTo>
                  <a:pt x="22431" y="0"/>
                </a:moveTo>
                <a:lnTo>
                  <a:pt x="22431" y="21600"/>
                </a:lnTo>
                <a:lnTo>
                  <a:pt x="21031" y="20200"/>
                </a:lnTo>
                <a:lnTo>
                  <a:pt x="21031" y="1400"/>
                </a:lnTo>
                <a:close/>
              </a:path>
              <a:path fill="darkenLess" w="22431" h="21600">
                <a:moveTo>
                  <a:pt x="22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31" y="20200"/>
                </a:lnTo>
                <a:close/>
              </a:path>
              <a:path fill="lighten" w="22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31" h="21600">
                <a:moveTo>
                  <a:pt x="4209" y="7493"/>
                </a:moveTo>
                <a:lnTo>
                  <a:pt x="7716" y="7493"/>
                </a:lnTo>
                <a:lnTo>
                  <a:pt x="7716" y="12828"/>
                </a:lnTo>
                <a:cubicBezTo>
                  <a:pt x="7716" y="13751"/>
                  <a:pt x="8517" y="14482"/>
                  <a:pt x="9553" y="14482"/>
                </a:cubicBezTo>
                <a:lnTo>
                  <a:pt x="11215" y="14482"/>
                </a:lnTo>
                <a:cubicBezTo>
                  <a:pt x="12251" y="14482"/>
                  <a:pt x="13052" y="13751"/>
                  <a:pt x="13052" y="12828"/>
                </a:cubicBezTo>
                <a:lnTo>
                  <a:pt x="13052" y="7493"/>
                </a:lnTo>
                <a:lnTo>
                  <a:pt x="11215" y="7493"/>
                </a:lnTo>
                <a:lnTo>
                  <a:pt x="14723" y="3985"/>
                </a:lnTo>
                <a:lnTo>
                  <a:pt x="18396" y="7493"/>
                </a:lnTo>
                <a:lnTo>
                  <a:pt x="16559" y="7493"/>
                </a:lnTo>
                <a:lnTo>
                  <a:pt x="16559" y="12828"/>
                </a:lnTo>
                <a:cubicBezTo>
                  <a:pt x="16559" y="15596"/>
                  <a:pt x="13983" y="18155"/>
                  <a:pt x="11215" y="18155"/>
                </a:cubicBezTo>
                <a:lnTo>
                  <a:pt x="9553" y="18155"/>
                </a:lnTo>
                <a:cubicBezTo>
                  <a:pt x="6785" y="18155"/>
                  <a:pt x="4209" y="15596"/>
                  <a:pt x="4209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C13-2A5B-4D5C-8DA3-C4E76AB22A3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ое швейное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производ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5157720"/>
            <a:ext cx="800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ладирование тка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троль с помощью разбраковочных ма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30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A59-0956-40B4-9467-8B10B2BBF97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0560" y="3933360"/>
            <a:ext cx="87138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тилание тканей с помощью настилочных ма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екание настила на части с помощью электрораскройных ма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нчательное вырезание деталей на ленточных раскройных маши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07272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705-0BE5-4958-B7F5-987B41E5B49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Транспортировка готовых издели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4360" y="4508280"/>
            <a:ext cx="8007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итье одежды:  обработка деталей, узлов и их соединение в целое издел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она влажно-тепловой обработки швейных изделий на гладильных прес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2144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ABD-317F-4633-AC22-9FD83EECF8C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55280" y="4508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ончательная отделка готовых изделий в паровоздушных камер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9308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DE2-8668-42EA-9861-83E07D5B35C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4360" y="5013360"/>
            <a:ext cx="80071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анение готовой про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24720" cy="351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BC1-0630-4CEF-8DBB-42B962D6A35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b80cb0"/>
                </a:solidFill>
                <a:latin typeface="Arial"/>
              </a:rPr>
              <a:t>1900 г в Росс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.Зингер основал завод 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Подольске, который после 1917 г был переименован в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ольский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хан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од (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 ПМ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3888000" cy="417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281772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47C-E332-48C2-9ACC-3AD05EF9EB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бочие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77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ОПЕРАТОР ШВЕЙНОГО ОБОРУДОВАНИЯ (шве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ОРТ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ЗАКРОЙ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КОНТРОЛЕР ТКА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чие этих специальностей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должны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знат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ройство и назначение швейных маши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выполнять правила безопасного тру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владеть приемами современной технологической обработки деталей и швейных узл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знать последовательность изготовления швейных изде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E9C-EA2F-4BAA-BB1B-01CB7A66C4C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85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215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Какие предприятия выполняют массовый пошив тка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редприятия занимаются индивидуальным производством одеж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Чем отличается массовый пошив от индивидуальн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виды работ выполняют в цех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ие виды швейных машин используются на швейном производств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433-DCD4-4E30-B2AB-DF3F6D40E84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опросы для закрепления 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Рабочие профессии</a:t>
            </a: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Люди каких профессий трудятся на швейном производств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профессии швейного производ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Что должны знать рабочие швейных специальност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6920" y="5734080"/>
            <a:ext cx="648000" cy="71928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75">
                <a:moveTo>
                  <a:pt x="0" y="0"/>
                </a:moveTo>
                <a:lnTo>
                  <a:pt x="21600" y="0"/>
                </a:lnTo>
                <a:lnTo>
                  <a:pt x="21600" y="23975"/>
                </a:lnTo>
                <a:lnTo>
                  <a:pt x="0" y="23975"/>
                </a:lnTo>
                <a:close/>
              </a:path>
              <a:path fill="lightenLess" w="21600" h="23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5">
                <a:moveTo>
                  <a:pt x="21600" y="0"/>
                </a:moveTo>
                <a:lnTo>
                  <a:pt x="21600" y="23975"/>
                </a:lnTo>
                <a:lnTo>
                  <a:pt x="20200" y="22575"/>
                </a:lnTo>
                <a:lnTo>
                  <a:pt x="20200" y="1400"/>
                </a:lnTo>
                <a:close/>
              </a:path>
              <a:path fill="darkenLess" w="21600" h="23975">
                <a:moveTo>
                  <a:pt x="21600" y="23975"/>
                </a:moveTo>
                <a:lnTo>
                  <a:pt x="0" y="23975"/>
                </a:lnTo>
                <a:lnTo>
                  <a:pt x="1400" y="22575"/>
                </a:lnTo>
                <a:lnTo>
                  <a:pt x="20200" y="22575"/>
                </a:lnTo>
                <a:close/>
              </a:path>
              <a:path fill="lighten" w="21600" h="23975">
                <a:moveTo>
                  <a:pt x="0" y="23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5"/>
                </a:lnTo>
                <a:close/>
              </a:path>
              <a:path fill="darken" w="21600" h="23975">
                <a:moveTo>
                  <a:pt x="3794" y="8680"/>
                </a:moveTo>
                <a:lnTo>
                  <a:pt x="7301" y="8680"/>
                </a:lnTo>
                <a:lnTo>
                  <a:pt x="7301" y="14015"/>
                </a:lnTo>
                <a:cubicBezTo>
                  <a:pt x="7301" y="14938"/>
                  <a:pt x="8102" y="15669"/>
                  <a:pt x="9138" y="15669"/>
                </a:cubicBezTo>
                <a:lnTo>
                  <a:pt x="10800" y="15669"/>
                </a:lnTo>
                <a:cubicBezTo>
                  <a:pt x="11836" y="15669"/>
                  <a:pt x="12636" y="14938"/>
                  <a:pt x="12636" y="14015"/>
                </a:cubicBezTo>
                <a:lnTo>
                  <a:pt x="12636" y="8680"/>
                </a:lnTo>
                <a:lnTo>
                  <a:pt x="10800" y="8680"/>
                </a:lnTo>
                <a:lnTo>
                  <a:pt x="14308" y="5172"/>
                </a:lnTo>
                <a:lnTo>
                  <a:pt x="17981" y="8680"/>
                </a:lnTo>
                <a:lnTo>
                  <a:pt x="16144" y="8680"/>
                </a:lnTo>
                <a:lnTo>
                  <a:pt x="16144" y="14015"/>
                </a:lnTo>
                <a:cubicBezTo>
                  <a:pt x="16144" y="16783"/>
                  <a:pt x="13568" y="19342"/>
                  <a:pt x="10800" y="19342"/>
                </a:cubicBezTo>
                <a:lnTo>
                  <a:pt x="9138" y="19342"/>
                </a:lnTo>
                <a:cubicBezTo>
                  <a:pt x="6370" y="19342"/>
                  <a:pt x="3794" y="16783"/>
                  <a:pt x="3794" y="14015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513-4A13-4410-B619-A83312F50D8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80cb0"/>
                </a:solidFill>
                <a:latin typeface="Arial"/>
              </a:rPr>
              <a:t>Кто предложил первый проект швейной маши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Кто и в каком году изобрел двухниточную швейную машин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году и где был основан в России первый завод по сборке швейных маши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ово различие по внешнему виду первых машин и современны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5877000"/>
            <a:ext cx="792360" cy="782640"/>
          </a:xfrm>
          <a:custGeom>
            <a:avLst/>
            <a:gdLst>
              <a:gd name="textAreaLeft" fmla="*/ 50400 w 792360"/>
              <a:gd name="textAreaRight" fmla="*/ 741960 w 79236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21868" h="21600">
                <a:moveTo>
                  <a:pt x="0" y="0"/>
                </a:moveTo>
                <a:lnTo>
                  <a:pt x="21868" y="0"/>
                </a:lnTo>
                <a:lnTo>
                  <a:pt x="21868" y="21600"/>
                </a:lnTo>
                <a:lnTo>
                  <a:pt x="0" y="21600"/>
                </a:lnTo>
                <a:close/>
              </a:path>
              <a:path fill="lightenLess" w="21868" h="21600">
                <a:moveTo>
                  <a:pt x="0" y="0"/>
                </a:moveTo>
                <a:lnTo>
                  <a:pt x="21868" y="0"/>
                </a:lnTo>
                <a:lnTo>
                  <a:pt x="20468" y="1400"/>
                </a:lnTo>
                <a:lnTo>
                  <a:pt x="1400" y="1400"/>
                </a:lnTo>
                <a:close/>
              </a:path>
              <a:path fill="darken" w="21868" h="21600">
                <a:moveTo>
                  <a:pt x="21868" y="0"/>
                </a:moveTo>
                <a:lnTo>
                  <a:pt x="21868" y="21600"/>
                </a:lnTo>
                <a:lnTo>
                  <a:pt x="20468" y="20200"/>
                </a:lnTo>
                <a:lnTo>
                  <a:pt x="20468" y="1400"/>
                </a:lnTo>
                <a:close/>
              </a:path>
              <a:path fill="darkenLess" w="21868" h="21600">
                <a:moveTo>
                  <a:pt x="21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68" y="20200"/>
                </a:lnTo>
                <a:close/>
              </a:path>
              <a:path fill="lighten" w="21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8" h="21600">
                <a:moveTo>
                  <a:pt x="3928" y="7493"/>
                </a:moveTo>
                <a:lnTo>
                  <a:pt x="7435" y="7493"/>
                </a:lnTo>
                <a:lnTo>
                  <a:pt x="7435" y="12828"/>
                </a:lnTo>
                <a:cubicBezTo>
                  <a:pt x="7435" y="13751"/>
                  <a:pt x="8236" y="14482"/>
                  <a:pt x="9272" y="14482"/>
                </a:cubicBezTo>
                <a:lnTo>
                  <a:pt x="10934" y="14482"/>
                </a:lnTo>
                <a:cubicBezTo>
                  <a:pt x="11970" y="14482"/>
                  <a:pt x="12771" y="13751"/>
                  <a:pt x="12771" y="12828"/>
                </a:cubicBezTo>
                <a:lnTo>
                  <a:pt x="12771" y="7493"/>
                </a:lnTo>
                <a:lnTo>
                  <a:pt x="10934" y="7493"/>
                </a:lnTo>
                <a:lnTo>
                  <a:pt x="14442" y="3985"/>
                </a:lnTo>
                <a:lnTo>
                  <a:pt x="18115" y="7493"/>
                </a:lnTo>
                <a:lnTo>
                  <a:pt x="16278" y="7493"/>
                </a:lnTo>
                <a:lnTo>
                  <a:pt x="16278" y="12828"/>
                </a:lnTo>
                <a:cubicBezTo>
                  <a:pt x="16278" y="15596"/>
                  <a:pt x="13702" y="18155"/>
                  <a:pt x="10934" y="18155"/>
                </a:cubicBezTo>
                <a:lnTo>
                  <a:pt x="9272" y="18155"/>
                </a:lnTo>
                <a:cubicBezTo>
                  <a:pt x="6504" y="18155"/>
                  <a:pt x="3928" y="15596"/>
                  <a:pt x="3928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F7A-C6A3-422C-AC3E-D0E9CF55B1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5:29:07Z</dcterms:created>
  <dc:creator>Первитская И.В.</dc:creator>
  <dc:description/>
  <dc:language>en-US</dc:language>
  <cp:lastModifiedBy>SamLab.ws</cp:lastModifiedBy>
  <dcterms:modified xsi:type="dcterms:W3CDTF">2009-11-27T06:09:03Z</dcterms:modified>
  <cp:revision>50</cp:revision>
  <dc:subject/>
  <dc:title>     ЭЛЕМЕНТЫ МАШИНОВЕДЕНИЯ</dc:title>
</cp:coreProperties>
</file>