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.jpeg" ContentType="image/jpeg"/>
  <Override PartName="/ppt/media/image36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15.jpeg" ContentType="image/jpeg"/>
  <Override PartName="/ppt/media/image20.jpeg" ContentType="image/jpeg"/>
  <Override PartName="/ppt/media/image51.jpeg" ContentType="image/jpeg"/>
  <Override PartName="/ppt/media/image21.jpeg" ContentType="image/jpeg"/>
  <Override PartName="/ppt/media/image19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39.jpeg" ContentType="image/jpeg"/>
  <Override PartName="/ppt/media/image64.jpeg" ContentType="image/jpeg"/>
  <Override PartName="/ppt/media/image3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24.jpeg" ContentType="image/jpeg"/>
  <Override PartName="/ppt/media/image25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4.jpeg" ContentType="image/jpeg"/>
  <Override PartName="/ppt/media/image41.jpeg" ContentType="image/jpeg"/>
  <Override PartName="/ppt/media/image8.png" ContentType="image/png"/>
  <Override PartName="/ppt/media/image23.jpeg" ContentType="image/jpeg"/>
  <Override PartName="/ppt/media/image26.jpeg" ContentType="image/jpeg"/>
  <Override PartName="/ppt/media/image7.gif" ContentType="image/gif"/>
  <Override PartName="/ppt/media/image52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  <p:custShowLst>
    <p:custShow name="Понятие машина" id="0">
      <p:sldLst>
        <p:sld r:id="rId6"/>
        <p:sld r:id="rId7"/>
      </p:sldLst>
    </p:custShow>
    <p:custShow name="история" id="1">
      <p:sldLst>
        <p:sld r:id="rId8"/>
        <p:sld r:id="rId9"/>
        <p:sld r:id="rId10"/>
        <p:sld r:id="rId11"/>
      </p:sldLst>
    </p:custShow>
    <p:custShow name="Виды швейных машин" id="2">
      <p:sldLst>
        <p:sld r:id="rId13"/>
      </p:sldLst>
    </p:custShow>
    <p:custShow name="Основные механизмы" id="3">
      <p:sldLst>
        <p:sld r:id="rId28"/>
        <p:sld r:id="rId29"/>
        <p:sld r:id="rId30"/>
        <p:sld r:id="rId31"/>
        <p:sld r:id="rId32"/>
        <p:sld r:id="rId33"/>
      </p:sldLst>
    </p:custShow>
    <p:custShow name="приводы" id="4">
      <p:sldLst>
        <p:sld r:id="rId35"/>
        <p:sld r:id="rId36"/>
        <p:sld r:id="rId37"/>
        <p:sld r:id="rId38"/>
        <p:sld r:id="rId39"/>
      </p:sldLst>
    </p:custShow>
    <p:custShow name="Машинные строчки" id="5">
      <p:sldLst>
        <p:sld r:id="rId41"/>
        <p:sld r:id="rId42"/>
        <p:sld r:id="rId43"/>
        <p:sld r:id="rId45"/>
        <p:sld r:id="rId44"/>
        <p:sld r:id="rId46"/>
      </p:sldLst>
    </p:custShow>
    <p:custShow name="Заправка верхней нитки" id="6">
      <p:sldLst>
        <p:sld r:id="rId50"/>
        <p:sld r:id="rId51"/>
      </p:sldLst>
    </p:custShow>
    <p:custShow name="моталка" id="7">
      <p:sldLst>
        <p:sld r:id="rId48"/>
      </p:sldLst>
    </p:custShow>
    <p:custShow name="нижняя нитка" id="8">
      <p:sldLst>
        <p:sld r:id="rId52"/>
        <p:sld r:id="rId53"/>
        <p:sld r:id="rId54"/>
      </p:sldLst>
    </p:custShow>
    <p:custShow name="регуляторы" id="9">
      <p:sldLst>
        <p:sld r:id="rId56"/>
      </p:sldLst>
    </p:custShow>
    <p:custShow name="верхняя нить" id="10">
      <p:sldLst>
        <p:sld r:id="rId57"/>
        <p:sld r:id="rId58"/>
      </p:sldLst>
    </p:custShow>
    <p:custShow name="регулятор нижней нити" id="11">
      <p:sldLst>
        <p:sld r:id="rId59"/>
        <p:sld r:id="rId46"/>
      </p:sldLst>
    </p:custShow>
    <p:custShow name="регулятор длины стежка" id="12">
      <p:sldLst>
        <p:sld r:id="rId61"/>
      </p:sldLst>
    </p:custShow>
    <p:custShow name="игла" id="13">
      <p:sldLst>
        <p:sld r:id="rId63"/>
        <p:sld r:id="rId64"/>
      </p:sldLst>
    </p:custShow>
    <p:custShow name="уход" id="14">
      <p:sldLst>
        <p:sld r:id="rId66"/>
        <p:sld r:id="rId67"/>
      </p:sldLst>
    </p:custShow>
    <p:custShow name="приспособления" id="15">
      <p:sldLst>
        <p:sld r:id="rId69"/>
        <p:sld r:id="rId70"/>
        <p:sld r:id="rId71"/>
        <p:sld r:id="rId72"/>
        <p:sld r:id="rId73"/>
        <p:sld r:id="rId74"/>
        <p:sld r:id="rId75"/>
        <p:sld r:id="rId76"/>
      </p:sldLst>
    </p:custShow>
    <p:custShow name="современное производство" id="16">
      <p:sldLst>
        <p:sld r:id="rId78"/>
        <p:sld r:id="rId79"/>
        <p:sld r:id="rId80"/>
        <p:sld r:id="rId81"/>
        <p:sld r:id="rId82"/>
      </p:sldLst>
    </p:custShow>
    <p:custShow name="профессии" id="17">
      <p:sldLst>
        <p:sld r:id="rId83"/>
      </p:sldLst>
    </p:custShow>
    <p:custShow name="Правила ТБ" id="18">
      <p:sldLst>
        <p:sld r:id="rId19"/>
        <p:sld r:id="rId20"/>
        <p:sld r:id="rId21"/>
        <p:sld r:id="rId22"/>
        <p:sld r:id="rId23"/>
        <p:sld r:id="rId24"/>
        <p:sld r:id="rId25"/>
      </p:sldLst>
    </p:custShow>
    <p:custShow name="универсальные" id="19">
      <p:sldLst>
        <p:sld r:id="rId14"/>
        <p:sld r:id="rId15"/>
      </p:sldLst>
    </p:custShow>
    <p:custShow name="специальные" id="20">
      <p:sldLst>
        <p:sld r:id="rId16"/>
        <p:sld r:id="rId17"/>
      </p:sldLst>
    </p:custShow>
    <p:custShow name="11" id="21">
      <p:sldLst>
        <p:sld r:id="rId77"/>
      </p:sldLst>
    </p:custShow>
    <p:custShow name="12" id="22">
      <p:sldLst>
        <p:sld r:id="rId84"/>
      </p:sldLst>
    </p:custShow>
    <p:custShow name="13" id="23">
      <p:sldLst>
        <p:sld r:id="rId8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718D-90A7-4F96-A04E-6F2FA7C4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928-4185-430D-919E-FDA6C846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CE42-F2CE-487B-B8AF-0BE11298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97D9-5A4E-4560-8DA5-8182A4AC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C5EB-7A22-4E3F-A006-D0FDC96A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8A78-25CD-49D1-8FF1-9DB30C7F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9E08-0312-4635-B75E-4474FCA6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8B0E-6C89-4A4B-A76A-88976F45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FABD-2230-4C71-8270-54A70CBE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9583-4227-4E65-A45F-B242E716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2FD9-EEAC-447B-906F-CCA479D9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85DC-B70A-417C-934D-2D76978B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47FF-CDF8-4ACB-9079-57BD4211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B83F-2939-416D-AC68-D7CC5FF6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0459-CBE4-4688-A65E-3643DF48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D710-8450-4051-8B7A-DB14425B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FD34-F7FF-4B1B-8E53-63821453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509-E617-4D56-8B32-4DB8CD19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CBA-4FE2-4896-B1AD-EE0CD2D8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FFC-42C6-42D3-B3E9-03B59D79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3ED7-C5F4-4673-898A-FA8EF42A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463-8391-4FE6-BB4A-FE4DFD32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05F-7000-4F1B-A9BE-9E37ED7D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31BD-3FE3-4035-A6BB-11286631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E939-832F-461F-B319-EDFC7A5A4E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11E5-880D-44CE-A9F3-2FA29FB28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0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0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0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0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ЭЛЕМЕНТЫ    МАШИНОВЕДЕНИЯ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(электронное учебное  пособие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843280" y="48690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р: Первитская И.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обслуживающего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уда  Макушинской СО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ды швейных маши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00000" y="1916280"/>
            <a:ext cx="8006760" cy="4189680"/>
            <a:chOff x="900000" y="1916280"/>
            <a:chExt cx="8006760" cy="4189680"/>
          </a:xfrm>
        </p:grpSpPr>
        <p:cxnSp>
          <p:nvCxnSpPr>
            <p:cNvPr id="142" name="_s16389"/>
            <p:cNvCxnSpPr>
              <a:stCxn id="143" idx="0"/>
              <a:endCxn id="144" idx="2"/>
            </p:cNvCxnSpPr>
            <p:nvPr/>
          </p:nvCxnSpPr>
          <p:spPr>
            <a:xfrm flipV="1" rot="16200000">
              <a:off x="5561280" y="2932200"/>
              <a:ext cx="838440" cy="2156400"/>
            </a:xfrm>
            <a:prstGeom prst="bentConnector3">
              <a:avLst>
                <a:gd name="adj1" fmla="val 136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5" name="_s16390"/>
            <p:cNvCxnSpPr>
              <a:stCxn id="146" idx="0"/>
              <a:endCxn id="144" idx="2"/>
            </p:cNvCxnSpPr>
            <p:nvPr/>
          </p:nvCxnSpPr>
          <p:spPr>
            <a:xfrm flipH="1" flipV="1" rot="5400000">
              <a:off x="3405960" y="2932920"/>
              <a:ext cx="838440" cy="2155680"/>
            </a:xfrm>
            <a:prstGeom prst="bentConnector3">
              <a:avLst>
                <a:gd name="adj1" fmla="val 136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4" name="_s16391"/>
            <p:cNvSpPr/>
            <p:nvPr/>
          </p:nvSpPr>
          <p:spPr>
            <a:xfrm>
              <a:off x="3054960" y="1916280"/>
              <a:ext cx="3695400" cy="1675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Швейные машин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16392"/>
            <p:cNvSpPr/>
            <p:nvPr/>
          </p:nvSpPr>
          <p:spPr>
            <a:xfrm>
              <a:off x="900000" y="4430160"/>
              <a:ext cx="3695400" cy="1675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Универсальные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бытовы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16393"/>
            <p:cNvSpPr/>
            <p:nvPr/>
          </p:nvSpPr>
          <p:spPr>
            <a:xfrm>
              <a:off x="5211360" y="4430160"/>
              <a:ext cx="3695400" cy="1675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Специализи-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рованны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швейные машин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908000" y="616572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3" h="21600">
                <a:moveTo>
                  <a:pt x="10330" y="3794"/>
                </a:moveTo>
                <a:lnTo>
                  <a:pt x="24343" y="10800"/>
                </a:lnTo>
                <a:lnTo>
                  <a:pt x="10330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3640" y="616572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3" h="21600">
                <a:moveTo>
                  <a:pt x="10330" y="3794"/>
                </a:moveTo>
                <a:lnTo>
                  <a:pt x="24343" y="10800"/>
                </a:lnTo>
                <a:lnTo>
                  <a:pt x="10330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93080" y="227664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3794"/>
                </a:moveTo>
                <a:lnTo>
                  <a:pt x="18874" y="10800"/>
                </a:lnTo>
                <a:lnTo>
                  <a:pt x="4861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78E0-C7A8-4CC9-8E5F-1C9F84F556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ниверсальные бытов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3240360" cy="2400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11640" y="1413000"/>
            <a:ext cx="46339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80cb0"/>
                </a:solidFill>
                <a:latin typeface="Arial"/>
              </a:rPr>
              <a:t>Предназначены для выполнения стачивающих и отделочных строчек, петель, вышивки тканей различных структу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2М ПМЗ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«Чайка 1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43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«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EW HOME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«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JANOME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9917-B9D3-404D-B25F-82990450A9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-243000"/>
            <a:ext cx="8169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ниверсальные бытовы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970560" y="31417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М ПМ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86160" y="314172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«Чайка 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3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7640" y="623736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W HOME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12000" y="6021360"/>
            <a:ext cx="273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JANOME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378240" cy="2004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76720" y="765000"/>
            <a:ext cx="3708360" cy="2401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3384720" cy="2617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5076720" y="3600360"/>
            <a:ext cx="3672000" cy="244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5AD-F0C4-4E61-9FAA-AE9EC4400A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Специализированные 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                 швейные   машин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4190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74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i="1" lang="ru-RU" sz="2800" spc="-1" strike="noStrike">
                <a:solidFill>
                  <a:srgbClr val="b80cb0"/>
                </a:solidFill>
                <a:latin typeface="Arial"/>
              </a:rPr>
              <a:t>Выполняют одну или несколько   технологических операций одновременно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чивание дета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езку края и обметывание срез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тачивание рукавов в пройму с посадкой верхнего слоя матери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метывание петел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шивание пугов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97-А класса ОЗЛ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85 класса ПМЗ,  51 класс ПМЗ,  «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Merry Lock</a:t>
            </a: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2511360" cy="198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B03C-FB59-4FBD-89C2-F15597F6D4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-459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пециализированн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31590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628640"/>
            <a:ext cx="1417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erry Lock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011280" y="3141720"/>
            <a:ext cx="2879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51 класс ПМ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98920" y="6237360"/>
            <a:ext cx="2826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97-А класса ОЗЛ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3240360" cy="3168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3851280" cy="2421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724360" y="549360"/>
            <a:ext cx="3167280" cy="2639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527800" y="3673440"/>
            <a:ext cx="3616200" cy="269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55A-F68B-448C-979D-A7032CD7F6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Какие универсальные машины вы знае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чему швейные машины называют универсальны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Какие операции могут выполнить  специализированные швейные машин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чего применяют краеобметочные швейные маши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6093000"/>
            <a:ext cx="649080" cy="5029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7873" h="21600">
                <a:moveTo>
                  <a:pt x="0" y="0"/>
                </a:moveTo>
                <a:lnTo>
                  <a:pt x="27873" y="0"/>
                </a:lnTo>
                <a:lnTo>
                  <a:pt x="27873" y="21600"/>
                </a:lnTo>
                <a:lnTo>
                  <a:pt x="0" y="21600"/>
                </a:lnTo>
                <a:close/>
              </a:path>
              <a:path fill="lightenLess" w="27873" h="21600">
                <a:moveTo>
                  <a:pt x="0" y="0"/>
                </a:moveTo>
                <a:lnTo>
                  <a:pt x="27873" y="0"/>
                </a:lnTo>
                <a:lnTo>
                  <a:pt x="26473" y="1400"/>
                </a:lnTo>
                <a:lnTo>
                  <a:pt x="1400" y="1400"/>
                </a:lnTo>
                <a:close/>
              </a:path>
              <a:path fill="darken" w="27873" h="21600">
                <a:moveTo>
                  <a:pt x="27873" y="0"/>
                </a:moveTo>
                <a:lnTo>
                  <a:pt x="27873" y="21600"/>
                </a:lnTo>
                <a:lnTo>
                  <a:pt x="26473" y="20200"/>
                </a:lnTo>
                <a:lnTo>
                  <a:pt x="26473" y="1400"/>
                </a:lnTo>
                <a:close/>
              </a:path>
              <a:path fill="darkenLess" w="27873" h="21600">
                <a:moveTo>
                  <a:pt x="27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73" y="20200"/>
                </a:lnTo>
                <a:close/>
              </a:path>
              <a:path fill="lighten" w="27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73" h="21600">
                <a:moveTo>
                  <a:pt x="6930" y="7493"/>
                </a:moveTo>
                <a:lnTo>
                  <a:pt x="10438" y="7493"/>
                </a:lnTo>
                <a:lnTo>
                  <a:pt x="10438" y="12828"/>
                </a:lnTo>
                <a:cubicBezTo>
                  <a:pt x="10438" y="13751"/>
                  <a:pt x="11238" y="14482"/>
                  <a:pt x="12274" y="14482"/>
                </a:cubicBezTo>
                <a:lnTo>
                  <a:pt x="13936" y="14482"/>
                </a:lnTo>
                <a:cubicBezTo>
                  <a:pt x="14972" y="14482"/>
                  <a:pt x="15773" y="13751"/>
                  <a:pt x="15773" y="12828"/>
                </a:cubicBezTo>
                <a:lnTo>
                  <a:pt x="15773" y="7493"/>
                </a:lnTo>
                <a:lnTo>
                  <a:pt x="13936" y="7493"/>
                </a:lnTo>
                <a:lnTo>
                  <a:pt x="17444" y="3985"/>
                </a:lnTo>
                <a:lnTo>
                  <a:pt x="21117" y="7493"/>
                </a:lnTo>
                <a:lnTo>
                  <a:pt x="19281" y="7493"/>
                </a:lnTo>
                <a:lnTo>
                  <a:pt x="19281" y="12828"/>
                </a:lnTo>
                <a:cubicBezTo>
                  <a:pt x="19281" y="15596"/>
                  <a:pt x="16704" y="18155"/>
                  <a:pt x="13936" y="18155"/>
                </a:cubicBezTo>
                <a:lnTo>
                  <a:pt x="12274" y="18155"/>
                </a:lnTo>
                <a:cubicBezTo>
                  <a:pt x="9506" y="18155"/>
                  <a:pt x="6930" y="15596"/>
                  <a:pt x="6930" y="12828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8F3-647C-4BB3-9AED-0F599DEC18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8880" y="0"/>
            <a:ext cx="83851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авила безопасн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427640" y="1904760"/>
            <a:ext cx="4417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Перед работо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b7"/>
                </a:solidFill>
                <a:latin typeface="Arial"/>
              </a:rPr>
              <a:t>Уберите волосы, проверьте, не остались ли в изделии иглы или булавки стул поставьте напротив иг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95280" y="1125360"/>
            <a:ext cx="3381480" cy="525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5BFA-A591-46E9-B1D0-E908AD1DD2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До начала работ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берите волосы под головной уб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ерить состояние электрического шнура и вилки (отсутствие оголенных мес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ерить состояние маш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ерить заземление маш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брать посторонние предм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ерить, не осталось ли в изделиях булав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робуйте машину на холостом х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C40-A9EA-47F1-985E-0DD3AA1989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4653000"/>
            <a:ext cx="8007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При шить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е кладите на машину посторонние предме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едите за правильным положением рук и ног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наклоняйтесь низко к движущимся частям маш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3760920" cy="4653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888080" y="549360"/>
            <a:ext cx="4255920" cy="370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793-3886-496C-AAAA-9AFAC583F5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При шить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держите руки близко к игл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касайтесь рем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888160" y="0"/>
            <a:ext cx="3255840" cy="4581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332000" y="404640"/>
            <a:ext cx="3816360" cy="361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6306-BD4C-4719-BFA5-8D48B0CD88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СОДЕРЖАНИ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259920"/>
            <a:ext cx="80899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рия создания швейной маш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ды швейных маш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вила безопас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тройство  швейной ма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воды швейной ма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хема образования машинного стеж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мотка нитки на шпуль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правка верхней и нижней нит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тройство и установка швейной иг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гуляторы швейной маш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ход за швейной маши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способления к швейной маши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временное швейное производ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76500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3794"/>
                </a:moveTo>
                <a:lnTo>
                  <a:pt x="23126" y="10800"/>
                </a:lnTo>
                <a:lnTo>
                  <a:pt x="9113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126828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3794"/>
                </a:moveTo>
                <a:lnTo>
                  <a:pt x="23126" y="10800"/>
                </a:lnTo>
                <a:lnTo>
                  <a:pt x="9113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7002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79" h="21600">
                <a:moveTo>
                  <a:pt x="9133" y="3794"/>
                </a:moveTo>
                <a:lnTo>
                  <a:pt x="23146" y="10800"/>
                </a:lnTo>
                <a:lnTo>
                  <a:pt x="9133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2133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249228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3794"/>
                </a:moveTo>
                <a:lnTo>
                  <a:pt x="23126" y="10800"/>
                </a:lnTo>
                <a:lnTo>
                  <a:pt x="9113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3860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3794"/>
                </a:moveTo>
                <a:lnTo>
                  <a:pt x="23126" y="10800"/>
                </a:lnTo>
                <a:lnTo>
                  <a:pt x="9113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29242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79" h="21600">
                <a:moveTo>
                  <a:pt x="9133" y="3794"/>
                </a:moveTo>
                <a:lnTo>
                  <a:pt x="23146" y="10800"/>
                </a:lnTo>
                <a:lnTo>
                  <a:pt x="9133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3357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4292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79" h="21600">
                <a:moveTo>
                  <a:pt x="9133" y="3794"/>
                </a:moveTo>
                <a:lnTo>
                  <a:pt x="23146" y="10800"/>
                </a:lnTo>
                <a:lnTo>
                  <a:pt x="9133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4724280"/>
            <a:ext cx="433080" cy="289080"/>
          </a:xfrm>
          <a:custGeom>
            <a:avLst/>
            <a:gdLst>
              <a:gd name="textAreaLeft" fmla="*/ 18720 w 433080"/>
              <a:gd name="textAreaRight" fmla="*/ 414360 w 433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46" h="21600">
                <a:moveTo>
                  <a:pt x="0" y="0"/>
                </a:moveTo>
                <a:lnTo>
                  <a:pt x="32346" y="0"/>
                </a:lnTo>
                <a:lnTo>
                  <a:pt x="32346" y="21600"/>
                </a:lnTo>
                <a:lnTo>
                  <a:pt x="0" y="21600"/>
                </a:lnTo>
                <a:close/>
              </a:path>
              <a:path fill="lightenLess" w="32346" h="21600">
                <a:moveTo>
                  <a:pt x="0" y="0"/>
                </a:moveTo>
                <a:lnTo>
                  <a:pt x="32346" y="0"/>
                </a:lnTo>
                <a:lnTo>
                  <a:pt x="30946" y="1400"/>
                </a:lnTo>
                <a:lnTo>
                  <a:pt x="1400" y="1400"/>
                </a:lnTo>
                <a:close/>
              </a:path>
              <a:path fill="darken" w="32346" h="21600">
                <a:moveTo>
                  <a:pt x="32346" y="0"/>
                </a:moveTo>
                <a:lnTo>
                  <a:pt x="32346" y="21600"/>
                </a:lnTo>
                <a:lnTo>
                  <a:pt x="30946" y="20200"/>
                </a:lnTo>
                <a:lnTo>
                  <a:pt x="30946" y="1400"/>
                </a:lnTo>
                <a:close/>
              </a:path>
              <a:path fill="darkenLess" w="32346" h="21600">
                <a:moveTo>
                  <a:pt x="32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6" y="20200"/>
                </a:lnTo>
                <a:close/>
              </a:path>
              <a:path fill="lighten" w="32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6" h="21600">
                <a:moveTo>
                  <a:pt x="9167" y="3794"/>
                </a:moveTo>
                <a:lnTo>
                  <a:pt x="23180" y="10800"/>
                </a:lnTo>
                <a:lnTo>
                  <a:pt x="9167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558972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79" h="21600">
                <a:moveTo>
                  <a:pt x="9133" y="3794"/>
                </a:moveTo>
                <a:lnTo>
                  <a:pt x="23146" y="10800"/>
                </a:lnTo>
                <a:lnTo>
                  <a:pt x="9133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602136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3794"/>
                </a:moveTo>
                <a:lnTo>
                  <a:pt x="23126" y="10800"/>
                </a:lnTo>
                <a:lnTo>
                  <a:pt x="9113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5157720"/>
            <a:ext cx="433080" cy="289080"/>
          </a:xfrm>
          <a:custGeom>
            <a:avLst/>
            <a:gdLst>
              <a:gd name="textAreaLeft" fmla="*/ 18720 w 433080"/>
              <a:gd name="textAreaRight" fmla="*/ 414360 w 433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46" h="21600">
                <a:moveTo>
                  <a:pt x="0" y="0"/>
                </a:moveTo>
                <a:lnTo>
                  <a:pt x="32346" y="0"/>
                </a:lnTo>
                <a:lnTo>
                  <a:pt x="32346" y="21600"/>
                </a:lnTo>
                <a:lnTo>
                  <a:pt x="0" y="21600"/>
                </a:lnTo>
                <a:close/>
              </a:path>
              <a:path fill="lightenLess" w="32346" h="21600">
                <a:moveTo>
                  <a:pt x="0" y="0"/>
                </a:moveTo>
                <a:lnTo>
                  <a:pt x="32346" y="0"/>
                </a:lnTo>
                <a:lnTo>
                  <a:pt x="30946" y="1400"/>
                </a:lnTo>
                <a:lnTo>
                  <a:pt x="1400" y="1400"/>
                </a:lnTo>
                <a:close/>
              </a:path>
              <a:path fill="darken" w="32346" h="21600">
                <a:moveTo>
                  <a:pt x="32346" y="0"/>
                </a:moveTo>
                <a:lnTo>
                  <a:pt x="32346" y="21600"/>
                </a:lnTo>
                <a:lnTo>
                  <a:pt x="30946" y="20200"/>
                </a:lnTo>
                <a:lnTo>
                  <a:pt x="30946" y="1400"/>
                </a:lnTo>
                <a:close/>
              </a:path>
              <a:path fill="darkenLess" w="32346" h="21600">
                <a:moveTo>
                  <a:pt x="32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6" y="20200"/>
                </a:lnTo>
                <a:close/>
              </a:path>
              <a:path fill="lighten" w="32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6" h="21600">
                <a:moveTo>
                  <a:pt x="9167" y="3794"/>
                </a:moveTo>
                <a:lnTo>
                  <a:pt x="23180" y="10800"/>
                </a:lnTo>
                <a:lnTo>
                  <a:pt x="9167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41F2-FD76-490E-93D1-80131ECA50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Во время работы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125000"/>
            <a:ext cx="80074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отвлекайтесь и не отвлекайте других разговор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наклоняйтесь близко к головке маш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держите пальцы рук на уровне лапки ( иначе они попадут под иголк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допускайте, чтобы во время работы на её платформе оказывались металлические предм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допускайте передавать через обучающихся, работающих на швейных машинах, какие-либо предм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AB64-C49B-444D-9436-C882A49106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9840" y="2492280"/>
            <a:ext cx="9074160" cy="38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0CFF-692D-497D-96DC-9FBF987DDE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3851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Во время работы (продолжение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допускать работу на машине при ощущении электротока на её корпус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устраняйте неисправности без уч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ключите шнур маш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берите рабочее ме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трите швейную машину мягкой фланел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дайте швейную машину дежурн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9595-53BD-414D-A4AA-B9407216AD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Швейная мастерска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913440" cy="460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C957-65E8-4329-9360-800819719D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7396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 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981000"/>
            <a:ext cx="80074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Что необходимо выполнить перед началом работы на швейной машин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Какие правила надо соблюдать при  работе на швейной машин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необходимо выполнить по окончании работы на швейной машин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Какие меры предосторожности надо соблюдать чтобы не поранить руки игло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поступить, если почувствуешь действие тока при прикосновении к корпусу маши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71640" y="5815080"/>
            <a:ext cx="576000" cy="566640"/>
          </a:xfrm>
          <a:custGeom>
            <a:avLst/>
            <a:gdLst>
              <a:gd name="textAreaLeft" fmla="*/ 36720 w 576000"/>
              <a:gd name="textAreaRight" fmla="*/ 539280 w 57600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21957" h="21600">
                <a:moveTo>
                  <a:pt x="0" y="0"/>
                </a:moveTo>
                <a:lnTo>
                  <a:pt x="21957" y="0"/>
                </a:lnTo>
                <a:lnTo>
                  <a:pt x="21957" y="21600"/>
                </a:lnTo>
                <a:lnTo>
                  <a:pt x="0" y="21600"/>
                </a:lnTo>
                <a:close/>
              </a:path>
              <a:path fill="lightenLess" w="21957" h="21600">
                <a:moveTo>
                  <a:pt x="0" y="0"/>
                </a:moveTo>
                <a:lnTo>
                  <a:pt x="21957" y="0"/>
                </a:lnTo>
                <a:lnTo>
                  <a:pt x="20557" y="1400"/>
                </a:lnTo>
                <a:lnTo>
                  <a:pt x="1400" y="1400"/>
                </a:lnTo>
                <a:close/>
              </a:path>
              <a:path fill="darken" w="21957" h="21600">
                <a:moveTo>
                  <a:pt x="21957" y="0"/>
                </a:moveTo>
                <a:lnTo>
                  <a:pt x="21957" y="21600"/>
                </a:lnTo>
                <a:lnTo>
                  <a:pt x="20557" y="20200"/>
                </a:lnTo>
                <a:lnTo>
                  <a:pt x="20557" y="1400"/>
                </a:lnTo>
                <a:close/>
              </a:path>
              <a:path fill="darkenLess" w="21957" h="21600">
                <a:moveTo>
                  <a:pt x="21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57" y="20200"/>
                </a:lnTo>
                <a:close/>
              </a:path>
              <a:path fill="lighten" w="21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57" h="21600">
                <a:moveTo>
                  <a:pt x="3972" y="7493"/>
                </a:moveTo>
                <a:lnTo>
                  <a:pt x="7479" y="7493"/>
                </a:lnTo>
                <a:lnTo>
                  <a:pt x="7479" y="12828"/>
                </a:lnTo>
                <a:cubicBezTo>
                  <a:pt x="7479" y="13751"/>
                  <a:pt x="8280" y="14482"/>
                  <a:pt x="9316" y="14482"/>
                </a:cubicBezTo>
                <a:lnTo>
                  <a:pt x="10978" y="14482"/>
                </a:lnTo>
                <a:cubicBezTo>
                  <a:pt x="12014" y="14482"/>
                  <a:pt x="12815" y="13751"/>
                  <a:pt x="12815" y="12828"/>
                </a:cubicBezTo>
                <a:lnTo>
                  <a:pt x="12815" y="7493"/>
                </a:lnTo>
                <a:lnTo>
                  <a:pt x="10978" y="7493"/>
                </a:lnTo>
                <a:lnTo>
                  <a:pt x="14486" y="3985"/>
                </a:lnTo>
                <a:lnTo>
                  <a:pt x="18159" y="7493"/>
                </a:lnTo>
                <a:lnTo>
                  <a:pt x="16322" y="7493"/>
                </a:lnTo>
                <a:lnTo>
                  <a:pt x="16322" y="12828"/>
                </a:lnTo>
                <a:cubicBezTo>
                  <a:pt x="16322" y="15596"/>
                  <a:pt x="13746" y="18155"/>
                  <a:pt x="10978" y="18155"/>
                </a:cubicBezTo>
                <a:lnTo>
                  <a:pt x="9316" y="18155"/>
                </a:lnTo>
                <a:cubicBezTo>
                  <a:pt x="6548" y="18155"/>
                  <a:pt x="3972" y="15596"/>
                  <a:pt x="3972" y="12828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E3E3-A22F-4369-BD65-53DEE477C5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Основные части швейной машин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84360" y="789120"/>
            <a:ext cx="7704000" cy="606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009A-A9ED-4682-B789-862CB3EB4C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260280"/>
            <a:ext cx="8007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Платфор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На платформе имею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движная пластин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гольная пласти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д платформой расположен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елночное устройств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убцы двигателя тка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На рукаве  расположены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ховое колес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   Мотал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гулятор натяжения верхней ни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учки регулирования длины стеж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ержень для катуш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итенаправител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Под рукавом крепятся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жимная лап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г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016B-7060-4C0F-91FA-373CA2FE18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сновные механизмы швейной машины 2 М ПМЗ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345440" cy="532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4F2-975F-463D-B023-D542DF500D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867280" y="-168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20192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79280" y="5661000"/>
            <a:ext cx="829476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Схема швейной машин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32720" y="1341360"/>
            <a:ext cx="9144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11280" y="1413000"/>
            <a:ext cx="91440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276720" y="1773360"/>
            <a:ext cx="34560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27280" y="2276640"/>
            <a:ext cx="0" cy="1728720"/>
          </a:xfrm>
          <a:prstGeom prst="line">
            <a:avLst/>
          </a:prstGeom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27280" y="4005360"/>
            <a:ext cx="432000" cy="0"/>
          </a:xfrm>
          <a:prstGeom prst="line">
            <a:avLst/>
          </a:prstGeom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3280" y="2349360"/>
            <a:ext cx="0" cy="1511280"/>
          </a:xfrm>
          <a:prstGeom prst="line">
            <a:avLst/>
          </a:prstGeom>
          <a:ln w="63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19280" y="4221000"/>
            <a:ext cx="49687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27280" y="4437000"/>
            <a:ext cx="576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27280" y="4653000"/>
            <a:ext cx="5763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27280" y="4869000"/>
            <a:ext cx="576360" cy="57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43640" y="189000"/>
            <a:ext cx="1800360" cy="863640"/>
          </a:xfrm>
          <a:prstGeom prst="wedgeRectCallout">
            <a:avLst>
              <a:gd name="adj1" fmla="val -35273"/>
              <a:gd name="adj2" fmla="val 129962"/>
            </a:avLst>
          </a:pr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Ручной </a:t>
            </a:r>
            <a:r>
              <a:rPr b="0" lang="en-US" sz="2400" spc="-1" strike="noStrike">
                <a:solidFill>
                  <a:srgbClr val="929292"/>
                </a:solidFill>
                <a:latin typeface="Arial"/>
              </a:rPr>
              <a:t>прив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11640" y="189000"/>
            <a:ext cx="2519280" cy="936360"/>
          </a:xfrm>
          <a:prstGeom prst="wedgeRectCallout">
            <a:avLst>
              <a:gd name="adj1" fmla="val 2675"/>
              <a:gd name="adj2" fmla="val 117796"/>
            </a:avLst>
          </a:pr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"/>
              </a:rPr>
              <a:t>Механизм главного в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89000"/>
            <a:ext cx="2952720" cy="936360"/>
          </a:xfrm>
          <a:prstGeom prst="wedgeRectCallout">
            <a:avLst>
              <a:gd name="adj1" fmla="val 33120"/>
              <a:gd name="adj2" fmla="val 85254"/>
            </a:avLst>
          </a:pr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Механизм нитепритягива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1413000"/>
            <a:ext cx="1763640" cy="1041120"/>
          </a:xfrm>
          <a:prstGeom prst="wedgeRectCallout">
            <a:avLst>
              <a:gd name="adj1" fmla="val 81324"/>
              <a:gd name="adj2" fmla="val 75763"/>
            </a:avLst>
          </a:pr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Механизм лап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2421000"/>
            <a:ext cx="1727280" cy="863640"/>
          </a:xfrm>
          <a:prstGeom prst="wedgeRectCallout">
            <a:avLst>
              <a:gd name="adj1" fmla="val -109833"/>
              <a:gd name="adj2" fmla="val 41546"/>
            </a:avLst>
          </a:pr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Механизм иг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32720" y="3068640"/>
            <a:ext cx="1871640" cy="609480"/>
          </a:xfrm>
          <a:prstGeom prst="wedgeRectCallout">
            <a:avLst>
              <a:gd name="adj1" fmla="val -81893"/>
              <a:gd name="adj2" fmla="val 134375"/>
            </a:avLst>
          </a:pr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Платфор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0920" y="3789360"/>
            <a:ext cx="1368360" cy="2735280"/>
          </a:xfrm>
          <a:prstGeom prst="wedgeRectCallout">
            <a:avLst>
              <a:gd name="adj1" fmla="val 123435"/>
              <a:gd name="adj2" fmla="val -20342"/>
            </a:avLst>
          </a:pr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7.Механизм зубчатой рей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(двигателя  ткан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16360" y="4581360"/>
            <a:ext cx="3743280" cy="576360"/>
          </a:xfrm>
          <a:prstGeom prst="wedgeRectCallout">
            <a:avLst>
              <a:gd name="adj1" fmla="val -91601"/>
              <a:gd name="adj2" fmla="val 66805"/>
            </a:avLst>
          </a:pr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Челночный механиз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1A7-B198-49DD-A68A-362A3F377E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675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Назовите основные       механизмы швейной машин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39280" y="1483920"/>
            <a:ext cx="8007480" cy="4406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372360" y="2565360"/>
            <a:ext cx="1008000" cy="986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50920" y="24922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987640" y="2997360"/>
            <a:ext cx="3456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40000" y="3357720"/>
            <a:ext cx="0" cy="1800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5157720"/>
            <a:ext cx="5032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3429000"/>
            <a:ext cx="0" cy="1511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76360" y="5373720"/>
            <a:ext cx="496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5640" y="5661000"/>
            <a:ext cx="576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195640" y="5877000"/>
            <a:ext cx="576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24000" y="6093000"/>
            <a:ext cx="57636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695-35F2-4B2F-B565-54BAFF938F6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Швейные маши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0cb0"/>
                </a:solidFill>
                <a:latin typeface="Arial"/>
              </a:rPr>
              <a:t>Швейные машин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лужат для стачивания детале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из ткани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ри пошив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различных издел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рименение швейных машин </a:t>
            </a:r>
            <a:r>
              <a:rPr b="0" i="1" lang="en-US" sz="2800" spc="-1" strike="noStrike">
                <a:solidFill>
                  <a:srgbClr val="b80cb0"/>
                </a:solidFill>
                <a:latin typeface="Arial"/>
              </a:rPr>
              <a:t>позволяет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ускорить и облегчить труд, </a:t>
            </a:r>
            <a:r>
              <a:rPr b="0" i="1" lang="en-US" sz="2800" spc="-1" strike="noStrike">
                <a:solidFill>
                  <a:srgbClr val="b80cb0"/>
                </a:solidFill>
                <a:latin typeface="Arial"/>
              </a:rPr>
              <a:t>повысить качество раб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вейная машина выполняет работу в </a:t>
            </a:r>
            <a:r>
              <a:rPr b="0" i="1" lang="en-US" sz="3200" spc="-1" strike="noStrike">
                <a:solidFill>
                  <a:srgbClr val="b80cb0"/>
                </a:solidFill>
                <a:latin typeface="Arial"/>
              </a:rPr>
              <a:t>50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 раз быстре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чем это можно сделать в ручну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3FDC-001A-403B-BE38-3294F92FA6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77080" y="-1755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404280"/>
            <a:ext cx="82342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1.Ручной прив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2.Механизм главного в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3.Механизм нитепритягива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4.Механизм лап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5.Механизм игл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Arial"/>
              </a:rPr>
              <a:t>6.Платфор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7.Механизм зубчатой рей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(двигателя  ткан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8. Челночный механиз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ADDE-F6EB-42A7-9F34-D09CBF4A626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80186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Для чего служит механизм нитепритягивате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Какую роль  выполняет челночный механиз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овите основные рабочие механизмы  швейной маши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1116000" y="5734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9CF8-3577-4685-A6E6-FACD1B6372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ды приводов для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швейной маши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b80cb0"/>
                </a:solidFill>
                <a:latin typeface="Arial"/>
              </a:rPr>
              <a:t>ПРИВОД </a:t>
            </a:r>
            <a:r>
              <a:rPr b="0" lang="en-US" sz="3200" spc="-1" strike="noStrike">
                <a:solidFill>
                  <a:srgbClr val="b80cb0"/>
                </a:solidFill>
                <a:latin typeface="Arial"/>
              </a:rPr>
              <a:t>– это устройство, с помощью которого машина приводится в 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вейные машины бываю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с ручны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ножны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электрически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80cb0"/>
                </a:solidFill>
                <a:latin typeface="Arial"/>
              </a:rPr>
              <a:t>ПРИВОДАМИ</a:t>
            </a: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7308720" y="414972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  <a:path fill="darken" w="21600" h="21687">
                <a:moveTo>
                  <a:pt x="3794" y="3837"/>
                </a:moveTo>
                <a:lnTo>
                  <a:pt x="17806" y="10843"/>
                </a:lnTo>
                <a:lnTo>
                  <a:pt x="3794" y="17850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7308720" y="479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08720" y="537372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  <a:path fill="darken" w="21600" h="21687">
                <a:moveTo>
                  <a:pt x="3794" y="3837"/>
                </a:moveTo>
                <a:lnTo>
                  <a:pt x="17806" y="10843"/>
                </a:lnTo>
                <a:lnTo>
                  <a:pt x="3794" y="17850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FCB2-B050-4522-90BB-C42D4FDE93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 РУЧНЫМ ПРИВОДО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403280" y="1711440"/>
            <a:ext cx="662472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63E8-C1B5-4EF5-8B9A-932C4F81848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 НОЖНЫМ ПРИВОДО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295880" cy="551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84F1-E87F-42CC-B9B8-122E1CAA97D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 ЭЛЕКТРИЧЕСКИМ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ПРИВОДО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174760" y="1628640"/>
            <a:ext cx="4494240" cy="522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4A02-10AE-4184-A201-C6BCF0A6BEC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ды приводов для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швейной маши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9280" y="1268280"/>
            <a:ext cx="1238400" cy="825480"/>
          </a:xfrm>
          <a:prstGeom prst="wedgeRectCallout">
            <a:avLst>
              <a:gd name="adj1" fmla="val 123319"/>
              <a:gd name="adj2" fmla="val 163074"/>
            </a:avLst>
          </a:pr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чной прив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4508640"/>
            <a:ext cx="1331640" cy="1224000"/>
          </a:xfrm>
          <a:prstGeom prst="wedgeRectCallout">
            <a:avLst>
              <a:gd name="adj1" fmla="val 94814"/>
              <a:gd name="adj2" fmla="val -47796"/>
            </a:avLst>
          </a:pr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лектр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96360" y="1916280"/>
            <a:ext cx="1547640" cy="1295280"/>
          </a:xfrm>
          <a:prstGeom prst="wedgeRectCallout">
            <a:avLst>
              <a:gd name="adj1" fmla="val -93587"/>
              <a:gd name="adj2" fmla="val 154902"/>
            </a:avLst>
          </a:pr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жной прив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113440" cy="502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50B-B690-464A-9E41-816B04E1D2E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052280"/>
            <a:ext cx="8007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. Как различаются швейные машины в зависимости от привод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В каком направлении вращается маховое колесо в разных видах маши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С помощью каких деталей передается движение от рукоятки к маховому колесу в машине с ножным привод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На какой машине, с каким приводом добнее работать и поче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71640" y="5661000"/>
            <a:ext cx="792000" cy="79236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7"/>
                </a:moveTo>
                <a:lnTo>
                  <a:pt x="7301" y="7497"/>
                </a:lnTo>
                <a:lnTo>
                  <a:pt x="7301" y="12833"/>
                </a:lnTo>
                <a:cubicBezTo>
                  <a:pt x="7301" y="13755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5"/>
                  <a:pt x="12636" y="12833"/>
                </a:cubicBezTo>
                <a:lnTo>
                  <a:pt x="12636" y="7497"/>
                </a:lnTo>
                <a:lnTo>
                  <a:pt x="10800" y="7497"/>
                </a:lnTo>
                <a:lnTo>
                  <a:pt x="14308" y="3990"/>
                </a:lnTo>
                <a:lnTo>
                  <a:pt x="17981" y="7497"/>
                </a:lnTo>
                <a:lnTo>
                  <a:pt x="16144" y="7497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A8D-88C3-43BC-95D4-2436E95595E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ЯМАЯ СТРОЧ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979640" y="1554120"/>
            <a:ext cx="5400720" cy="461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0CA-5305-4CA1-A9EA-54CEA65D6A1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ГЗАГООБРАЗНАЯ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176720" cy="29638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3024000" cy="24084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443640" y="472428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ial"/>
              </a:rPr>
              <a:t>ПЕТ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CAD-BF5C-4E8F-8089-946D0EE73D5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4360" y="836640"/>
            <a:ext cx="80071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вейные машины подразделяют на клас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i="1" lang="ru-RU" sz="4000" spc="-1" strike="noStrike">
                <a:solidFill>
                  <a:srgbClr val="b80cb0"/>
                </a:solidFill>
                <a:latin typeface="Arial"/>
              </a:rPr>
              <a:t>2М ПМ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b80cb0"/>
                </a:solidFill>
                <a:latin typeface="Arial"/>
              </a:rPr>
              <a:t>2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класс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b80cb0"/>
                </a:solidFill>
                <a:latin typeface="Arial"/>
              </a:rPr>
              <a:t>ПМЗ</a:t>
            </a:r>
            <a:r>
              <a:rPr b="0" lang="ru-RU" sz="2800" spc="-1" strike="noStrike">
                <a:solidFill>
                  <a:srgbClr val="b80cb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завод изготовител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80cb0"/>
                </a:solidFill>
                <a:latin typeface="Arial"/>
              </a:rPr>
              <a:t>ПМ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ольский механический заво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80cb0"/>
                </a:solidFill>
                <a:latin typeface="Arial"/>
              </a:rPr>
              <a:t>ОЗЛ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Оршанский завод «Легмаш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FD34-6086-4589-B01B-FFADC2ABFE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ЕРМИ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80cb0"/>
                </a:solidFill>
                <a:latin typeface="Arial"/>
              </a:rPr>
              <a:t>СТЕЖОК</a:t>
            </a:r>
            <a:r>
              <a:rPr b="0" i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это повторяющийся элемент ниточной строчки между проколами иг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80cb0"/>
                </a:solidFill>
                <a:latin typeface="Arial"/>
              </a:rPr>
              <a:t>СТРОЧКА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это последовательно повторяющийся ряд стеж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80cb0"/>
                </a:solidFill>
                <a:latin typeface="Arial"/>
              </a:rPr>
              <a:t>ШО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соединение строчкой двух или нескольких слоев матери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80cb0"/>
                </a:solidFill>
                <a:latin typeface="Arial"/>
              </a:rPr>
              <a:t>Ширина шв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расстояние от строчки до среза дет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6023-4CCD-4E7C-8ED4-3A841352343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хема образования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стеж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95280" y="1735200"/>
            <a:ext cx="8497800" cy="448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F646-D7CF-4B11-8A49-E9365429E4C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-316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РОЧКА СТАЧИ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502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разуется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переплетением в ткан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верхней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(игольной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нижней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(челночной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нит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её выполнении участвуют 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механизм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маши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Иг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Лап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Двигатель тка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Чел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Нитепритягива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6CE0-9203-4EC1-A348-0578CF5B7AB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ашинная строч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5148000" cy="8906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63640" y="1341360"/>
            <a:ext cx="3481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ильная стро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тляние сверху (</a:t>
            </a:r>
            <a:r>
              <a:rPr b="0" lang="ru-RU" sz="2800" spc="-1" strike="noStrike">
                <a:solidFill>
                  <a:srgbClr val="f43d18"/>
                </a:solidFill>
                <a:latin typeface="Arial"/>
              </a:rPr>
              <a:t>верхня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итка перетягивает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нижню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тляние снизу (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нижня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итка перетягивает </a:t>
            </a:r>
            <a:r>
              <a:rPr b="0" lang="ru-RU" sz="2800" spc="-1" strike="noStrike">
                <a:solidFill>
                  <a:srgbClr val="f43d18"/>
                </a:solidFill>
                <a:latin typeface="Arial"/>
              </a:rPr>
              <a:t>верхню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5148000" cy="8575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250920" y="4724280"/>
            <a:ext cx="5148000" cy="74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1D53-1D6B-44C3-92F0-3378472214C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692280"/>
            <a:ext cx="8007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Как называется место соединения двух или нескольких детал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Как называется расстояние от строчки до среза детал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ми нитками выполняют все внутренние машинные шв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Что обеспечивает выполнение требований, предъявляемых к машинным работа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нужно делать с временными строчками после выполнения машинной работ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87280" y="5950080"/>
            <a:ext cx="649440" cy="504720"/>
          </a:xfrm>
          <a:custGeom>
            <a:avLst/>
            <a:gdLst>
              <a:gd name="textAreaLeft" fmla="*/ 32400 w 649440"/>
              <a:gd name="textAreaRight" fmla="*/ 617040 w 6494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89" h="21600">
                <a:moveTo>
                  <a:pt x="0" y="0"/>
                </a:moveTo>
                <a:lnTo>
                  <a:pt x="27789" y="0"/>
                </a:lnTo>
                <a:lnTo>
                  <a:pt x="27789" y="21600"/>
                </a:lnTo>
                <a:lnTo>
                  <a:pt x="0" y="21600"/>
                </a:lnTo>
                <a:close/>
              </a:path>
              <a:path fill="lightenLess" w="27789" h="21600">
                <a:moveTo>
                  <a:pt x="0" y="0"/>
                </a:moveTo>
                <a:lnTo>
                  <a:pt x="27789" y="0"/>
                </a:lnTo>
                <a:lnTo>
                  <a:pt x="26389" y="1400"/>
                </a:lnTo>
                <a:lnTo>
                  <a:pt x="1400" y="1400"/>
                </a:lnTo>
                <a:close/>
              </a:path>
              <a:path fill="darken" w="27789" h="21600">
                <a:moveTo>
                  <a:pt x="27789" y="0"/>
                </a:moveTo>
                <a:lnTo>
                  <a:pt x="27789" y="21600"/>
                </a:lnTo>
                <a:lnTo>
                  <a:pt x="26389" y="20200"/>
                </a:lnTo>
                <a:lnTo>
                  <a:pt x="26389" y="1400"/>
                </a:lnTo>
                <a:close/>
              </a:path>
              <a:path fill="darkenLess" w="27789" h="21600">
                <a:moveTo>
                  <a:pt x="27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9" y="20200"/>
                </a:lnTo>
                <a:close/>
              </a:path>
              <a:path fill="lighten" w="27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9" h="21600">
                <a:moveTo>
                  <a:pt x="6888" y="7493"/>
                </a:moveTo>
                <a:lnTo>
                  <a:pt x="10396" y="7493"/>
                </a:lnTo>
                <a:lnTo>
                  <a:pt x="10396" y="12828"/>
                </a:lnTo>
                <a:cubicBezTo>
                  <a:pt x="10396" y="13751"/>
                  <a:pt x="11196" y="14482"/>
                  <a:pt x="12232" y="14482"/>
                </a:cubicBezTo>
                <a:lnTo>
                  <a:pt x="13895" y="14482"/>
                </a:lnTo>
                <a:cubicBezTo>
                  <a:pt x="14930" y="14482"/>
                  <a:pt x="15731" y="13751"/>
                  <a:pt x="15731" y="12828"/>
                </a:cubicBezTo>
                <a:lnTo>
                  <a:pt x="15731" y="7493"/>
                </a:lnTo>
                <a:lnTo>
                  <a:pt x="13895" y="7493"/>
                </a:lnTo>
                <a:lnTo>
                  <a:pt x="17402" y="3985"/>
                </a:lnTo>
                <a:lnTo>
                  <a:pt x="21075" y="7493"/>
                </a:lnTo>
                <a:lnTo>
                  <a:pt x="19239" y="7493"/>
                </a:lnTo>
                <a:lnTo>
                  <a:pt x="19239" y="12828"/>
                </a:lnTo>
                <a:cubicBezTo>
                  <a:pt x="19239" y="15596"/>
                  <a:pt x="16662" y="18155"/>
                  <a:pt x="13895" y="18155"/>
                </a:cubicBezTo>
                <a:lnTo>
                  <a:pt x="12232" y="18155"/>
                </a:lnTo>
                <a:cubicBezTo>
                  <a:pt x="9464" y="18155"/>
                  <a:pt x="6888" y="15596"/>
                  <a:pt x="6888" y="12828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BC9D-BEBB-4226-BDAA-59EAD237DBF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716360" y="260280"/>
            <a:ext cx="41292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Намотка ни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на шпульк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тавить машину на свободный х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деть катушку на катушечный стерж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мотать на катушку несколько витков ни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деть шпульку на шпиндель мотал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ередвинуть моталку до уп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вести в движение маховое колесо и нитка начнет наматываться на шпуль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10960" y="0"/>
            <a:ext cx="44420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5E51-BBFD-4E26-992F-98F05DBC16F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Что нужно сделать до начала работы на швейной машин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будете наматывать нитки на шпульк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0cb0"/>
                </a:solidFill>
                <a:latin typeface="Arial"/>
              </a:rPr>
              <a:t>Для чего необходимо переключать машину на холостой ход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ъясните, как это сдел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258920" y="5950080"/>
            <a:ext cx="865080" cy="709560"/>
          </a:xfrm>
          <a:custGeom>
            <a:avLst/>
            <a:gdLst>
              <a:gd name="textAreaLeft" fmla="*/ 45720 w 865080"/>
              <a:gd name="textAreaRight" fmla="*/ 819360 w 86508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6332" h="21600">
                <a:moveTo>
                  <a:pt x="0" y="0"/>
                </a:moveTo>
                <a:lnTo>
                  <a:pt x="26332" y="0"/>
                </a:lnTo>
                <a:lnTo>
                  <a:pt x="26332" y="21600"/>
                </a:lnTo>
                <a:lnTo>
                  <a:pt x="0" y="21600"/>
                </a:lnTo>
                <a:close/>
              </a:path>
              <a:path fill="lightenLess" w="26332" h="21600">
                <a:moveTo>
                  <a:pt x="0" y="0"/>
                </a:moveTo>
                <a:lnTo>
                  <a:pt x="26332" y="0"/>
                </a:lnTo>
                <a:lnTo>
                  <a:pt x="24932" y="1400"/>
                </a:lnTo>
                <a:lnTo>
                  <a:pt x="1400" y="1400"/>
                </a:lnTo>
                <a:close/>
              </a:path>
              <a:path fill="darken" w="26332" h="21600">
                <a:moveTo>
                  <a:pt x="26332" y="0"/>
                </a:moveTo>
                <a:lnTo>
                  <a:pt x="26332" y="21600"/>
                </a:lnTo>
                <a:lnTo>
                  <a:pt x="24932" y="20200"/>
                </a:lnTo>
                <a:lnTo>
                  <a:pt x="24932" y="1400"/>
                </a:lnTo>
                <a:close/>
              </a:path>
              <a:path fill="darkenLess" w="26332" h="21600">
                <a:moveTo>
                  <a:pt x="26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2" y="20200"/>
                </a:lnTo>
                <a:close/>
              </a:path>
              <a:path fill="lighten" w="26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2" h="21600">
                <a:moveTo>
                  <a:pt x="6159" y="7493"/>
                </a:moveTo>
                <a:lnTo>
                  <a:pt x="9667" y="7493"/>
                </a:lnTo>
                <a:lnTo>
                  <a:pt x="9667" y="12828"/>
                </a:lnTo>
                <a:cubicBezTo>
                  <a:pt x="9667" y="13751"/>
                  <a:pt x="10468" y="14482"/>
                  <a:pt x="11504" y="14482"/>
                </a:cubicBezTo>
                <a:lnTo>
                  <a:pt x="13166" y="14482"/>
                </a:lnTo>
                <a:cubicBezTo>
                  <a:pt x="14202" y="14482"/>
                  <a:pt x="15002" y="13751"/>
                  <a:pt x="15002" y="12828"/>
                </a:cubicBezTo>
                <a:lnTo>
                  <a:pt x="15002" y="7493"/>
                </a:lnTo>
                <a:lnTo>
                  <a:pt x="13166" y="7493"/>
                </a:lnTo>
                <a:lnTo>
                  <a:pt x="16674" y="3985"/>
                </a:lnTo>
                <a:lnTo>
                  <a:pt x="20346" y="7493"/>
                </a:lnTo>
                <a:lnTo>
                  <a:pt x="18510" y="7493"/>
                </a:lnTo>
                <a:lnTo>
                  <a:pt x="18510" y="12828"/>
                </a:lnTo>
                <a:cubicBezTo>
                  <a:pt x="18510" y="15596"/>
                  <a:pt x="15934" y="18155"/>
                  <a:pt x="13166" y="18155"/>
                </a:cubicBezTo>
                <a:lnTo>
                  <a:pt x="11504" y="18155"/>
                </a:lnTo>
                <a:cubicBezTo>
                  <a:pt x="8736" y="18155"/>
                  <a:pt x="6159" y="15596"/>
                  <a:pt x="6159" y="12828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1BE-392F-426E-B69F-49D76E6572D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Заправка 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верхней нит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0" t="0" r="23623" b="0"/>
          <a:stretch/>
        </p:blipFill>
        <p:spPr>
          <a:xfrm>
            <a:off x="0" y="907920"/>
            <a:ext cx="2519280" cy="5516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rcRect l="0" t="0" r="15132" b="0"/>
          <a:stretch/>
        </p:blipFill>
        <p:spPr>
          <a:xfrm>
            <a:off x="6515280" y="765000"/>
            <a:ext cx="2628720" cy="53737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rcRect l="0" t="0" r="2003" b="7125"/>
          <a:stretch/>
        </p:blipFill>
        <p:spPr>
          <a:xfrm>
            <a:off x="2556000" y="836640"/>
            <a:ext cx="3960720" cy="60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729A-798F-4A51-BFCE-B288A99B512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Последовательность заправк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54936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ставьт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ашину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 рабочий хо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днимите </a:t>
            </a:r>
            <a:r>
              <a:rPr b="0" i="1" lang="ru-RU" sz="2400" spc="-1" strike="noStrike">
                <a:solidFill>
                  <a:srgbClr val="b80cb0"/>
                </a:solidFill>
                <a:latin typeface="Arial"/>
              </a:rPr>
              <a:t>иглу в верхнее по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оставьте катушку с нитками на катушечный стержень и пропустите нитку через прорезь </a:t>
            </a:r>
            <a:r>
              <a:rPr b="0" lang="ru-RU" sz="2400" spc="-1" strike="noStrike">
                <a:solidFill>
                  <a:srgbClr val="b80cb0"/>
                </a:solidFill>
                <a:latin typeface="Arial"/>
              </a:rPr>
              <a:t>нитенаправител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едите </a:t>
            </a:r>
            <a:r>
              <a:rPr b="0" lang="ru-RU" sz="2400" spc="-1" strike="noStrike">
                <a:solidFill>
                  <a:srgbClr val="b80cb0"/>
                </a:solidFill>
                <a:latin typeface="Arial"/>
              </a:rPr>
              <a:t>нитку между шайбами регулятора натяжения верхней нит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ротянув ее за оба конца вверх, а затем в петлю компенсационной пруж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Вденьте нитку в ушко рычага нитепритягивателя и заведите ее за крючок нитенаправителя на фронтовой доске за крючок нитенаправителя на иглодержате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Вставьте </a:t>
            </a:r>
            <a:r>
              <a:rPr b="0" lang="ru-RU" sz="2400" spc="-1" strike="noStrike">
                <a:solidFill>
                  <a:srgbClr val="b80cb0"/>
                </a:solidFill>
                <a:latin typeface="Arial"/>
              </a:rPr>
              <a:t>нитку в ушко иглы со стороны нитенаправител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оставив свободный конец нитки длиной 10-15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FC0-2FD9-4605-AD05-F3AC04FC6D8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140000" y="259920"/>
            <a:ext cx="500364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правка </a:t>
            </a: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нижней нит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211640" y="3141720"/>
            <a:ext cx="47052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трой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лночного механиз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30546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EF6E-EF36-481D-BF30-BF650865624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20960" y="260280"/>
            <a:ext cx="7223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стория создания швейной маши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84720" y="2060640"/>
            <a:ext cx="46800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Леонардо да Вин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ложил первый прое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вейной машины в конц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15 века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752640" cy="504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DE3-4C0D-4228-B3FA-23C9F5CB7C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13A-160D-4ED3-83DA-EF312391DDB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0560" y="244080"/>
            <a:ext cx="85914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Последовательность заправки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Вставте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 шпульк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с намотанной ниткой в 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шпульный колпачо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Заправьте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нитк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од пружинку натяжения нитки шпульного колпачка, 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оставив конец длиной 10-15 с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Вставьте шпульный колпачок в челночное устройство. 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Палец шпульного колпачка должен войти в прорезь челночного устройств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Если при этом послышится щелчок, то, значит, колпачок со шпулькой установлен правиль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Закройте задвижную пластинк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и выведите нижнюю нитку наверх через отверстие игольной пласти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Концы обеих нито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заведите 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назад, под лап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2CC-232A-4229-A667-216D063F30F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765000"/>
            <a:ext cx="80074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80cb0"/>
                </a:solidFill>
                <a:latin typeface="Arial"/>
              </a:rPr>
              <a:t>1.Что  представляет собой рабочее место для выполнения машинных рабо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С чего следует начать подготовку машины к работ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Как установить нипепритягиватель и игловодител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4. Как нужно вынимать  шпульк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Объясните, как будете заправлять нит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6. Сколько ниток должно оказаться под лапк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7. Расскажите последовательность заправки верхней нит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Расскажите последовательность заправки нижней ни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80cb0"/>
                </a:solidFill>
                <a:latin typeface="Arial"/>
              </a:rPr>
              <a:t>9. Для чего необходимо выполнять пробные строч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2589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7493"/>
                </a:moveTo>
                <a:lnTo>
                  <a:pt x="11580" y="7493"/>
                </a:lnTo>
                <a:lnTo>
                  <a:pt x="11580" y="12828"/>
                </a:lnTo>
                <a:cubicBezTo>
                  <a:pt x="11580" y="13751"/>
                  <a:pt x="12381" y="14482"/>
                  <a:pt x="13417" y="14482"/>
                </a:cubicBezTo>
                <a:lnTo>
                  <a:pt x="15079" y="14482"/>
                </a:lnTo>
                <a:cubicBezTo>
                  <a:pt x="16115" y="14482"/>
                  <a:pt x="16916" y="13751"/>
                  <a:pt x="16916" y="12828"/>
                </a:cubicBezTo>
                <a:lnTo>
                  <a:pt x="16916" y="7493"/>
                </a:lnTo>
                <a:lnTo>
                  <a:pt x="15079" y="7493"/>
                </a:lnTo>
                <a:lnTo>
                  <a:pt x="18587" y="3985"/>
                </a:lnTo>
                <a:lnTo>
                  <a:pt x="22260" y="7493"/>
                </a:lnTo>
                <a:lnTo>
                  <a:pt x="20423" y="7493"/>
                </a:lnTo>
                <a:lnTo>
                  <a:pt x="20423" y="12828"/>
                </a:lnTo>
                <a:cubicBezTo>
                  <a:pt x="20423" y="15596"/>
                  <a:pt x="17847" y="18155"/>
                  <a:pt x="15079" y="18155"/>
                </a:cubicBezTo>
                <a:lnTo>
                  <a:pt x="13417" y="18155"/>
                </a:lnTo>
                <a:cubicBezTo>
                  <a:pt x="10649" y="18155"/>
                  <a:pt x="8073" y="15596"/>
                  <a:pt x="8073" y="12828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95B-90AD-4783-A5CA-4E4C67F2A9F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гуляторы швейной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 маши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егулятор натяжения верхней ни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Регулятор натяжения нижней ни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гулятор длины стеж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172360" y="2133720"/>
            <a:ext cx="432000" cy="3585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6020" h="21600">
                <a:moveTo>
                  <a:pt x="0" y="0"/>
                </a:moveTo>
                <a:lnTo>
                  <a:pt x="26020" y="0"/>
                </a:lnTo>
                <a:lnTo>
                  <a:pt x="26020" y="21600"/>
                </a:lnTo>
                <a:lnTo>
                  <a:pt x="0" y="21600"/>
                </a:lnTo>
                <a:close/>
              </a:path>
              <a:path fill="lightenLess" w="26020" h="21600">
                <a:moveTo>
                  <a:pt x="0" y="0"/>
                </a:moveTo>
                <a:lnTo>
                  <a:pt x="26020" y="0"/>
                </a:lnTo>
                <a:lnTo>
                  <a:pt x="24620" y="1400"/>
                </a:lnTo>
                <a:lnTo>
                  <a:pt x="1400" y="1400"/>
                </a:lnTo>
                <a:close/>
              </a:path>
              <a:path fill="darken" w="26020" h="21600">
                <a:moveTo>
                  <a:pt x="26020" y="0"/>
                </a:moveTo>
                <a:lnTo>
                  <a:pt x="26020" y="21600"/>
                </a:lnTo>
                <a:lnTo>
                  <a:pt x="24620" y="20200"/>
                </a:lnTo>
                <a:lnTo>
                  <a:pt x="24620" y="1400"/>
                </a:lnTo>
                <a:close/>
              </a:path>
              <a:path fill="darkenLess" w="26020" h="21600">
                <a:moveTo>
                  <a:pt x="26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0" y="20200"/>
                </a:lnTo>
                <a:close/>
              </a:path>
              <a:path fill="lighten" w="26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20" h="21600">
                <a:moveTo>
                  <a:pt x="6003" y="3794"/>
                </a:moveTo>
                <a:lnTo>
                  <a:pt x="20016" y="10800"/>
                </a:lnTo>
                <a:lnTo>
                  <a:pt x="6003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172360" y="3284640"/>
            <a:ext cx="432000" cy="3585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6020" h="21600">
                <a:moveTo>
                  <a:pt x="0" y="0"/>
                </a:moveTo>
                <a:lnTo>
                  <a:pt x="26020" y="0"/>
                </a:lnTo>
                <a:lnTo>
                  <a:pt x="26020" y="21600"/>
                </a:lnTo>
                <a:lnTo>
                  <a:pt x="0" y="21600"/>
                </a:lnTo>
                <a:close/>
              </a:path>
              <a:path fill="lightenLess" w="26020" h="21600">
                <a:moveTo>
                  <a:pt x="0" y="0"/>
                </a:moveTo>
                <a:lnTo>
                  <a:pt x="26020" y="0"/>
                </a:lnTo>
                <a:lnTo>
                  <a:pt x="24620" y="1400"/>
                </a:lnTo>
                <a:lnTo>
                  <a:pt x="1400" y="1400"/>
                </a:lnTo>
                <a:close/>
              </a:path>
              <a:path fill="darken" w="26020" h="21600">
                <a:moveTo>
                  <a:pt x="26020" y="0"/>
                </a:moveTo>
                <a:lnTo>
                  <a:pt x="26020" y="21600"/>
                </a:lnTo>
                <a:lnTo>
                  <a:pt x="24620" y="20200"/>
                </a:lnTo>
                <a:lnTo>
                  <a:pt x="24620" y="1400"/>
                </a:lnTo>
                <a:close/>
              </a:path>
              <a:path fill="darkenLess" w="26020" h="21600">
                <a:moveTo>
                  <a:pt x="26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0" y="20200"/>
                </a:lnTo>
                <a:close/>
              </a:path>
              <a:path fill="lighten" w="26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20" h="21600">
                <a:moveTo>
                  <a:pt x="6003" y="3794"/>
                </a:moveTo>
                <a:lnTo>
                  <a:pt x="20016" y="10800"/>
                </a:lnTo>
                <a:lnTo>
                  <a:pt x="6003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172360" y="4292640"/>
            <a:ext cx="433440" cy="36036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6" h="21600">
                <a:moveTo>
                  <a:pt x="5982" y="3794"/>
                </a:moveTo>
                <a:lnTo>
                  <a:pt x="19995" y="10800"/>
                </a:lnTo>
                <a:lnTo>
                  <a:pt x="5982" y="17806"/>
                </a:ln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2EDE-9C84-4E46-9B12-9DDB0BE925B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гулятор </a:t>
            </a: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верхней ни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4720" cy="38480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788000" cy="37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F991-C27C-4DDD-A4A1-E92AFFEAEAB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604000" cy="568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459F-A43D-4C93-9393-B13DF8DBDF7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8880" y="-360"/>
            <a:ext cx="83851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гулятор </a:t>
            </a:r>
            <a:r>
              <a:rPr b="1" lang="en-US" sz="4400" spc="-1" strike="noStrike">
                <a:solidFill>
                  <a:srgbClr val="0033cc"/>
                </a:solidFill>
                <a:latin typeface="Arial Black"/>
              </a:rPr>
              <a:t>нижней ни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692360" y="1335240"/>
            <a:ext cx="583236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2C82-026A-4CA4-97C0-F023981C501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гулятор длины стежк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842160" cy="50068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40B-1DE6-4F50-BCFA-A1AEEF54CCD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гулятор длины стеж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ина стежка машинной строчки зависит  от  места расположения положения рычага регулятора на шка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ратный ход машины используют при выполнении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машинной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закреп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74600" y="1268280"/>
            <a:ext cx="4791240" cy="558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ADC-C0F3-42A5-9700-C28268D4107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Где расположен регулятор натяжения верхней нит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де расположен регулятор натяжения нижней нит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0cb0"/>
                </a:solidFill>
                <a:latin typeface="Arial"/>
              </a:rPr>
              <a:t>Где расположен регулятор длины стежка на швейной машин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чего применяют обратный ход швейной маши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87280" y="595008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7493"/>
                </a:moveTo>
                <a:lnTo>
                  <a:pt x="7307" y="7493"/>
                </a:lnTo>
                <a:lnTo>
                  <a:pt x="7307" y="12828"/>
                </a:lnTo>
                <a:cubicBezTo>
                  <a:pt x="7307" y="13751"/>
                  <a:pt x="8108" y="14482"/>
                  <a:pt x="9144" y="14482"/>
                </a:cubicBezTo>
                <a:lnTo>
                  <a:pt x="10806" y="14482"/>
                </a:lnTo>
                <a:cubicBezTo>
                  <a:pt x="11842" y="14482"/>
                  <a:pt x="12642" y="13751"/>
                  <a:pt x="12642" y="12828"/>
                </a:cubicBezTo>
                <a:lnTo>
                  <a:pt x="12642" y="7493"/>
                </a:lnTo>
                <a:lnTo>
                  <a:pt x="10806" y="7493"/>
                </a:lnTo>
                <a:lnTo>
                  <a:pt x="14314" y="3985"/>
                </a:lnTo>
                <a:lnTo>
                  <a:pt x="17987" y="7493"/>
                </a:lnTo>
                <a:lnTo>
                  <a:pt x="16150" y="7493"/>
                </a:lnTo>
                <a:lnTo>
                  <a:pt x="16150" y="12828"/>
                </a:lnTo>
                <a:cubicBezTo>
                  <a:pt x="16150" y="15596"/>
                  <a:pt x="13574" y="18155"/>
                  <a:pt x="10806" y="18155"/>
                </a:cubicBezTo>
                <a:lnTo>
                  <a:pt x="9144" y="18155"/>
                </a:lnTo>
                <a:cubicBezTo>
                  <a:pt x="6376" y="18155"/>
                  <a:pt x="3800" y="15596"/>
                  <a:pt x="3800" y="12828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ADA4-4E3E-4E9E-A630-205924E2DF4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316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b80cb0"/>
                </a:solidFill>
                <a:latin typeface="Arial"/>
              </a:rPr>
              <a:t>1755 г Карл Вейзентал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зобрел швейную машину, в которой использовалась игла с ушком посереди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b80cb0"/>
                </a:solidFill>
                <a:latin typeface="Arial"/>
              </a:rPr>
              <a:t>1808 г Д. Пир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зобрел машину, в основе работы которой лежал принцип получения однониточного цепного стеж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b80cb0"/>
                </a:solidFill>
                <a:latin typeface="Arial"/>
              </a:rPr>
              <a:t>1834 г Уолтер Хан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зобрел иглу с ушк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заостренном конце и челночное устрой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b80cb0"/>
                </a:solidFill>
                <a:latin typeface="Arial"/>
              </a:rPr>
              <a:t>1844-1845 г Элиот Хо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оздал стабильно работающую швейную маш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D4B1-2204-4BFF-88DB-5074A72B5A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588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стройство и установка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швейной игл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839960" y="1557360"/>
            <a:ext cx="4464000" cy="530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F04-AA93-4829-9405-CFFE20D70A4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395280" y="1905120"/>
          <a:ext cx="8450280" cy="4822560"/>
        </p:xfrm>
        <a:graphic>
          <a:graphicData uri="http://schemas.openxmlformats.org/drawingml/2006/table">
            <a:tbl>
              <a:tblPr/>
              <a:tblGrid>
                <a:gridCol w="2016000"/>
                <a:gridCol w="2132280"/>
                <a:gridCol w="2146320"/>
                <a:gridCol w="21556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ид материа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Номер иг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en-US" sz="18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омер нит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лопчатобумажн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шелков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Тонкий шелк, бати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итец, сатин, шелк, бельевые тка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80- 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 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Тяжелая хлопчатобумажная ткань, бязь, фланель, тонкая шерстяная ткань, тяжелый толстый шелк, простынное полот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90- 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- 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Шерстяная костюмная ткань, т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Толстая шерстяная ткань, сук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ПО- 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одбор номеров машинной иглы и швейных ниток в зависимости от вида ткан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B91C-1666-4ADA-AC37-EABB9E011AD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Какие части имеет швейная иг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0cb0"/>
                </a:solidFill>
                <a:latin typeface="Arial"/>
              </a:rPr>
              <a:t>Почему конец иглы должен быть остр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чего необходимо ушко игл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Как подбирают иглу и нитки для выполнения машинных рабо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чего служит винт на иглодержател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87280" y="6021360"/>
            <a:ext cx="648000" cy="576360"/>
          </a:xfrm>
          <a:custGeom>
            <a:avLst/>
            <a:gdLst>
              <a:gd name="textAreaLeft" fmla="*/ 37080 w 648000"/>
              <a:gd name="textAreaRight" fmla="*/ 610920 w 64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83" h="21600">
                <a:moveTo>
                  <a:pt x="0" y="0"/>
                </a:moveTo>
                <a:lnTo>
                  <a:pt x="24283" y="0"/>
                </a:lnTo>
                <a:lnTo>
                  <a:pt x="24283" y="21600"/>
                </a:lnTo>
                <a:lnTo>
                  <a:pt x="0" y="21600"/>
                </a:lnTo>
                <a:close/>
              </a:path>
              <a:path fill="lightenLess" w="24283" h="21600">
                <a:moveTo>
                  <a:pt x="0" y="0"/>
                </a:moveTo>
                <a:lnTo>
                  <a:pt x="24283" y="0"/>
                </a:lnTo>
                <a:lnTo>
                  <a:pt x="22883" y="1400"/>
                </a:lnTo>
                <a:lnTo>
                  <a:pt x="1400" y="1400"/>
                </a:lnTo>
                <a:close/>
              </a:path>
              <a:path fill="darken" w="24283" h="21600">
                <a:moveTo>
                  <a:pt x="24283" y="0"/>
                </a:moveTo>
                <a:lnTo>
                  <a:pt x="24283" y="21600"/>
                </a:lnTo>
                <a:lnTo>
                  <a:pt x="22883" y="20200"/>
                </a:lnTo>
                <a:lnTo>
                  <a:pt x="22883" y="1400"/>
                </a:lnTo>
                <a:close/>
              </a:path>
              <a:path fill="darkenLess" w="24283" h="21600">
                <a:moveTo>
                  <a:pt x="24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3" y="20200"/>
                </a:lnTo>
                <a:close/>
              </a:path>
              <a:path fill="lighten" w="24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3" h="21600">
                <a:moveTo>
                  <a:pt x="5135" y="7493"/>
                </a:moveTo>
                <a:lnTo>
                  <a:pt x="8643" y="7493"/>
                </a:lnTo>
                <a:lnTo>
                  <a:pt x="8643" y="12828"/>
                </a:lnTo>
                <a:cubicBezTo>
                  <a:pt x="8643" y="13751"/>
                  <a:pt x="9443" y="14482"/>
                  <a:pt x="10479" y="14482"/>
                </a:cubicBezTo>
                <a:lnTo>
                  <a:pt x="12142" y="14482"/>
                </a:lnTo>
                <a:cubicBezTo>
                  <a:pt x="13177" y="14482"/>
                  <a:pt x="13978" y="13751"/>
                  <a:pt x="13978" y="12828"/>
                </a:cubicBezTo>
                <a:lnTo>
                  <a:pt x="13978" y="7493"/>
                </a:lnTo>
                <a:lnTo>
                  <a:pt x="12142" y="7493"/>
                </a:lnTo>
                <a:lnTo>
                  <a:pt x="15649" y="3985"/>
                </a:lnTo>
                <a:lnTo>
                  <a:pt x="19322" y="7493"/>
                </a:lnTo>
                <a:lnTo>
                  <a:pt x="17486" y="7493"/>
                </a:lnTo>
                <a:lnTo>
                  <a:pt x="17486" y="12828"/>
                </a:lnTo>
                <a:cubicBezTo>
                  <a:pt x="17486" y="15596"/>
                  <a:pt x="14909" y="18155"/>
                  <a:pt x="12142" y="18155"/>
                </a:cubicBezTo>
                <a:lnTo>
                  <a:pt x="10479" y="18155"/>
                </a:lnTo>
                <a:cubicBezTo>
                  <a:pt x="7711" y="18155"/>
                  <a:pt x="5135" y="15596"/>
                  <a:pt x="5135" y="12828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A4D3-047F-4500-83D2-61ABD789E51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8880" y="260280"/>
            <a:ext cx="8385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Уход за швейной машино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3772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Уход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за швейной машиной </a:t>
            </a: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заключаетс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в своевременной её </a:t>
            </a: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чистке, смазке и налад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истка и смазка </a:t>
            </a: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сохраняю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детали от </a:t>
            </a: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полом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быстрого износ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способствуют устранению ряда неполад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шину </a:t>
            </a: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сначала чистя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от обрывок ниток и пы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D8B-D210-4EBC-A172-48B2262A821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5219640" y="549000"/>
            <a:ext cx="362592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Arial"/>
              </a:rPr>
              <a:t>Смазываю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 - 3 каплям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 специальной масленки чистым, прозрачны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33cc"/>
                </a:solidFill>
                <a:uFillTx/>
                <a:latin typeface="Arial"/>
              </a:rPr>
              <a:t>машинным масло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смотри схему смазки швейной маши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2410920" y="-1827360"/>
            <a:ext cx="8385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642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F87-9C78-4C6B-A1DF-AFD960DAA07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В чем заключается уход за швейной машино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Каким маслом смазывают детали швейной маши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чему к швейной машине надо относится бережн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Для чего по окончании работы необходимо подложить под лапку ткань и опустить лапк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71640" y="587700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  <a:path fill="darken" w="21600" h="24036">
                <a:moveTo>
                  <a:pt x="3794" y="8711"/>
                </a:moveTo>
                <a:lnTo>
                  <a:pt x="7301" y="8711"/>
                </a:lnTo>
                <a:lnTo>
                  <a:pt x="7301" y="14046"/>
                </a:lnTo>
                <a:cubicBezTo>
                  <a:pt x="7301" y="14969"/>
                  <a:pt x="8102" y="15700"/>
                  <a:pt x="9138" y="15700"/>
                </a:cubicBezTo>
                <a:lnTo>
                  <a:pt x="10800" y="15700"/>
                </a:lnTo>
                <a:cubicBezTo>
                  <a:pt x="11836" y="15700"/>
                  <a:pt x="12636" y="14969"/>
                  <a:pt x="12636" y="14046"/>
                </a:cubicBezTo>
                <a:lnTo>
                  <a:pt x="12636" y="8711"/>
                </a:lnTo>
                <a:lnTo>
                  <a:pt x="10800" y="8711"/>
                </a:lnTo>
                <a:lnTo>
                  <a:pt x="14308" y="5203"/>
                </a:lnTo>
                <a:lnTo>
                  <a:pt x="17981" y="8711"/>
                </a:lnTo>
                <a:lnTo>
                  <a:pt x="16144" y="8711"/>
                </a:lnTo>
                <a:lnTo>
                  <a:pt x="16144" y="14046"/>
                </a:lnTo>
                <a:cubicBezTo>
                  <a:pt x="16144" y="16814"/>
                  <a:pt x="13568" y="19373"/>
                  <a:pt x="10800" y="19373"/>
                </a:cubicBezTo>
                <a:lnTo>
                  <a:pt x="9138" y="19373"/>
                </a:lnTo>
                <a:cubicBezTo>
                  <a:pt x="6370" y="19373"/>
                  <a:pt x="3794" y="16814"/>
                  <a:pt x="3794" y="14046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255-AE3B-47BB-83B1-AFAA28555EB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испособл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27640" y="1628280"/>
            <a:ext cx="2617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гранич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льная линей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0" y="1407960"/>
            <a:ext cx="5796000" cy="47516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5940360" y="3573360"/>
            <a:ext cx="2830680" cy="262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1CAF-98B7-440B-A615-0F3C2EB70BA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ЛЯ ПАРАЛЛЕЛЬНЫХ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СТРОЧ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502680" cy="41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C096-0F9F-484D-971A-8D4B0D0EE63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87640" y="1267920"/>
            <a:ext cx="23288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апка –запошивател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6443640" cy="49532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6227640" y="3789360"/>
            <a:ext cx="2675160" cy="26748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450800" cy="148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844-8A27-405C-819E-DF22E1E27E8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11640" y="836280"/>
            <a:ext cx="28335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апка - руби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9280" y="1150920"/>
            <a:ext cx="5472360" cy="50688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6732720" y="3860640"/>
            <a:ext cx="1450800" cy="148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C05-E8CA-4732-891D-05F5A80B94F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11280" y="4941720"/>
            <a:ext cx="800712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b80cb0"/>
                </a:solidFill>
                <a:latin typeface="Arial"/>
              </a:rPr>
              <a:t>1850-1851 Ален Вильсон и Исаак Зинг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ли современную швейную машин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2664000" cy="2278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3203640" cy="2767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059280" y="0"/>
            <a:ext cx="3143160" cy="2252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rcRect l="0" t="0" r="46766" b="-1827"/>
          <a:stretch/>
        </p:blipFill>
        <p:spPr>
          <a:xfrm>
            <a:off x="179280" y="0"/>
            <a:ext cx="2808360" cy="237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rcRect l="57051" t="-2183" r="0" b="0"/>
          <a:stretch/>
        </p:blipFill>
        <p:spPr>
          <a:xfrm>
            <a:off x="3059280" y="-171360"/>
            <a:ext cx="3314520" cy="2663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250920" y="2133720"/>
            <a:ext cx="3816360" cy="2813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7524720" y="189000"/>
            <a:ext cx="1295280" cy="96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2C13-14D2-40EC-9F92-B40E6FE708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56360" y="980640"/>
            <a:ext cx="2617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апка д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ши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л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79280" y="777960"/>
            <a:ext cx="6048360" cy="49798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6588000" y="3500280"/>
            <a:ext cx="2103480" cy="240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2E3-0DC3-4DC6-8670-D2FDCB50B2E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5866920" y="1413000"/>
            <a:ext cx="29782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апка для выполнения сбор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сборочник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5833800" cy="502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3985-996D-4AB1-B502-3F4F3E41B43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5795640" y="1341000"/>
            <a:ext cx="309708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апка для настрачи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сь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6119640" cy="46623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73DB-D6D6-4F0D-A944-DA81626B357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АПКА ДЛЯ ПЕТЕЛ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6985080" cy="39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FA5D-8580-4AD1-BC7A-0C902C83B5D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3772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Для чего применяют приспособления для швейных маши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чего применяют направляющие линей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0cb0"/>
                </a:solidFill>
                <a:latin typeface="Arial"/>
              </a:rPr>
              <a:t>Для чего применяют лапку-запошивате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какого шва применяют лапку-рубильни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71640" y="5805360"/>
            <a:ext cx="718920" cy="692280"/>
          </a:xfrm>
          <a:custGeom>
            <a:avLst/>
            <a:gdLst>
              <a:gd name="textAreaLeft" fmla="*/ 44640 w 718920"/>
              <a:gd name="textAreaRight" fmla="*/ 674280 w 718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31" h="21600">
                <a:moveTo>
                  <a:pt x="0" y="0"/>
                </a:moveTo>
                <a:lnTo>
                  <a:pt x="22431" y="0"/>
                </a:lnTo>
                <a:lnTo>
                  <a:pt x="22431" y="21600"/>
                </a:lnTo>
                <a:lnTo>
                  <a:pt x="0" y="21600"/>
                </a:lnTo>
                <a:close/>
              </a:path>
              <a:path fill="lightenLess" w="22431" h="21600">
                <a:moveTo>
                  <a:pt x="0" y="0"/>
                </a:moveTo>
                <a:lnTo>
                  <a:pt x="22431" y="0"/>
                </a:lnTo>
                <a:lnTo>
                  <a:pt x="21031" y="1400"/>
                </a:lnTo>
                <a:lnTo>
                  <a:pt x="1400" y="1400"/>
                </a:lnTo>
                <a:close/>
              </a:path>
              <a:path fill="darken" w="22431" h="21600">
                <a:moveTo>
                  <a:pt x="22431" y="0"/>
                </a:moveTo>
                <a:lnTo>
                  <a:pt x="22431" y="21600"/>
                </a:lnTo>
                <a:lnTo>
                  <a:pt x="21031" y="20200"/>
                </a:lnTo>
                <a:lnTo>
                  <a:pt x="21031" y="1400"/>
                </a:lnTo>
                <a:close/>
              </a:path>
              <a:path fill="darkenLess" w="22431" h="21600">
                <a:moveTo>
                  <a:pt x="22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31" y="20200"/>
                </a:lnTo>
                <a:close/>
              </a:path>
              <a:path fill="lighten" w="22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31" h="21600">
                <a:moveTo>
                  <a:pt x="4209" y="7493"/>
                </a:moveTo>
                <a:lnTo>
                  <a:pt x="7716" y="7493"/>
                </a:lnTo>
                <a:lnTo>
                  <a:pt x="7716" y="12828"/>
                </a:lnTo>
                <a:cubicBezTo>
                  <a:pt x="7716" y="13751"/>
                  <a:pt x="8517" y="14482"/>
                  <a:pt x="9553" y="14482"/>
                </a:cubicBezTo>
                <a:lnTo>
                  <a:pt x="11215" y="14482"/>
                </a:lnTo>
                <a:cubicBezTo>
                  <a:pt x="12251" y="14482"/>
                  <a:pt x="13052" y="13751"/>
                  <a:pt x="13052" y="12828"/>
                </a:cubicBezTo>
                <a:lnTo>
                  <a:pt x="13052" y="7493"/>
                </a:lnTo>
                <a:lnTo>
                  <a:pt x="11215" y="7493"/>
                </a:lnTo>
                <a:lnTo>
                  <a:pt x="14723" y="3985"/>
                </a:lnTo>
                <a:lnTo>
                  <a:pt x="18396" y="7493"/>
                </a:lnTo>
                <a:lnTo>
                  <a:pt x="16559" y="7493"/>
                </a:lnTo>
                <a:lnTo>
                  <a:pt x="16559" y="12828"/>
                </a:lnTo>
                <a:cubicBezTo>
                  <a:pt x="16559" y="15596"/>
                  <a:pt x="13983" y="18155"/>
                  <a:pt x="11215" y="18155"/>
                </a:cubicBezTo>
                <a:lnTo>
                  <a:pt x="9553" y="18155"/>
                </a:lnTo>
                <a:cubicBezTo>
                  <a:pt x="6785" y="18155"/>
                  <a:pt x="4209" y="15596"/>
                  <a:pt x="4209" y="12828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01B-47FF-42B6-81F7-0F5E181335E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ое швейное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производст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5157720"/>
            <a:ext cx="80074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кладирование ткан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троль с помощью разбраковочных маш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264360" cy="307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0591-68DE-4B95-A200-879C0A27583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50560" y="3933360"/>
            <a:ext cx="87138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стилание тканей с помощью настилочных маш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екание настила на части с помощью электрораскройных маш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ончательное вырезание деталей на ленточных раскройных машин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072720" cy="281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F0C-A67A-49A9-A7BF-3F4ABFF8860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Транспортировка готовых изделий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4360" y="4508280"/>
            <a:ext cx="80071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итье одежды:  обработка деталей, узлов и их соединение в целое издел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она влажно-тепловой обработки швейных изделий на гладильных пресс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921440" cy="29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F0D-7548-4616-9C37-41D251EA755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55280" y="4508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кончательная отделка готовых изделий в паровоздушных камер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993080" cy="30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762-2E81-4D1E-8FB7-2C614A19AD9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4360" y="5013360"/>
            <a:ext cx="80071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ранение готовой проду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424720" cy="351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9F6-6C62-4189-B84F-E6FC29AE099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917960" y="1904760"/>
            <a:ext cx="3927600" cy="20192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b80cb0"/>
                </a:solidFill>
                <a:latin typeface="Arial"/>
              </a:rPr>
              <a:t>1900 г в Росс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И.Зингер основал завод  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 Подольске, который после 1917 г был переименован в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 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ольский 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ханическ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од (</a:t>
            </a:r>
            <a:r>
              <a:rPr b="0" lang="en-US" sz="2800" spc="-1" strike="noStrike">
                <a:solidFill>
                  <a:srgbClr val="b80cb0"/>
                </a:solidFill>
                <a:latin typeface="Arial"/>
              </a:rPr>
              <a:t> ПМ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076720" y="333360"/>
            <a:ext cx="3888000" cy="4176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2817720" cy="450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D22C-1EF1-421D-99B1-1FD0F170E3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бочие професс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77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ОПЕРАТОР ШВЕЙНОГО ОБОРУДОВАНИЯ (шве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ПОРТ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ЗАКРОЙЩ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КОНТРОЛЕР ТКА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бочие этих специальностей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должны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знать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тройство и назначение швейных маши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выполнять правила безопасного труд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владеть приемами современной технологической обработки деталей и швейных узл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знать последовательность изготовления швейных издел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7303-064D-4D91-8716-2E09AEA8469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3851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5215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Какие предприятия выполняют массовый пошив ткан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предприятия занимаются индивидуальным производством одежд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0cb0"/>
                </a:solidFill>
                <a:latin typeface="Arial"/>
              </a:rPr>
              <a:t>Чем отличается массовый пошив от индивидуально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виды работ выполняют в цеха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Какие виды швейных машин используются на швейном производств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74F-16AF-42E1-886E-98A17A4280D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Вопросы для закрепления  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     Рабочие профессии</a:t>
            </a:r>
            <a:br>
              <a:rPr sz="40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7720" y="1484280"/>
            <a:ext cx="8007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Люди каких профессий трудятся на швейном производств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овите профессии швейного производ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0cb0"/>
                </a:solidFill>
                <a:latin typeface="Arial"/>
              </a:rPr>
              <a:t>Что должны знать рабочие швейных специальност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26920" y="5734080"/>
            <a:ext cx="648000" cy="71928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719280"/>
              <a:gd name="textAreaBottom" fmla="*/ 677520 h 719280"/>
            </a:gdLst>
            <a:ahLst/>
            <a:rect l="textAreaLeft" t="textAreaTop" r="textAreaRight" b="textAreaBottom"/>
            <a:pathLst>
              <a:path w="21600" h="23975">
                <a:moveTo>
                  <a:pt x="0" y="0"/>
                </a:moveTo>
                <a:lnTo>
                  <a:pt x="21600" y="0"/>
                </a:lnTo>
                <a:lnTo>
                  <a:pt x="21600" y="23975"/>
                </a:lnTo>
                <a:lnTo>
                  <a:pt x="0" y="23975"/>
                </a:lnTo>
                <a:close/>
              </a:path>
              <a:path fill="lightenLess" w="21600" h="23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5">
                <a:moveTo>
                  <a:pt x="21600" y="0"/>
                </a:moveTo>
                <a:lnTo>
                  <a:pt x="21600" y="23975"/>
                </a:lnTo>
                <a:lnTo>
                  <a:pt x="20200" y="22575"/>
                </a:lnTo>
                <a:lnTo>
                  <a:pt x="20200" y="1400"/>
                </a:lnTo>
                <a:close/>
              </a:path>
              <a:path fill="darkenLess" w="21600" h="23975">
                <a:moveTo>
                  <a:pt x="21600" y="23975"/>
                </a:moveTo>
                <a:lnTo>
                  <a:pt x="0" y="23975"/>
                </a:lnTo>
                <a:lnTo>
                  <a:pt x="1400" y="22575"/>
                </a:lnTo>
                <a:lnTo>
                  <a:pt x="20200" y="22575"/>
                </a:lnTo>
                <a:close/>
              </a:path>
              <a:path fill="lighten" w="21600" h="23975">
                <a:moveTo>
                  <a:pt x="0" y="23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5"/>
                </a:lnTo>
                <a:close/>
              </a:path>
              <a:path fill="darken" w="21600" h="23975">
                <a:moveTo>
                  <a:pt x="3794" y="8680"/>
                </a:moveTo>
                <a:lnTo>
                  <a:pt x="7301" y="8680"/>
                </a:lnTo>
                <a:lnTo>
                  <a:pt x="7301" y="14015"/>
                </a:lnTo>
                <a:cubicBezTo>
                  <a:pt x="7301" y="14938"/>
                  <a:pt x="8102" y="15669"/>
                  <a:pt x="9138" y="15669"/>
                </a:cubicBezTo>
                <a:lnTo>
                  <a:pt x="10800" y="15669"/>
                </a:lnTo>
                <a:cubicBezTo>
                  <a:pt x="11836" y="15669"/>
                  <a:pt x="12636" y="14938"/>
                  <a:pt x="12636" y="14015"/>
                </a:cubicBezTo>
                <a:lnTo>
                  <a:pt x="12636" y="8680"/>
                </a:lnTo>
                <a:lnTo>
                  <a:pt x="10800" y="8680"/>
                </a:lnTo>
                <a:lnTo>
                  <a:pt x="14308" y="5172"/>
                </a:lnTo>
                <a:lnTo>
                  <a:pt x="17981" y="8680"/>
                </a:lnTo>
                <a:lnTo>
                  <a:pt x="16144" y="8680"/>
                </a:lnTo>
                <a:lnTo>
                  <a:pt x="16144" y="14015"/>
                </a:lnTo>
                <a:cubicBezTo>
                  <a:pt x="16144" y="16783"/>
                  <a:pt x="13568" y="19342"/>
                  <a:pt x="10800" y="19342"/>
                </a:cubicBezTo>
                <a:lnTo>
                  <a:pt x="9138" y="19342"/>
                </a:lnTo>
                <a:cubicBezTo>
                  <a:pt x="6370" y="19342"/>
                  <a:pt x="3794" y="16783"/>
                  <a:pt x="3794" y="14015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DEF1-5065-40CC-A90C-0BEB1A173DA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просы для закрепле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981000"/>
            <a:ext cx="80074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80cb0"/>
                </a:solidFill>
                <a:latin typeface="Arial"/>
              </a:rPr>
              <a:t>Кто предложил первый проект швейной маши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Кто и в каком году изобрел двухниточную швейную машин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году и где был основан в России первый завод по сборке швейных маши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аково различие по внешнему виду первых машин и современны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5877000"/>
            <a:ext cx="792360" cy="782640"/>
          </a:xfrm>
          <a:custGeom>
            <a:avLst/>
            <a:gdLst>
              <a:gd name="textAreaLeft" fmla="*/ 50400 w 792360"/>
              <a:gd name="textAreaRight" fmla="*/ 741960 w 792360"/>
              <a:gd name="textAreaTop" fmla="*/ 50400 h 782640"/>
              <a:gd name="textAreaBottom" fmla="*/ 732240 h 782640"/>
            </a:gdLst>
            <a:ahLst/>
            <a:rect l="textAreaLeft" t="textAreaTop" r="textAreaRight" b="textAreaBottom"/>
            <a:pathLst>
              <a:path w="21868" h="21600">
                <a:moveTo>
                  <a:pt x="0" y="0"/>
                </a:moveTo>
                <a:lnTo>
                  <a:pt x="21868" y="0"/>
                </a:lnTo>
                <a:lnTo>
                  <a:pt x="21868" y="21600"/>
                </a:lnTo>
                <a:lnTo>
                  <a:pt x="0" y="21600"/>
                </a:lnTo>
                <a:close/>
              </a:path>
              <a:path fill="lightenLess" w="21868" h="21600">
                <a:moveTo>
                  <a:pt x="0" y="0"/>
                </a:moveTo>
                <a:lnTo>
                  <a:pt x="21868" y="0"/>
                </a:lnTo>
                <a:lnTo>
                  <a:pt x="20468" y="1400"/>
                </a:lnTo>
                <a:lnTo>
                  <a:pt x="1400" y="1400"/>
                </a:lnTo>
                <a:close/>
              </a:path>
              <a:path fill="darken" w="21868" h="21600">
                <a:moveTo>
                  <a:pt x="21868" y="0"/>
                </a:moveTo>
                <a:lnTo>
                  <a:pt x="21868" y="21600"/>
                </a:lnTo>
                <a:lnTo>
                  <a:pt x="20468" y="20200"/>
                </a:lnTo>
                <a:lnTo>
                  <a:pt x="20468" y="1400"/>
                </a:lnTo>
                <a:close/>
              </a:path>
              <a:path fill="darkenLess" w="21868" h="21600">
                <a:moveTo>
                  <a:pt x="21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68" y="20200"/>
                </a:lnTo>
                <a:close/>
              </a:path>
              <a:path fill="lighten" w="21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68" h="21600">
                <a:moveTo>
                  <a:pt x="3928" y="7493"/>
                </a:moveTo>
                <a:lnTo>
                  <a:pt x="7435" y="7493"/>
                </a:lnTo>
                <a:lnTo>
                  <a:pt x="7435" y="12828"/>
                </a:lnTo>
                <a:cubicBezTo>
                  <a:pt x="7435" y="13751"/>
                  <a:pt x="8236" y="14482"/>
                  <a:pt x="9272" y="14482"/>
                </a:cubicBezTo>
                <a:lnTo>
                  <a:pt x="10934" y="14482"/>
                </a:lnTo>
                <a:cubicBezTo>
                  <a:pt x="11970" y="14482"/>
                  <a:pt x="12771" y="13751"/>
                  <a:pt x="12771" y="12828"/>
                </a:cubicBezTo>
                <a:lnTo>
                  <a:pt x="12771" y="7493"/>
                </a:lnTo>
                <a:lnTo>
                  <a:pt x="10934" y="7493"/>
                </a:lnTo>
                <a:lnTo>
                  <a:pt x="14442" y="3985"/>
                </a:lnTo>
                <a:lnTo>
                  <a:pt x="18115" y="7493"/>
                </a:lnTo>
                <a:lnTo>
                  <a:pt x="16278" y="7493"/>
                </a:lnTo>
                <a:lnTo>
                  <a:pt x="16278" y="12828"/>
                </a:lnTo>
                <a:cubicBezTo>
                  <a:pt x="16278" y="15596"/>
                  <a:pt x="13702" y="18155"/>
                  <a:pt x="10934" y="18155"/>
                </a:cubicBezTo>
                <a:lnTo>
                  <a:pt x="9272" y="18155"/>
                </a:lnTo>
                <a:cubicBezTo>
                  <a:pt x="6504" y="18155"/>
                  <a:pt x="3928" y="15596"/>
                  <a:pt x="3928" y="12828"/>
                </a:cubicBezTo>
                <a:close/>
              </a:path>
            </a:pathLst>
          </a:custGeom>
          <a:solidFill>
            <a:srgbClr val="ffff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ервитская И.В. учитель обслуживающего труда Макушинской С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366-0C18-484E-8D55-64E23010D2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5:29:07Z</dcterms:created>
  <dc:creator>Первитская И.В.</dc:creator>
  <dc:description/>
  <dc:language>en-US</dc:language>
  <cp:lastModifiedBy>SamLab.ws</cp:lastModifiedBy>
  <dcterms:modified xsi:type="dcterms:W3CDTF">2009-11-27T06:09:03Z</dcterms:modified>
  <cp:revision>50</cp:revision>
  <dc:subject/>
  <dc:title>     ЭЛЕМЕНТЫ МАШИНОВЕДЕНИЯ</dc:title>
</cp:coreProperties>
</file>