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D4E-8286-4E35-9B42-CB3C2537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A93-DF15-4D84-BDE6-CA5C1CF6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007-20B8-49D1-BDA2-71F00263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E08-D98E-4AD3-8414-DF4F5844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0429-A6A9-4EAE-9752-698BFA1F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D4FC-5A53-4C1A-95CB-9A41025C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741E-51BF-4762-9F81-C9B1487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085-6642-4053-800F-C38CFE86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5D8F-A0FE-41DC-A3E6-AE6D6487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BD2A-0E28-4652-ADC6-315EDE89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08B0-E1AE-4DEB-8791-ABD56F42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C15-B842-4523-8CE2-BE896D16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0E0-A1DA-4122-B027-38E60C8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65D8-6B1B-492F-80F8-4EF045CF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984A-4AE2-48CA-808B-DE7A016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E3E6-90C6-43F7-AE4A-35500018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52C8-D987-467A-B668-69AD2018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11C-CC43-42C4-9282-8A7D39C6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D3B-3DFA-4CB1-9E34-FA53B115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3AD-B2F2-418F-8672-AC87921A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318-0077-4F0F-9858-5764C00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ED5-422B-410B-82B9-6607A9D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964-3CFD-4C47-811C-D9F68CAF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423-EB15-4C3D-8514-7FA2D80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C9F-B1C8-4AA6-9FF9-C89A2C4484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D71-7895-4E90-BDA6-13217F6CFB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ahoma"/>
              </a:rPr>
              <a:t>Предупреждение суицида среди несовершеннолетних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843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Monotype Corsiva"/>
              </a:rPr>
              <a:t>Суицид – это </a:t>
            </a: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осознанное лишение себя жизн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2305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Monotype Corsiva"/>
              </a:rPr>
              <a:t>Если в мире подростки 15 -19 лет совершают 10 случаев суицида на 100 тысяч населения, то в Российской Федерации – 38 случаев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430848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d60093"/>
                </a:solidFill>
                <a:latin typeface="Tahoma"/>
              </a:rPr>
              <a:t>Основные причины совершения суици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фликт в семь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лохое отношение со сверстни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Затяжные депре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Тяжёлое материальное поло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Проблемы, связанные с учё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Рекоменд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Создание в семье отношения доброты тепла и поним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Предъявление реальных требований к ребён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Поддержка и доброе слово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20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2:30:44Z</dcterms:created>
  <dc:creator>5</dc:creator>
  <dc:description/>
  <dc:language>en-US</dc:language>
  <cp:lastModifiedBy>комп№10</cp:lastModifiedBy>
  <dcterms:modified xsi:type="dcterms:W3CDTF">2009-03-05T13:10:18Z</dcterms:modified>
  <cp:revision>4</cp:revision>
  <dc:subject/>
  <dc:title>Предупреждение суицида среди несовершеннолетних</dc:title>
</cp:coreProperties>
</file>