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D26-F37E-4031-9AD1-605C885C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A3E-EC65-4184-AA47-E26F6964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C86-7425-4138-A262-9DC3E918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566-CC47-404D-80DC-655DD8D9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5B80-A8C7-4C7C-A611-B22803D3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A0BD-768F-4C5B-9F75-7A2BD4E6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8861-B044-4354-B542-0C85C9D5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C204-B1BA-41F5-A720-2DD1ABA8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8BD5-C61F-4126-9D13-7CC29684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B230-24E6-410D-902A-EED760BA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C16E-8DD5-4643-AF2D-1970EE72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ACC-E54E-4F64-AD7C-EF85A53D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201C-2645-490D-8F03-C81ACE0A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F75F-68D8-45B9-9051-AC4068D7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D432-2F17-4476-99FE-64283500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48EB-FA2C-4190-945B-81F0D669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ADD8-F596-4F8E-BBBC-30DB3DA8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EC5-E879-43B2-905D-0DC95FF1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A84-9699-4E2B-9F34-C8EC6BEC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9E7-86C4-4F5C-AC1A-F4D6D255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A50-0D2C-4836-B270-0DF6C97C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0ED-CB2A-41B5-8BD8-1725B1DA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5AF-7363-4339-AA56-1869B73E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D47-CBCC-4F04-AD54-BFC237D6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34DC-DE16-4505-B7BB-B21A1DAA49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BCB3-4A47-4E1F-990F-56DDDE563B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ahoma"/>
              </a:rPr>
              <a:t>Предупреждение суицида среди несовершеннолетних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8436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Monotype Corsiva"/>
              </a:rPr>
              <a:t>Суицид – это </a:t>
            </a: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осознанное лишение себя жизн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2305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Monotype Corsiva"/>
              </a:rPr>
              <a:t>Если в мире подростки 15 -19 лет совершают 10 случаев суицида на 100 тысяч населения, то в Российской Федерации – 38 случаев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430848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d60093"/>
                </a:solidFill>
                <a:latin typeface="Tahoma"/>
              </a:rPr>
              <a:t>Основные причины совершения суицид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фликт в семь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Плохое отношение со сверстник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Затяжные депресс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Тяжёлое материальное полож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Проблемы, связанные с учёб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Рекоменд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Создание в семье отношения доброты тепла и поним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Предъявление реальных требований к ребёнк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Поддержка и доброе слово р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8209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00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2:30:44Z</dcterms:created>
  <dc:creator>5</dc:creator>
  <dc:description/>
  <dc:language>en-US</dc:language>
  <cp:lastModifiedBy>комп№10</cp:lastModifiedBy>
  <dcterms:modified xsi:type="dcterms:W3CDTF">2009-03-05T13:10:18Z</dcterms:modified>
  <cp:revision>4</cp:revision>
  <dc:subject/>
  <dc:title>Предупреждение суицида среди несовершеннолетних</dc:title>
</cp:coreProperties>
</file>