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9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FB6-43AD-43A4-AC31-17E7A1E4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937-D97B-4576-B85C-F0FAE14D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93C-E237-4068-B4A3-F7CB4AA0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3687-FEE7-4416-9ED5-1E95F68B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9140-8081-4F36-995B-711A8851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A2E8-A7C4-4C6F-8C13-7D8B8775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1455-7593-4B33-BEDD-27D84501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4FF6-F279-4FEB-B66A-FF8DEEBE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54E2-8AD0-465A-BAB4-6CBB2DC2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0A71-50B8-4AEA-BA89-1E7E603A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935A-A6B4-40C0-9BDE-598AD2DF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45F6-79BD-49F3-A352-C151C00C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A1E0-945A-4D58-96CF-9DFF40BA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AB7C-0633-4124-86DE-D4E3C31E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8564-1C19-4CFE-8EAF-19EFB166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311C-D516-4741-81DE-7F5FB3C4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C753-3EDD-443B-B903-1F781AD1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596E-23B1-4826-8406-D9918C30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4AF0-258D-440F-91A0-00C797F4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C64D-AC5B-4B70-B7C1-C91FC0F0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CA4-202A-41DB-A898-D65E9B27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6F69-0715-4AA7-9041-B4E2B67D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946-0CB0-4BF6-8677-6A873A4A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91F1-5C72-4236-B871-C0030556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33E4-7D0C-4009-A372-C5A730C958A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ADCC-EEE5-48B8-BD1E-08E5F531366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everyday.kz/f/c/00038/959/gibdd_moskvi.jpg&amp;pageurl=http://www.barnaul-altai.ru%2Fnews%2Fcalendar%2Findex.php%3Fid%3D2852&amp;id=6790739&amp;iid=4&amp;imgwidth=300&amp;imgheight=381&amp;imgsize=52504&amp;images_links=b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beautyblog.ru/uploads/posts/1177026785_convince.jpg&amp;pageurl=http://www.beautyblog.ru%2F2007%2F04%2F20%2Fdesjat_pravil_ubezhdenija.html&amp;id=44557659&amp;iid=6&amp;imgwidth=337&amp;imgheight=506&amp;imgsize=48709&amp;images_links=b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go.mail.ru/frame.html?imgurl=http://www.tvn-tv.ru/i/news/peshehod.jpg&amp;pageurl=http://www.kuzcar.ru%2Ftomsk%2Fnews%2F3358&amp;id=75427885&amp;iid=4&amp;imgwidth=350&amp;imgheight=280&amp;imgsize=111011&amp;images_links=b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pebw.ru/photo/files/80_small.jpg&amp;pageurl=http://www.pebw.ru%2Fphoto%2F80%2F&amp;id=37416045&amp;iid=0&amp;imgwidth=600&amp;imgheight=450&amp;imgsize=27024&amp;images_links=b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abw.by/photos/news/8894_1_200.jpg&amp;pageurl=http://auto.newsru.com%2Farticle%2F17jun2008%2Fbest-inpector&amp;id=44458888&amp;iid=8&amp;imgwidth=200&amp;imgheight=150&amp;imgsize=83882&amp;images_links=b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1011017.ru/upload/news/941/img/2590/first_80x0-102425.20435.jpg&amp;pageurl=http://www.autosaratov.ru%2Fnews%2Fworld%2F1529%2F&amp;id=39772064&amp;iid=8&amp;imgwidth=250&amp;imgheight=150&amp;imgsize=64736&amp;images_links=b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go.mail.ru/frame.html?imgurl=http://www.newsprom.ru/photo/120213386092371.jpg&amp;pageurl=http://stolica.onego.ru%2Fnews%2F2008-09-18.html&amp;id=32076312&amp;iid=8&amp;imgwidth=200&amp;imgheight=218&amp;imgsize=38567&amp;images_links=b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autodaily.ru/st/n/s_3863.jpg&amp;pageurl=http://auto.ufaportal.ru%2Fauto%2Fauto_news%2Fsmertelnaya_zebra%2F&amp;id=18512845&amp;iid=8&amp;imgwidth=150&amp;imgheight=113&amp;imgsize=34439&amp;images_links=b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go.mail.ru/frame.html?imgurl=http://runetauto.ru/files/1215535928.jpg&amp;pageurl=http://www.mgodynamo.ru%2Fasc%2Fpage_490%2F&amp;id=64380716&amp;iid=2&amp;imgwidth=170&amp;imgheight=128&amp;imgsize=50758&amp;images_links=b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6697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Возрастные и </a:t>
            </a:r>
            <a:br>
              <a:rPr sz="4800"/>
            </a:b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психологические и физиологические особенности поведение школьников на улицах и дорогах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Arial"/>
              </a:rPr>
              <a:t>Профилактика ДДТТ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14698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Анализ статистических данны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95% наездов на детей происходит  в 30  одних и тех же, повторяющихся, типичных ситуациях.  Всего лишь 30 ситуаций – «ловушек», которые до сих пор не умеют распознать и прогнозировать ни дети, ни водители, ни родители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156360" y="4869000"/>
            <a:ext cx="234000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072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Дети не имеют достаточной психологической и физиологической готовности для участия в дорожном движени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43280" y="4221000"/>
            <a:ext cx="3961080" cy="207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232000" cy="1665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95280" y="4307040"/>
            <a:ext cx="295272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4176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1 метод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61928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ВНУШ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443640" y="333360"/>
            <a:ext cx="2103480" cy="2103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268360" y="3065400"/>
            <a:ext cx="518328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Monotype Corsiva"/>
              </a:rPr>
              <a:t>Яркие образные формы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Monotype Corsiva"/>
              </a:rPr>
              <a:t>Наглядные пример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35280" y="0"/>
            <a:ext cx="52545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2 метод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771280" y="1341000"/>
            <a:ext cx="6048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УБЕЖД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04640"/>
            <a:ext cx="1541160" cy="2303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56360" y="1989000"/>
            <a:ext cx="2087640" cy="1670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619280" y="1989000"/>
            <a:ext cx="5832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Monotype Corsiva"/>
              </a:rPr>
              <a:t>Сюжетные картинки опасного поведения на дорог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Monotype Corsiva"/>
              </a:rPr>
              <a:t>Расска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Monotype Corsiva"/>
              </a:rPr>
              <a:t>Иг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Monotype Corsiva"/>
              </a:rPr>
              <a:t>Прогулк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133200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3 метод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25092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84720" y="1268280"/>
            <a:ext cx="2160720" cy="2078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55640" y="371628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Monotype Corsiva"/>
              </a:rPr>
              <a:t>Положительный пример  родителе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82872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4 метод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УПРАЖН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867280" y="476280"/>
            <a:ext cx="2797200" cy="186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619280" y="314172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Monotype Corsiva"/>
              </a:rPr>
              <a:t>Многократное выполнение требуемых действий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5 метод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40328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ПООЩР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724280"/>
            <a:ext cx="2521080" cy="1882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116000" y="278136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Monotype Corsiva"/>
              </a:rPr>
              <a:t>Жест, мимика, похвала</a:t>
            </a:r>
            <a:r>
              <a:rPr b="1" i="1" lang="en-US" sz="54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важаемые родители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Для того, чтобы уберечь детей, необходимо ежедневно напоминать им об опасностях, подстерегающих на дороге, о необходимости соблюдения Правил дорожного движ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352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Статистические данные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1. Погибает до 15 детей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2.От травм, полученных в ДТП умирает до 1,5 тысяч детей.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3.Получают травмы и увечья более 20 тысяч детей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941720"/>
            <a:ext cx="21607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55640" y="620640"/>
            <a:ext cx="2951280" cy="2665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27640" y="2276640"/>
            <a:ext cx="3744720" cy="38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2565360"/>
            <a:ext cx="1008000" cy="576360"/>
          </a:xfrm>
          <a:prstGeom prst="line">
            <a:avLst/>
          </a:prstGeom>
          <a:ln w="954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03280" y="162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007 го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342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95640" y="9079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В сравнени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2148120" cy="2210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028000" y="476280"/>
            <a:ext cx="8431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"/>
              </a:rPr>
              <a:t>Причины ДТП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овершения конкретных ошибок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тсутствие предвидения, опыт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еумения принимать правильные реше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пасная самонадеяннос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04640"/>
            <a:ext cx="2016000" cy="1202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260280"/>
            <a:ext cx="1258920" cy="1368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58920" y="4365720"/>
            <a:ext cx="6985080" cy="0"/>
          </a:xfrm>
          <a:prstGeom prst="line">
            <a:avLst/>
          </a:prstGeom>
          <a:ln w="73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6000" y="456876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Незнание ПДД  и отсутствие необходимых навыков  поведения  на дорог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Знание правил дорожного движения – это 10%  необходимой безопасности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3068640"/>
            <a:ext cx="2016000" cy="1519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997360"/>
            <a:ext cx="210168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е всегда могут правильно оценить мгновенно меняющуюся обстановку на дороге, часто завышают свои возмож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вторяют действия взросл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озрастные психологические и физиологические особенности дет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озрастные психологические и физиологические  особенности дет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чинают наблюдение, только подойдя к краю дороги или уже находясь на н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Часто дети переоценивают безопасность собственного повед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 детей снижено чувство собственной безопас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озрастные психологические и физиологические особенности дет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оявляется нетерп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нимание плохо распределяется, избирательн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 разному реагируют на размеры автомобил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войственна коллективная  ориентац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 большим трудом дают правильную оценку увиденной дорожно-транспортной ситуа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е способны быстро принимать реш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Возрастные психологические и физиологические  особенности дет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е могут соизмерять скорость движения автомобиля с тем расстоянием, на котором этот автомобиль находится от нег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е способны предугадать все возможные варианты поведения водител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егко впадает в состояние безысходной опасности, незащищенности, теряет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13:17Z</dcterms:created>
  <dc:creator>комп № 15</dc:creator>
  <dc:description/>
  <dc:language>en-US</dc:language>
  <cp:lastModifiedBy>комп№10</cp:lastModifiedBy>
  <dcterms:modified xsi:type="dcterms:W3CDTF">2009-03-05T07:17:51Z</dcterms:modified>
  <cp:revision>5</cp:revision>
  <dc:subject/>
  <dc:title>Психологическая и физиологическая готовность детей к участию в дорожном движении. Профилактике дорожно – транспортных происшествий.  </dc:title>
</cp:coreProperties>
</file>