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929-6122-4D5E-82AB-221130AC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5DD-5353-47A7-8182-84CC8BFF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007-82DC-4AD1-BDA5-341C2E79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C64-177C-4C57-B2F5-16D45CD8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6857-239B-4307-834C-1C3E7C8A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5587-AF7D-4CCF-AC1B-0C2D92D0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8462-CBC2-451B-8CE9-8FEF126C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E6B6-0763-4CA7-A1C5-FA915148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1919-EBB9-4D97-B455-F89A7134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ADA4-30E2-4F75-999F-3202FA8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9934-E4E4-4514-AB0A-23CC4E28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BD8-CAE0-43CC-A56F-C102C1B4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13BB-2538-4CF1-9D60-5490FB3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838C-101E-4EB0-94A9-6260F2FF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91D2-5E38-4DB8-9F09-85215A62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26DE-83F4-4C31-9974-7DD18163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DD35-9C23-4A1D-BD67-09FA036C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2B0-10A6-4409-9FAB-1940437D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57E-B505-4280-BCCB-80B20F73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3C1-FF4A-4643-A05A-9B811E8B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E80-5458-4CE8-A0E4-843F9F3C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6F1-E40A-4571-A04D-410194E5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A71-0014-46C6-B308-64E3A46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1FF-E876-4176-B07D-52DE568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7A92-1A9E-426C-A108-3DBCBC7968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4D6D-8C46-4805-B74F-906CB77A83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everyday.kz/f/c/00038/959/gibdd_moskvi.jpg&amp;pageurl=http://www.barnaul-altai.ru%2Fnews%2Fcalendar%2Findex.php%3Fid%3D2852&amp;id=6790739&amp;iid=4&amp;imgwidth=300&amp;imgheight=381&amp;imgsize=52504&amp;images_links=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beautyblog.ru/uploads/posts/1177026785_convince.jpg&amp;pageurl=http://www.beautyblog.ru%2F2007%2F04%2F20%2Fdesjat_pravil_ubezhdenija.html&amp;id=44557659&amp;iid=6&amp;imgwidth=337&amp;imgheight=506&amp;imgsize=48709&amp;images_links=b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go.mail.ru/frame.html?imgurl=http://www.tvn-tv.ru/i/news/peshehod.jpg&amp;pageurl=http://www.kuzcar.ru%2Ftomsk%2Fnews%2F3358&amp;id=75427885&amp;iid=4&amp;imgwidth=350&amp;imgheight=280&amp;imgsize=111011&amp;images_links=b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pebw.ru/photo/files/80_small.jpg&amp;pageurl=http://www.pebw.ru%2Fphoto%2F80%2F&amp;id=37416045&amp;iid=0&amp;imgwidth=600&amp;imgheight=450&amp;imgsize=27024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abw.by/photos/news/8894_1_200.jpg&amp;pageurl=http://auto.newsru.com%2Farticle%2F17jun2008%2Fbest-inpector&amp;id=44458888&amp;iid=8&amp;imgwidth=200&amp;imgheight=150&amp;imgsize=83882&amp;images_links=b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1011017.ru/upload/news/941/img/2590/first_80x0-102425.20435.jpg&amp;pageurl=http://www.autosaratov.ru%2Fnews%2Fworld%2F1529%2F&amp;id=39772064&amp;iid=8&amp;imgwidth=250&amp;imgheight=150&amp;imgsize=64736&amp;images_links=b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go.mail.ru/frame.html?imgurl=http://www.newsprom.ru/photo/120213386092371.jpg&amp;pageurl=http://stolica.onego.ru%2Fnews%2F2008-09-18.html&amp;id=32076312&amp;iid=8&amp;imgwidth=200&amp;imgheight=218&amp;imgsize=38567&amp;images_links=b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autodaily.ru/st/n/s_3863.jpg&amp;pageurl=http://auto.ufaportal.ru%2Fauto%2Fauto_news%2Fsmertelnaya_zebra%2F&amp;id=18512845&amp;iid=8&amp;imgwidth=150&amp;imgheight=113&amp;imgsize=34439&amp;images_links=b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go.mail.ru/frame.html?imgurl=http://runetauto.ru/files/1215535928.jpg&amp;pageurl=http://www.mgodynamo.ru%2Fasc%2Fpage_490%2F&amp;id=64380716&amp;iid=2&amp;imgwidth=170&amp;imgheight=128&amp;imgsize=50758&amp;images_links=b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6697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Возрастные и </a:t>
            </a:r>
            <a:br>
              <a:rPr sz="4800"/>
            </a:b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психологические и физиологические особенности поведение школьников на улицах и дорогах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Arial"/>
              </a:rPr>
              <a:t>Профилактика ДДТТ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14698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Анализ статистических данны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95% наездов на детей происходит  в 30  одних и тех же, повторяющихся, типичных ситуациях.  Всего лишь 30 ситуаций – «ловушек», которые до сих пор не умеют распознать и прогнозировать ни дети, ни водители, ни родители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56360" y="4869000"/>
            <a:ext cx="23400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07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Дети не имеют достаточной психологической и физиологической готовности для участия в дорожном движени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43280" y="4221000"/>
            <a:ext cx="3961080" cy="207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1665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95280" y="4307040"/>
            <a:ext cx="29527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4176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 метод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ВНУШ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2103480" cy="2103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68360" y="3065400"/>
            <a:ext cx="51832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Яркие образные формы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Наглядные пример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35280" y="0"/>
            <a:ext cx="525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 метод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771280" y="134100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УБЕЖ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1541160" cy="2303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56360" y="1989000"/>
            <a:ext cx="2087640" cy="1670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619280" y="1989000"/>
            <a:ext cx="5832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Monotype Corsiva"/>
              </a:rPr>
              <a:t>Сюжетные картинки опасного поведения на дорог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Monotype Corsiva"/>
              </a:rPr>
              <a:t>Расск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Monotype Corsiva"/>
              </a:rPr>
              <a:t>Иг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Monotype Corsiva"/>
              </a:rPr>
              <a:t>Прогулк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33200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метод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5092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1268280"/>
            <a:ext cx="2160720" cy="2078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37162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Положительный пример  родител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82872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4 метод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УПРАЖ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867280" y="476280"/>
            <a:ext cx="2797200" cy="186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19280" y="31417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Многократное выполнение требуемых действи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5 метод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ПООЩ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2428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16000" y="278136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Жест, мимика, похвала</a:t>
            </a:r>
            <a:r>
              <a:rPr b="1" i="1" lang="en-US" sz="5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важаемые родители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ля того, чтобы уберечь детей, необходимо ежедневно напоминать им об опасностях, подстерегающих на дороге, о необходимости соблюдения Правил дорожного движ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2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Статистические данные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1. Погибает до 15 детей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2.От травм, полученных в ДТП умирает до 1,5 тысяч детей.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3.Получают травмы и увечья более 20 тысяч детей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941720"/>
            <a:ext cx="216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55640" y="620640"/>
            <a:ext cx="2951280" cy="2665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2276640"/>
            <a:ext cx="3744720" cy="38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2565360"/>
            <a:ext cx="1008000" cy="576360"/>
          </a:xfrm>
          <a:prstGeom prst="line">
            <a:avLst/>
          </a:prstGeom>
          <a:ln w="954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007 г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9079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В сравнени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21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028000" y="476280"/>
            <a:ext cx="8431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Причины ДТП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вершения конкретных ошибо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сутствие предвидения, опыт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умения принимать правильные реш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асная самонадеян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2016000" cy="1202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260280"/>
            <a:ext cx="1258920" cy="1368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58920" y="4365720"/>
            <a:ext cx="6985080" cy="0"/>
          </a:xfrm>
          <a:prstGeom prst="line">
            <a:avLst/>
          </a:prstGeom>
          <a:ln w="73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456876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Незнание ПДД  и отсутствие необходимых навыков  поведения  на дорог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Знание правил дорожного движения – это 10%  необходимой безопасности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3068640"/>
            <a:ext cx="2016000" cy="1519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997360"/>
            <a:ext cx="21016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 всегда могут правильно оценить мгновенно меняющуюся обстановку на дороге, часто завышают свои возмож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вторяют действия взросл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зрастные психологические и физиологические особенности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зрастные психологические и физиологические  особенности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чинают наблюдение, только подойдя к краю дороги или уже находясь на н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Часто дети переоценивают безопасность собственного повед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детей снижено чувство собственной безопас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озрастные психологические и физиологические особенности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оявляется нетерп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нимание плохо распределяется, избиратель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 разному реагируют на размеры автомобил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войственна коллективная  ориента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 большим трудом дают правильную оценку увиденной дорожно-транспортной ситу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способны быстро принимать реш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зрастные психологические и физиологические  особенности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могут соизмерять скорость движения автомобиля с тем расстоянием, на котором этот автомобиль находится от нег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способны предугадать все возможные варианты поведения водител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егко впадает в состояние безысходной опасности, незащищенности, теря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13:17Z</dcterms:created>
  <dc:creator>комп № 15</dc:creator>
  <dc:description/>
  <dc:language>en-US</dc:language>
  <cp:lastModifiedBy>комп№10</cp:lastModifiedBy>
  <dcterms:modified xsi:type="dcterms:W3CDTF">2009-03-05T07:17:51Z</dcterms:modified>
  <cp:revision>5</cp:revision>
  <dc:subject/>
  <dc:title>Психологическая и физиологическая готовность детей к участию в дорожном движении. Профилактике дорожно – транспортных происшествий.  </dc:title>
</cp:coreProperties>
</file>