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540B1-BAA2-4312-81BA-030166EAB9B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2913B-FDC1-4546-A61F-6F7403F64A7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281A7-FA1A-46C3-B123-6621A7CD677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D3C-B0C9-4C13-AA63-50E210C5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236-62C8-42EA-9C29-EDFFB5DC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A98-1F20-4001-8BE6-BC148DEF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459-762C-42B8-8CAE-B4F2BDA6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673E-F3A0-4659-ADAE-AE6E9389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ED8B-C0B4-4342-9985-8A1A8168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2199-4A70-4F8D-B810-D80072A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F61A-80F4-43BC-87BB-C3883C0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5FBF-C923-4F3B-A811-6E4115CB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954E-C799-41D3-8938-9A3A7FF4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6AFA-3BF6-4CE6-B14E-7CD20D2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EFC-5B3D-4735-AC9F-071C4E96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C4F2-50E4-42D4-B558-56DEF8F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EC5D-9756-4766-B880-1B403C0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C7C9-2338-49A3-B506-5E101AD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AAEE-6762-43F7-8A00-8DC764A3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6A11-E120-4EAB-B4DE-4EF75BC9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7113-F9AF-4F5B-98F8-F5775707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F432-14EB-40AF-AACA-B9AB0A95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F24A-75F4-41FA-9C4C-A2B23DA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9223-78DB-48F1-9B18-246C823D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A91C-278C-47B1-9E88-95282D92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5A1-9667-46CE-B143-6BB63BD1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5385-EE26-431C-88C0-82D4566C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9A25-0E87-473A-BE68-F0FA5C5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39AB-5143-4A1F-9C04-848DD25F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7A15-259F-42C4-A1B0-3654BB20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4686-65E8-4E3B-81F1-E6F302AD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1A1A-0004-4FB3-A3C3-DD0BB3A5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C816-04DB-4305-B9D0-388D6F92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CA8-2E84-426E-A530-CEF746D7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C8E-F87E-429D-8D10-9B059AA3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EB0-FCF2-4D9F-B4D0-4E9FB58B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D75-BB1F-4E9A-A583-14AEFEA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B33-1244-4C58-AF8F-38CCD42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897-F50D-45E1-8A2B-BCB4515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A46A-ECAC-487C-B627-6216156741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104A-C854-4103-87F1-7141937C77E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BFF-709A-42D0-B190-EB451E901EA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4"/>
          <p:cNvSpPr txBox="1"/>
          <p:nvPr/>
        </p:nvSpPr>
        <p:spPr>
          <a:xfrm>
            <a:off x="611280" y="2133720"/>
            <a:ext cx="8208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диная технология чтения текста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"Школе 2100"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работали: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сёнова Л. В.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ff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ff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Picture 12" descr="pe00014_"/>
          <p:cNvPicPr/>
          <p:nvPr/>
        </p:nvPicPr>
        <p:blipFill>
          <a:blip r:embed="rId1"/>
          <a:stretch/>
        </p:blipFill>
        <p:spPr>
          <a:xfrm>
            <a:off x="0" y="4846680"/>
            <a:ext cx="2376360" cy="16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bd07223_"/>
          <p:cNvPicPr/>
          <p:nvPr/>
        </p:nvPicPr>
        <p:blipFill>
          <a:blip r:embed="rId2"/>
          <a:stretch/>
        </p:blipFill>
        <p:spPr>
          <a:xfrm>
            <a:off x="3780000" y="0"/>
            <a:ext cx="2108160" cy="198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89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</a:rPr>
              <a:t>-учебны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</a:rPr>
              <a:t>- процесс освоения текс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imes New Roman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еучебная компетенция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мотное – в широком смысле слова – чтение лежит в основе всей деятельности человека, как и в период его обучения в школе, так и в будущ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676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2560" y="220968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648320" y="2057400"/>
            <a:ext cx="40129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3"/>
          <p:cNvSpPr txBox="1"/>
          <p:nvPr/>
        </p:nvSpPr>
        <p:spPr>
          <a:xfrm>
            <a:off x="1547640" y="476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ение - э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AutoShape 8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1116000" y="141120"/>
            <a:ext cx="70563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дарты и международные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следования о чтени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50920" y="1268280"/>
            <a:ext cx="7200720" cy="194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ff"/>
              </a:gs>
              <a:gs pos="50000">
                <a:srgbClr val="ffcdff"/>
              </a:gs>
              <a:gs pos="100000">
                <a:srgbClr val="ff00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знанное беглое чтение текстов различных стилей и жанров, проведение информационно-смыслового анализа текста. Использование различных видов чтения (ознакомительное, просмотровое, поисковое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684360" y="2133720"/>
            <a:ext cx="7200720" cy="2233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50000">
                <a:srgbClr val="dff7df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отность чтения - способность к пониманию письменных текстов и рефлексии на них, к использованию их содержания для достижения собственных целей, развития знаний и возможностей, для активного участия в жизни общест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1116000" y="3645000"/>
            <a:ext cx="7203960" cy="1873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fff7d7"/>
              </a:gs>
              <a:gs pos="100000">
                <a:srgbClr val="ff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рамотно читать« - понимать тексты, размышлять над их содержанием, оценивать их смысл и значение и излагать свои мысли о прочитанном (в различных ситуациях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1619280" y="4076640"/>
            <a:ext cx="7129440" cy="2522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ff"/>
              </a:gs>
              <a:gs pos="50000">
                <a:srgbClr val="f7efff"/>
              </a:gs>
              <a:gs pos="100000">
                <a:srgbClr val="cc99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олном понимании текста свидетельству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ая ориентация в содержании текста и понимание его целостного смыс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явление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интерпре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флексия на содержание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флексия на форму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5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объективного (авторского)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1476360" y="212760"/>
            <a:ext cx="64803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Три этапа работы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с любым текстом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(медленное, художественное)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ите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механизма антицип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fe2"/>
            </a:gs>
            <a:gs pos="50000">
              <a:srgbClr val="66ff66"/>
            </a:gs>
            <a:gs pos="100000">
              <a:srgbClr val="e2ffe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18440" cy="45259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родные водоемы со стоячей водой. У озер, как и у рек, есть берега. Нет только левого и правого берега. Во все озера впадают реки и ручьи. Если из озера вытекает река, оно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вода из озера не вытекает, его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т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 людям, заводам, фабрикам и фермам для работы очень нужна пресная вода. В трех районах, где заводские отходы сливают в реки и озера, водоемы загрязняются. И питьевой воды становится мало. Важно, чтобы в водоемы возвращалась чистая вода. Поэтому для ее очистки от отходов строя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истные соору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girl"/>
          <p:cNvPicPr/>
          <p:nvPr/>
        </p:nvPicPr>
        <p:blipFill>
          <a:blip r:embed="rId1"/>
          <a:stretch/>
        </p:blipFill>
        <p:spPr>
          <a:xfrm>
            <a:off x="179280" y="5229360"/>
            <a:ext cx="1257480" cy="1396800"/>
          </a:xfrm>
          <a:prstGeom prst="rect">
            <a:avLst/>
          </a:prstGeom>
          <a:ln w="38160">
            <a:solidFill>
              <a:srgbClr val="00ff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251" name="AutoShape 10"/>
          <p:cNvSpPr/>
          <p:nvPr/>
        </p:nvSpPr>
        <p:spPr>
          <a:xfrm>
            <a:off x="2627280" y="5084640"/>
            <a:ext cx="4321080" cy="151308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66ff66"/>
              </a:gs>
              <a:gs pos="50000">
                <a:srgbClr val="d1ffd1"/>
              </a:gs>
              <a:gs pos="100000">
                <a:srgbClr val="66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ремя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Admin</cp:lastModifiedBy>
  <dcterms:modified xsi:type="dcterms:W3CDTF">2010-09-24T15:11:36Z</dcterms:modified>
  <cp:revision>131</cp:revision>
  <dc:subject/>
  <dc:title>Заголовок слайда отсутствует</dc:title>
</cp:coreProperties>
</file>