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1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2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C39FF-F541-4E8A-B819-71C74A7C64E7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DB934-33B4-4526-BF0B-5D9DC4BDE0FA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976CE-E971-479C-AB89-BB72ED7B361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A05-CC15-435C-8499-95FAB02B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C40-5374-470A-8EF3-4D37E2AD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11F-5BB1-4A42-B29A-5B6CB2EE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6A0-F8F3-485F-8A85-5B4E1366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7BAB-BD2C-4C35-9639-389D0592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BD3B-677D-41C1-985F-80C85E1A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CC58-7C94-470E-83F0-CD95ABF0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59CE-3E23-47E3-88CC-14542C87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A743-50B7-4FE3-910D-CC449B8B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40F7-1540-40AD-8662-63F8BCF6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BD06-D46D-417B-A690-62598F34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358-ED4C-4374-A311-CF7F8653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43E3-1741-4A0E-8D8B-6ABDD43B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53A8-F6E2-4FA8-A6CD-DE744FDE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1845-D67D-4421-BCC8-74E0ABBB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331C-02A9-4F4A-B34C-10B1F98E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43E4-92AB-4BCD-93C9-E27E3794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EE858-6534-4F8A-90D4-AB6EE215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EA37-374F-4ED6-B15E-D19F61ED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A99CA-7340-4354-9ED1-A34B9228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DAEDF-14C7-4685-988B-2F2CBCE5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76340-A9FC-4844-9B02-D0A2329B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F5A-4DB5-4AA6-8322-5F5AFF7E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6B9F-8717-4C5B-81A4-9243BF54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05366-B7E4-4930-9FE8-4B446EBE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278D2-9B74-434D-8C7F-CE7C584E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2583-5E48-42E9-B68D-BCEA9C9A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E38FD-2F6E-486A-8ECA-EA281929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8415F-375D-4605-B230-029F6C6B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24F0B-8E0D-42BC-A58D-B2A40E7F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844-23BB-485E-9961-84F3A8E4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AF3-0D26-4EEB-8B66-36FAC4CE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C9C0-1701-4282-A202-7B42E107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9C3-2EE4-45DE-9420-8DCA11F4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371-7F02-41B0-A935-4A195C16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B79-3DA7-43A0-945B-E4EABF56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C148-5A44-4C58-8A48-0D872FAD10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620B-F436-47F9-903B-D6EA72DEC54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706A-1CD5-4494-B53A-E29845A44CC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4"/>
          <p:cNvSpPr txBox="1"/>
          <p:nvPr/>
        </p:nvSpPr>
        <p:spPr>
          <a:xfrm>
            <a:off x="611280" y="2133720"/>
            <a:ext cx="8208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диная технология чтения текста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"Школе 2100"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</a:t>
            </a: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работали: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</a:t>
            </a: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сёнова Л. В.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0" name="Picture 12" descr="pe00014_"/>
          <p:cNvPicPr/>
          <p:nvPr/>
        </p:nvPicPr>
        <p:blipFill>
          <a:blip r:embed="rId1"/>
          <a:stretch/>
        </p:blipFill>
        <p:spPr>
          <a:xfrm>
            <a:off x="0" y="4846680"/>
            <a:ext cx="2376360" cy="1619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bd07223_"/>
          <p:cNvPicPr/>
          <p:nvPr/>
        </p:nvPicPr>
        <p:blipFill>
          <a:blip r:embed="rId2"/>
          <a:stretch/>
        </p:blipFill>
        <p:spPr>
          <a:xfrm>
            <a:off x="3780000" y="0"/>
            <a:ext cx="2108160" cy="198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7894440" cy="39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</a:rPr>
              <a:t>-учебный пред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</a:rPr>
              <a:t>- процесс освоения текс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еучебная компетенция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мотное – в широком смысле слова – чтение лежит в основе всей деятельности человека, как и в период его обучения в школе, так и в будуще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676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2560" y="2209680"/>
            <a:ext cx="4013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648320" y="2057400"/>
            <a:ext cx="40129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13"/>
          <p:cNvSpPr txBox="1"/>
          <p:nvPr/>
        </p:nvSpPr>
        <p:spPr>
          <a:xfrm>
            <a:off x="1547640" y="476280"/>
            <a:ext cx="619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ение - э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AutoShape 8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1116000" y="141120"/>
            <a:ext cx="705636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дарты и международные 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следования о чтении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50920" y="1268280"/>
            <a:ext cx="7200720" cy="1944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ff"/>
              </a:gs>
              <a:gs pos="50000">
                <a:srgbClr val="ffcdff"/>
              </a:gs>
              <a:gs pos="100000">
                <a:srgbClr val="ff00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знанное беглое чтение текстов различных стилей и жанров, проведение информационно-смыслового анализа текста. Использование различных видов чтения (ознакомительное, просмотровое, поисковое и др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684360" y="2133720"/>
            <a:ext cx="7200720" cy="2233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cc33"/>
              </a:gs>
              <a:gs pos="50000">
                <a:srgbClr val="dff7df"/>
              </a:gs>
              <a:gs pos="100000">
                <a:srgbClr val="33cc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мотность чтения - способность к пониманию письменных текстов и рефлексии на них, к использованию их содержания для достижения собственных целей, развития знаний и возможностей, для активного участия в жизни обществ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1116000" y="3645000"/>
            <a:ext cx="7203960" cy="1873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50000">
                <a:srgbClr val="fff7d7"/>
              </a:gs>
              <a:gs pos="100000">
                <a:srgbClr val="ff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рамотно читать« - понимать тексты, размышлять над их содержанием, оценивать их смысл и значение и излагать свои мысли о прочитанном (в различных ситуациях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4"/>
          <p:cNvSpPr/>
          <p:nvPr/>
        </p:nvSpPr>
        <p:spPr>
          <a:xfrm>
            <a:off x="1619280" y="4076640"/>
            <a:ext cx="7129440" cy="2522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99ff"/>
              </a:gs>
              <a:gs pos="50000">
                <a:srgbClr val="f7efff"/>
              </a:gs>
              <a:gs pos="100000">
                <a:srgbClr val="cc99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полном понимании текста свидетельству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щая ориентация в содержании текста и понимание его целостного смыс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явление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тие интерпре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ефлексия на содержание тек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ефлексия на форму тек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5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"/>
          <p:cNvSpPr/>
          <p:nvPr/>
        </p:nvSpPr>
        <p:spPr>
          <a:xfrm>
            <a:off x="2340000" y="2205000"/>
            <a:ext cx="4645080" cy="4500720"/>
          </a:xfrm>
          <a:custGeom>
            <a:avLst/>
            <a:gdLst>
              <a:gd name="textAreaLeft" fmla="*/ 680040 w 4645080"/>
              <a:gd name="textAreaRight" fmla="*/ 3965040 w 4645080"/>
              <a:gd name="textAreaTop" fmla="*/ 658800 h 4500720"/>
              <a:gd name="textAreaBottom" fmla="*/ 3841920 h 450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09" y="10800"/>
                </a:moveTo>
                <a:cubicBezTo>
                  <a:pt x="1609" y="15876"/>
                  <a:pt x="5724" y="19991"/>
                  <a:pt x="10800" y="19991"/>
                </a:cubicBezTo>
                <a:cubicBezTo>
                  <a:pt x="15876" y="19991"/>
                  <a:pt x="19991" y="15876"/>
                  <a:pt x="19991" y="10800"/>
                </a:cubicBezTo>
                <a:cubicBezTo>
                  <a:pt x="19991" y="5724"/>
                  <a:pt x="15876" y="1609"/>
                  <a:pt x="10800" y="1609"/>
                </a:cubicBezTo>
                <a:cubicBezTo>
                  <a:pt x="5724" y="1609"/>
                  <a:pt x="1609" y="5724"/>
                  <a:pt x="1609" y="10800"/>
                </a:cubicBez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4932360" y="4221000"/>
            <a:ext cx="4032360" cy="2160720"/>
          </a:xfrm>
          <a:custGeom>
            <a:avLst/>
            <a:gdLst>
              <a:gd name="textAreaLeft" fmla="*/ 588240 w 4032360"/>
              <a:gd name="textAreaRight" fmla="*/ 3444120 w 4032360"/>
              <a:gd name="textAreaTop" fmla="*/ 0 h 2160720"/>
              <a:gd name="textAreaBottom" fmla="*/ 1890720 h 216072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e5f2ff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осле чтения тек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рефлексивное чт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е объективного (авторского) смысла, корректировка своей интерпре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7"/>
          <p:cNvSpPr txBox="1"/>
          <p:nvPr/>
        </p:nvSpPr>
        <p:spPr>
          <a:xfrm>
            <a:off x="1476360" y="212760"/>
            <a:ext cx="648036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Три этапа работы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с любым текстом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179280" y="4149720"/>
            <a:ext cx="4176720" cy="2232000"/>
          </a:xfrm>
          <a:custGeom>
            <a:avLst/>
            <a:gdLst>
              <a:gd name="textAreaLeft" fmla="*/ 609480 w 4176720"/>
              <a:gd name="textAreaRight" fmla="*/ 3567240 w 4176720"/>
              <a:gd name="textAreaTop" fmla="*/ 0 h 2232000"/>
              <a:gd name="textAreaBottom" fmla="*/ 1953000 h 2232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dff9ec"/>
              </a:gs>
              <a:gs pos="100000">
                <a:srgbClr val="00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Во время чтения 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ющее (медленное, художественное) чт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ация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124000" y="1844640"/>
            <a:ext cx="5112000" cy="2016000"/>
          </a:xfrm>
          <a:custGeom>
            <a:avLst/>
            <a:gdLst>
              <a:gd name="textAreaLeft" fmla="*/ 745920 w 5112000"/>
              <a:gd name="textAreaRight" fmla="*/ 4366080 w 5112000"/>
              <a:gd name="textAreaTop" fmla="*/ 0 h 2016000"/>
              <a:gd name="textAreaBottom" fmla="*/ 1764000 h 2016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9ec"/>
              </a:gs>
              <a:gs pos="100000">
                <a:srgbClr val="ff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чтения 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итель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овое чт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е механизма антицип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fe2"/>
            </a:gs>
            <a:gs pos="50000">
              <a:srgbClr val="66ff66"/>
            </a:gs>
            <a:gs pos="100000">
              <a:srgbClr val="e2ffe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218440" cy="45259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родные водоемы со стоячей водой. У озер, как и у рек, есть берега. Нет только левого и правого берега. Во все озера впадают реки и ручьи. Если из озера вытекает река, оно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оч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ли вода из озера не вытекает, его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сточ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и людям, заводам, фабрикам и фермам для работы очень нужна пресная вода. В трех районах, где заводские отходы сливают в реки и озера, водоемы загрязняются. И питьевой воды становится мало. Важно, чтобы в водоемы возвращалась чистая вода. Поэтому для ее очистки от отходов строя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истные соору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girl"/>
          <p:cNvPicPr/>
          <p:nvPr/>
        </p:nvPicPr>
        <p:blipFill>
          <a:blip r:embed="rId1"/>
          <a:stretch/>
        </p:blipFill>
        <p:spPr>
          <a:xfrm>
            <a:off x="179280" y="5229360"/>
            <a:ext cx="1257480" cy="1396800"/>
          </a:xfrm>
          <a:prstGeom prst="rect">
            <a:avLst/>
          </a:prstGeom>
          <a:ln w="38160">
            <a:solidFill>
              <a:srgbClr val="00ff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</p:pic>
      <p:sp>
        <p:nvSpPr>
          <p:cNvPr id="251" name="AutoShape 10"/>
          <p:cNvSpPr/>
          <p:nvPr/>
        </p:nvSpPr>
        <p:spPr>
          <a:xfrm>
            <a:off x="2627280" y="5084640"/>
            <a:ext cx="4321080" cy="151308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66ff66"/>
              </a:gs>
              <a:gs pos="50000">
                <a:srgbClr val="d1ffd1"/>
              </a:gs>
              <a:gs pos="100000">
                <a:srgbClr val="66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 время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Admin</cp:lastModifiedBy>
  <dcterms:modified xsi:type="dcterms:W3CDTF">2010-09-24T15:11:36Z</dcterms:modified>
  <cp:revision>131</cp:revision>
  <dc:subject/>
  <dc:title>Заголовок слайда отсутствует</dc:title>
</cp:coreProperties>
</file>