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8D58-18F9-4F65-9521-CB55B2FC2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8E0A-CC2E-4285-9ED3-66C4E439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8689-4408-4D40-9AE7-83CC90C9A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98A3-5375-4DFE-8F57-9EFE3017A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46AC-0BD6-4D6A-A2FB-9FAAD578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7BE2-4A48-41A8-8434-DFD9B39B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14AA-44F0-44EA-9148-8862CE41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03DE-18A5-4376-B6E8-F934773D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96CB-F8C2-4145-B193-303DF2C0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19BD-BD98-49CA-92E9-E7FC6FF0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A130-375B-427A-85D1-7998327F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C190-23E9-433E-BD82-8CFBC928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8D94-2965-45E4-B1DF-542CFC747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08000" y="692280"/>
            <a:ext cx="58327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оект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76360" y="2349360"/>
            <a:ext cx="684072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звращённый лес.</a:t>
            </a:r>
            <a:endParaRPr b="0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00000" y="836640"/>
            <a:ext cx="763272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339933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колько килограммов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339933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339933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бумаги можно изготовить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339933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339933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з одного дерева?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339933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339933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339933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   </a:t>
            </a: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339933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1000 : 17 = 60 (кг)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339933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55640" y="620640"/>
            <a:ext cx="7848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В классе 23 человек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826920" y="2906640"/>
            <a:ext cx="7848720" cy="289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 x 23 = 138 (кг) - расход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умаги нашего класса за год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plit dir="in" orient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4360" y="692280"/>
            <a:ext cx="7488000" cy="50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99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колько деревьев надо посадить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99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99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 конце учебного года?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99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99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99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    </a:t>
            </a: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99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138 : 60 = 2,3 (д.)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99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99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99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иблизительно 3 дерев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99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24000" y="2133720"/>
          <a:ext cx="8137440" cy="40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133720"/>
                    <a:ext cx="813744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 txBox="1"/>
          <p:nvPr/>
        </p:nvSpPr>
        <p:spPr>
          <a:xfrm>
            <a:off x="826920" y="549360"/>
            <a:ext cx="7417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садка деревьев.</a:t>
            </a:r>
            <a:endParaRPr b="0" lang="en-US" sz="1800" spc="1" strike="noStrike">
              <a:ln w="0">
                <a:noFill/>
              </a:ln>
              <a:solidFill>
                <a:srgbClr val="3399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plit dir="in" orient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116000" y="260280"/>
            <a:ext cx="727236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Times New Roman"/>
              </a:rPr>
              <a:t>В школе 527 учащихс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Times New Roman"/>
              <a:ea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26920" y="2349360"/>
            <a:ext cx="7921800" cy="374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27 x 6 = 3162 (кг) - приблизительный</a:t>
            </a:r>
            <a:endParaRPr b="0" lang="en-US" sz="1800" spc="1" strike="noStrike">
              <a:ln w="0">
                <a:noFill/>
              </a:ln>
              <a:solidFill>
                <a:srgbClr val="0066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ход бумаги за год.</a:t>
            </a:r>
            <a:endParaRPr b="0" lang="en-US" sz="1800" spc="1" strike="noStrike">
              <a:ln w="0">
                <a:noFill/>
              </a:ln>
              <a:solidFill>
                <a:srgbClr val="0066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0066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162 : 60 = 52,7 (д.)</a:t>
            </a:r>
            <a:endParaRPr b="0" lang="en-US" sz="1800" spc="1" strike="noStrike">
              <a:ln w="0">
                <a:noFill/>
              </a:ln>
              <a:solidFill>
                <a:srgbClr val="0066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0066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близительно 53 дерева.</a:t>
            </a:r>
            <a:endParaRPr b="0" lang="en-US" sz="1800" spc="1" strike="noStrike">
              <a:ln w="0">
                <a:noFill/>
              </a:ln>
              <a:solidFill>
                <a:srgbClr val="0066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plit dir="in" orient="ver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547640" y="333360"/>
            <a:ext cx="676944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ного леса - береги,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ло леса - посади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92360" y="2708280"/>
            <a:ext cx="5256000" cy="3809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751640" cy="5832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411280" y="1052640"/>
            <a:ext cx="4465800" cy="163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"/>
              </a:rPr>
              <a:t>Цель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116000" y="1844640"/>
            <a:ext cx="720108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знать, сколько новых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ревьев надо посади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конце учебного года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бы вернуть Земл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ничтоженные дл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ёбы моих однокласснико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еса, и высадить их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plit dir="in" orient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03640" y="1773360"/>
            <a:ext cx="5524560" cy="31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Бумага - одно из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древнейших изобретен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цивилизаци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667240" cy="1943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347 -0.00509 L -0.00382 0.16909 C -0.03941 0.20564 -0.0592 0.26046 -0.0592 0.31737 C -0.0592 0.38237 -0.03941 0.43442 -0.00382 0.47096 L 0.15347 0.64538 E">
                                      <p:cBhvr>
                                        <p:cTn id="44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187280" y="836640"/>
            <a:ext cx="6769440" cy="48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99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      </a:t>
            </a: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99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105 год н.э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99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99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итаец Цай Лунь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99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99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ервым открыл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99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99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особ получения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99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99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бумаги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99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71640" y="620640"/>
            <a:ext cx="741672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9999"/>
                  </a:solidFill>
                  <a:miter/>
                </a:ln>
                <a:solidFill>
                  <a:srgbClr val="33ccc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 России основателем начала </a:t>
            </a:r>
            <a:endParaRPr b="0" lang="en-US" sz="1800" spc="1" strike="noStrike">
              <a:ln w="12600">
                <a:solidFill>
                  <a:srgbClr val="009999"/>
                </a:solidFill>
                <a:miter/>
              </a:ln>
              <a:solidFill>
                <a:srgbClr val="33ccc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9999"/>
                  </a:solidFill>
                  <a:miter/>
                </a:ln>
                <a:solidFill>
                  <a:srgbClr val="33ccc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ыпуска бумажной</a:t>
            </a:r>
            <a:endParaRPr b="0" lang="en-US" sz="1800" spc="1" strike="noStrike">
              <a:ln w="12600">
                <a:solidFill>
                  <a:srgbClr val="009999"/>
                </a:solidFill>
                <a:miter/>
              </a:ln>
              <a:solidFill>
                <a:srgbClr val="33ccc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9999"/>
                  </a:solidFill>
                  <a:miter/>
                </a:ln>
                <a:solidFill>
                  <a:srgbClr val="33ccc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одукции был</a:t>
            </a:r>
            <a:endParaRPr b="0" lang="en-US" sz="1800" spc="1" strike="noStrike">
              <a:ln w="12600">
                <a:solidFill>
                  <a:srgbClr val="009999"/>
                </a:solidFill>
                <a:miter/>
              </a:ln>
              <a:solidFill>
                <a:srgbClr val="33ccc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9999"/>
                  </a:solidFill>
                  <a:miter/>
                </a:ln>
                <a:solidFill>
                  <a:srgbClr val="33ccc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ётр I.</a:t>
            </a:r>
            <a:endParaRPr b="0" lang="en-US" sz="1800" spc="1" strike="noStrike">
              <a:ln w="12600">
                <a:solidFill>
                  <a:srgbClr val="009999"/>
                </a:solidFill>
                <a:miter/>
              </a:ln>
              <a:solidFill>
                <a:srgbClr val="33ccc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4360" y="4005360"/>
            <a:ext cx="75596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      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702 год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России выходи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рвая газет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Ведомости" Петра I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258920" y="476280"/>
            <a:ext cx="6408720" cy="17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зраст дерева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cccc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63640" y="2349360"/>
            <a:ext cx="4248360" cy="4032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Продолжительность жизни отдельных пород деревьев</a:t>
            </a:r>
            <a:r>
              <a:rPr b="0" lang="en-US" sz="4000" spc="-1" strike="noStrike">
                <a:solidFill>
                  <a:srgbClr val="33cc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Arial"/>
              </a:rPr>
              <a:t>Ель – до 50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Arial"/>
              </a:rPr>
              <a:t>Сосна – до 35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Arial"/>
              </a:rPr>
              <a:t>Берёза – до 15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Arial"/>
              </a:rPr>
              <a:t>Рябина – до 8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Arial"/>
              </a:rPr>
              <a:t>Ясень – до 10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Осина – до 10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Дуб – до 20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Липа – до 50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Кедр – до 80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Вяз – до 40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55640" y="981000"/>
            <a:ext cx="748836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17 деревьев = 1 тонна бумаги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plit dir="in" orient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2:00:23Z</dcterms:created>
  <dc:creator>User</dc:creator>
  <dc:description/>
  <dc:language>en-US</dc:language>
  <cp:lastModifiedBy>User</cp:lastModifiedBy>
  <dcterms:modified xsi:type="dcterms:W3CDTF">2009-02-17T18:54:09Z</dcterms:modified>
  <cp:revision>5</cp:revision>
  <dc:subject/>
  <dc:title>Слайд 1</dc:title>
</cp:coreProperties>
</file>