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BB7-2370-47D0-AEF8-D1C9524A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624-BEE4-4E18-BAAF-031DDDCD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2F6-67B6-4D8D-85AF-BDA8DACD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40A-836D-448E-9E8E-8E28A7AB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ED0-74EB-4C29-B5B4-51BC714E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758-DB51-46CD-9532-DA4788A5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B362-E646-4036-A104-456A3200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A54-1467-4436-810A-C660A026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67A6-F5F9-4716-986D-EBCA8342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A47-56A4-446C-9E5C-1F9B633A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BE57-1372-4550-BF80-8C8F0870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1F2-3DF5-4A7F-9D83-979FA518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D5FD-D7CF-4ADF-AEB7-85FFC8179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8000" y="692280"/>
            <a:ext cx="5832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ек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2349360"/>
            <a:ext cx="684072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звращённый лес.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00000" y="836640"/>
            <a:ext cx="763272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колько килограммов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умаги можно изготовить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з одного дерева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000 : 17 = 60 (кг)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55640" y="620640"/>
            <a:ext cx="784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 классе 23 челове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26920" y="2906640"/>
            <a:ext cx="7848720" cy="28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 x 23 = 138 (кг) - расход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маги нашего класса за год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4360" y="692280"/>
            <a:ext cx="7488000" cy="50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колько деревьев надо посадить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 конце учебного года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38 : 60 = 2,3 (д.)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близительно 3 дерев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4000" y="2133720"/>
          <a:ext cx="813744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33720"/>
                    <a:ext cx="813744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 txBox="1"/>
          <p:nvPr/>
        </p:nvSpPr>
        <p:spPr>
          <a:xfrm>
            <a:off x="826920" y="549360"/>
            <a:ext cx="741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садка деревьев.</a:t>
            </a:r>
            <a:endParaRPr b="0" lang="en-US" sz="1800" spc="1" strike="noStrike">
              <a:ln w="0">
                <a:noFill/>
              </a:ln>
              <a:solidFill>
                <a:srgbClr val="3399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16000" y="260280"/>
            <a:ext cx="7272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Times New Roman"/>
              </a:rPr>
              <a:t>В школе 527 учащихс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26920" y="2349360"/>
            <a:ext cx="7921800" cy="37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27 x 6 = 3162 (кг) - приблизительный</a:t>
            </a:r>
            <a:endParaRPr b="0" lang="en-US" sz="1800" spc="1" strike="noStrike">
              <a:ln w="0">
                <a:noFill/>
              </a:ln>
              <a:solidFill>
                <a:srgbClr val="00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ход бумаги за год.</a:t>
            </a:r>
            <a:endParaRPr b="0" lang="en-US" sz="1800" spc="1" strike="noStrike">
              <a:ln w="0">
                <a:noFill/>
              </a:ln>
              <a:solidFill>
                <a:srgbClr val="00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00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162 : 60 = 52,7 (д.)</a:t>
            </a:r>
            <a:endParaRPr b="0" lang="en-US" sz="1800" spc="1" strike="noStrike">
              <a:ln w="0">
                <a:noFill/>
              </a:ln>
              <a:solidFill>
                <a:srgbClr val="00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00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близительно 53 дерева.</a:t>
            </a:r>
            <a:endParaRPr b="0" lang="en-US" sz="1800" spc="1" strike="noStrike">
              <a:ln w="0">
                <a:noFill/>
              </a:ln>
              <a:solidFill>
                <a:srgbClr val="00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547640" y="333360"/>
            <a:ext cx="6769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ного леса - береги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о леса - посади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5256000" cy="3809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751640" cy="583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411280" y="1052640"/>
            <a:ext cx="4465800" cy="163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Цел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16000" y="1844640"/>
            <a:ext cx="720108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знать, сколько новых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ревьев надо посади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онце учебного года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вернуть Земл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ничтоженные дл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ёбы моих однокласснико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са, и высадить их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03640" y="1773360"/>
            <a:ext cx="552456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Бумага - одно из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древнейших изобрете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цивилизаци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667240" cy="194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347 -0.00509 L -0.00382 0.16909 C -0.03941 0.20564 -0.0592 0.26046 -0.0592 0.31737 C -0.0592 0.38237 -0.03941 0.43442 -0.00382 0.47096 L 0.15347 0.64538 E">
                                      <p:cBhvr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87280" y="836640"/>
            <a:ext cx="676944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05 год н.э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итаец Цай Лунь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ервым открыл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особ получен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умаги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71640" y="620640"/>
            <a:ext cx="741672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9999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 России основателем начала </a:t>
            </a:r>
            <a:endParaRPr b="0" lang="en-US" sz="1800" spc="1" strike="noStrike">
              <a:ln w="12600">
                <a:solidFill>
                  <a:srgbClr val="009999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9999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пуска бумажной</a:t>
            </a:r>
            <a:endParaRPr b="0" lang="en-US" sz="1800" spc="1" strike="noStrike">
              <a:ln w="12600">
                <a:solidFill>
                  <a:srgbClr val="009999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9999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одукции был</a:t>
            </a:r>
            <a:endParaRPr b="0" lang="en-US" sz="1800" spc="1" strike="noStrike">
              <a:ln w="12600">
                <a:solidFill>
                  <a:srgbClr val="009999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9999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ётр I.</a:t>
            </a:r>
            <a:endParaRPr b="0" lang="en-US" sz="1800" spc="1" strike="noStrike">
              <a:ln w="12600">
                <a:solidFill>
                  <a:srgbClr val="009999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360" y="4005360"/>
            <a:ext cx="7559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702 год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оссии выходи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вая газе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Ведомости" Петра I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58920" y="476280"/>
            <a:ext cx="6408720" cy="17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раст дерева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4248360" cy="403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Продолжительность жизни отдельных пород деревьев</a:t>
            </a:r>
            <a:r>
              <a:rPr b="0" lang="en-US" sz="4000" spc="-1" strike="noStrike">
                <a:solidFill>
                  <a:srgbClr val="33cc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Ель – до 50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Сосна – до 35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Берёза – до 15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Рябина – до 8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Ясень – до 10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Осина – до 10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Дуб – до 20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Липа – до 50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Кедр – до 80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Вяз – до 40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55640" y="981000"/>
            <a:ext cx="74883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7 деревьев = 1 тонна бумаги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2:00:23Z</dcterms:created>
  <dc:creator>User</dc:creator>
  <dc:description/>
  <dc:language>en-US</dc:language>
  <cp:lastModifiedBy>User</cp:lastModifiedBy>
  <dcterms:modified xsi:type="dcterms:W3CDTF">2009-02-17T18:54:09Z</dcterms:modified>
  <cp:revision>5</cp:revision>
  <dc:subject/>
  <dc:title>Слайд 1</dc:title>
</cp:coreProperties>
</file>