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25D-1D27-466C-9A95-5568193E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644-F2BB-47C8-8E3F-4C69E60F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C3E-CAD2-4FA5-A5E0-F407A17A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623-AA02-4D1E-952C-FCA3064D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53C8-535D-4C99-B1F4-86E0C20F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9761-278D-417F-BFE2-A533D495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0638-58FA-4DFD-9708-2CF95D41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D9C9-7887-4480-8987-05F17558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E370-6054-49B1-B308-ACC43289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" y="38088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BFEC-ED3B-4D9E-ADF7-1657CD29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C17D-EAB3-47F7-B2F3-87B33789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AA00-2E6C-4DBD-A929-25E02C16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34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540C-D2D8-4375-A657-3BEBA0CC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22FE-83A9-475E-B0FF-2787C5D9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0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AAF1-F0C4-4CA3-82B8-208B8040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34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C532-2A6F-4F2E-A348-87DD2F82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964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00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964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68C2-27A4-446A-B2B8-F8556199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95C-E834-4AAD-B373-D56A71D2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FC8-8E85-47D6-9F5A-C95966B2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91B-5444-4B3C-AA3C-21F3E06A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38088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E08-7434-4E53-965B-84C71E1E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075-B000-4E6F-9F56-8C3DCA37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612-C699-435C-95FA-91B23678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E23-87C0-49D6-868E-F004573A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FC37-D526-4141-BC4A-E4D6B6CDDC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1676520"/>
            <a:ext cx="8420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AF87-5CCE-4353-A64F-44264F601E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7487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етодические рекомендации по совершенствованию процесса преподавания русского языка в связи с ЕГЭ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читель Проскурина В.В.,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МОУ СОШ №30 г.Краснодар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95320" y="1391760"/>
            <a:ext cx="8348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омашнее зад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анализируйте текст с точки зрения его постро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ъясните постановку знаков препин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чается осень… Как всегда, роняют пожухлые листья деревья, почти прозрачными становятся густые надречные леса, свинцовым светом отливает донская вода. Как всегда, никнут к земле, тяжелеют посеребрённые предрассветным инеем травы и над землёй медлительно клубится серая пелена облаков. Как всегда, покидают родные места перелётные птицы, холодный ветер с дождём несет на земле первые снежинки, и они ложатся на чёрную пахоту в опустевших полях… Кончается ос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41240" y="446760"/>
            <a:ext cx="8502840" cy="59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омашнее зад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1. Перепишите, объясните постановку знаков препин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2. Определите жанр этого текс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.Г.Белинский о княжне Ме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няжна как птичка билась в сетях расставленных искусною рукою она допустила обмануть себя но когда увидела себя обманутой она как женщина почувствовала своё оскорбление. Сцена её последнего свидания с Печориным возбуждает к ней сильное участие и обливает её образ блеском поэз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3. Запишите примеры, объясните постановку знаков препин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иза… нет Акулина, милая смуглая Акулина сидела перед окном и читала его письм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Никто не знал причины, побудившей его выйти в отставку и поселиться в бедном местечке, где жил он вместе и бедно и расточительно: ходил вечно пешком в изношенном чёрном сюртуке, а держал открытый стол для всех офицеров нашего пол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Но более всего (более его нежности, более приятного разговора, более интересной бледности, более перевязанной руки) молчание молодого гусара подстрекало её любопытство и вообра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н вышел из себя и в первую минуту гнева хотел было со всеми дворовыми учинить нападение на Кистенёвку (так называлась деревня его соседа), разорить её дотла и осадить самого помещика в его усадьб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Но всех более занята была им дочь англомана моего, Лиза (или Бетси, как звал её обыкновенно Григорий Иванов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84280" y="392400"/>
            <a:ext cx="88138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Домашнее зад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ерепишите текст, расставьте знаки препина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Составьте схему последнего предлож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исьменно ответьте на вопрос, с какой целью использованы в описании героя сложные предложения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еречислите черты «футлярной жизн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н был замечателен тем что всегда даже в очень хорошую погоду выходил в калошах и с зонтиком и непременно в тёплом пальто на вате. И зонтик у него был в чехле и часы в чехле из серой замши и когда вынимал перочинный нож чтобы очинить карандаш то и нож у него был в чехольчике; и лицо казалось тоже было в чехле так как он всё время прятал его в поднятый воротник. Он носил тёмные очки фуфайку уши закладывал ватой и когда садился на извозчика то приказывал поднимать верх. Одним словом у этого человека наблюдалось постоянное и непреодолимое стремление окружить себя оболочкой создать себе так сказать футляр который уединил бы его защитил от внешних влияний. Действительность раздражала его пугала держала в постоянной тревоге и быть может для того чтобы оправдать эту свою робость своё отвращение к настоящему он всегда хвалил прошлое и то  чего никогда не было; и древние языки которые он преподавал были для него в сущности те же калоши и зонтик куда он прятался от действительной жиз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сякого рода нарушения уклонения отступления от правил приводили его в уныние хотя казалось бы какое ему дело? Если кто из товарищей опаздывал на молебен или доходили слухи о какой-нибудь проказе гимназистов или видели классную даму поздно вечером с офицером то он очень волновался и всё говорил как бы чего не вышло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По А.П.Чехову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7960" y="648000"/>
            <a:ext cx="88902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ата: ________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Ф.И.: ________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Уточняющие, пояснительные и присоединительные члены предлож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Укажите предложение, в котором нужно поставить запяту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) Я пошёл вправо через куст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) В этом отношении случилось даже одно очень важное для них обоих событие именно встреча Кити с Вронски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) Я стрельнул да и промахнул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) Я обещал приехать завтра в десять часов ут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Укажите предложения с обособленными член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) Завтра в десять часов утра я обещал приеха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) В одном месте на прогалинку выбежал ушкан то есть заяц сел на задние лапки и стал умывать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) Он не видел да и не мог видеть происходящего за стено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) Действительно, не будь Моисея Моськи как звали его все, роте жилось бы хуж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В каком варианте ответа правильно указаны все цифры, на месте которых в предложении должны стоять запяты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днажды весною (1) в час небывалого жаркого заката (2) в Москве (3) на Патриарших прудах (4)появилось два граждани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)1,2,3,4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)1,3,4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)2,3,4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)1,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В каком варианте ответа правильно указаны все цифры, на месте которых в предложении должны стоять запяты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стория (1) то есть бессознательная (2) общая роевая жизнь человечества (3) всякой минутой жизни царей (4) пользуется для себя как орудием для своих ц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)1,2,3,4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)1,3,4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)1,2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)1,2,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84280" y="1191600"/>
            <a:ext cx="87375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та 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.И. 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Вставьте пропущенные буквы, объясните написание Н-Н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) Наконец дом был построе…В доме были расставле..ы некраше..ые столы,стулья,повеше..ы полки. Просторную комнату разделила беле..ая перегородка с фанерной дверью. Домотка..ые половики легли поперёк комнаты,стол был покрыт полотня..ой скатертью,деревя..ые кровати украше..ы самодельной резьбой. И только стари..ые сте..ые часы с дли..ым маятником,будто нарочно повеше..ые напротив двери,напоминали о прежней жизни. 2)Маленькая зала,увеша..ая картинами,большею частью копиями стари..ой итальянской живописной школы Перуджино и Рафаэля,освещалась таким же множеством свечей,как и большая (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.Мережковск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. 3)Это была огромная,заставле..ая книжными шкафами комната с окнами на Неву,очень светлая,уютно затенё..ая тёмными коврами,тёмной дубовой облицовкой стен и тёмно-зелёной сафья..ою мебелью (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.Мережковск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. 4)Жил он в большом каме..ом,довольно неряшливо содержа..ом доме;в иных комнатах мебель была заграничная,а в иных ничего не было,кроме краше..ых стульев и клеенчатого дивана (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И.С.Тургене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28760" y="504720"/>
            <a:ext cx="912636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ата____________________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Ф.И.____________________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Знаки препинания в предложениях с однородными членам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Укажите предложения, в которых нужно поставить одну запятую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 Погода была чудная (?) солнечная (?) тихая (?) с бодрящим (?) свежим воздухом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 Грачей пролётные стада кричат и весело (?) и важн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 Были и лето (?) и  осень дождлив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 Андерсен сделал сказку интересной как для взрослых (?) так и для дете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Укажите предложения, в которых нужно поставить одну запятую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 Душа обязана трудиться и день (?) и ночь (?) и день (?) и ночь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 Я даю ему работу (?) и очень интересную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 Старый (?) чёрный (?) шёлковый платок окутывал огромную шею Дикого Барин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 Матросы ни словом (?) ни жестом не выдали своей тревог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Укажите предложения, в которых на месте пропуска не ставится запята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 Во всякое время дня приходилось много ездить на станцию из своего села (?) или в село со станци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 Мне хотелось застать медведя за едой где-нибудь на лесной поляне (?) или за рыбной ловлей на берегу озера (?) или на отдых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 Там шла кучка лип, хотела было образовать аллею, но вдруг ушла в лес (?) да братски перепуталась с ельником, березняком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 А лиса ждёт (?) не дождётся, пока птенцы выведутс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 Вошёл декан факультета (?) профессор Звягинце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Обобщающие слова при однородных членах предложени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Расставьте знаки препинани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 И над всем (?) над домами, над пожарной каланчой, над старым городским садом (?) над всем синело прозрачное чистое предутреннее неб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 Всё имущество (?) ружья, продовольствие, запасная одежда (?) всё, что находилось в лодке, погибл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 Всё вокруг (?) и берега (?) и избы (?) и далёкие синие холмы (?) и небо с высокими-высокими облаками (?) весь мир поплыл, казалось, назад и стал опрокидыватьс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 И всё вокруг показалось мне таинственным (?) и вершины ёлок (?) и метнувшаяся в сумраке сова (?) и неторопливый шорох пробежавшего неподалёку барсу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Расставьте знаки препинани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 Грачи, галки (?) все собираются на мою борозду клевать черв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 Деревья, берега, мельница, крестьянские избы (?) всё было мокро, черно и грязн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 Ему [ Чичикову ] подавались обычные в трактирах блюда, как-то (?) щи, мозги с горшком, сосиски с капусто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 Бричка бежит, а Егорушка видит всё одно и то же (?) небо, равнину, холм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Расставьте знаки препинани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 Надежду и пловца (?) всё море поглотил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 Мне нужны такие вещи (?) молоток, тиски и клещи, ключ, напильник и ножовка, а всего нужней сноров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 И всё вокруг (?) и жнивья (?) и дорога (?) и воздух (?) сияло от низкого вечернего солнц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7960" y="398520"/>
            <a:ext cx="89694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ата:____________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.И.:____________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ст (1в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равописание сложных с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. Укажите слова, которые пишутся через дефи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пол)луны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2)(держи)морда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)(пол)Европы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(жар)птица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5)(капитан)лейтенан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. Укажите слова, которые пишутся через дефи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штаб)квартира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2)(карт)бланш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3)(трудо)день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4)(лейб)гвардия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5)(борт)механи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. Укажите слова, которые пишутся слит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дико)растущий;     2)(водо)сточный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)(жюль)верновский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(велико)русский;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(западно)сибирские реки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. В каком ряду все слова пишутся через дефис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путь)дорога,     (иссиня)чёрный,     (лимонно)жёлт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)(пол)арбуза,     (пол)мира,     (пол)Петербург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. В каком ряду все слова пишутся слитн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бело)курые волосы,     (научно)исследовательский,     (средне)статистическ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)(пол)года,     (водо)сточная труба,     (густо)населён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)(ультра)современный,     (вагон)ресторан,     (светло)жёлт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.Дефис пишется в сложном слов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абхазско)русский,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2)(средне)русская,          3)(авто)база,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(хлопок)сырец,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(пол)жиз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. Укажите сочетания наречий с прилагательны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научно)диагностический,     2)(научно)изложенный,     3)(научно)исторический,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(научно)отредактирован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19000" y="398520"/>
            <a:ext cx="84250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ата ____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.И. __________________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вописание нареч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. Укажите слова, которые пишутся раздель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1)(на)дво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2) (по)дво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3) (в)смятку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4) (в)заперти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(по)птичь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. Укажите слова, которые пишутся раздель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в)обтяжку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2) (во)вторы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3) (в)крутую       4) (в)су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(в)перевалк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. Укажите слова, которые пишутся через дефи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крепко)накрепк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2) (на)ощупь      3) бок(о)бо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 (по)латыни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(в)затяжк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. Укажите слова, которые пишутся через дефи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по)братски       2) (из)вне        3) (на)пропалую         4) (в)открытую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(в)распло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. Укажите слова, которые пишутся через дефи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тихо)смирно    2) (по)новому       3) (шиворот)навыворот      4) (в)обрез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(с)горяч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. Укажите слова, которые пишутся слит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до)обеда         2) (в)ничью         3) (по)детски          4) (ис)(под)воль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(в)перегон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1440" y="613080"/>
            <a:ext cx="93632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Тире между подлежащим и сказуем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ажите предложения, в которых нужно поставить тире между подлежащим и сказуем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 Любить значит страда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) Жить Родине служи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) Летний вечер тих и яс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 Врага уничтожить большая заслуга, но друга спасти это высшая че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Грамотность ещё не есть предел культуры для человека. Грамотность лишь начало культуры, первая ступень её, фундамент её развит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ажите предложения, в которых нужно поставить тире между подлежащим и сказуем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 Сергей Николаевич только начинающий преподавател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) Обитатели Горюхина большею частью роста среднег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) Летний дождик одно только удовольств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 Родина это движение народа по всей земле из глубин веков к желанному будущему. Родина это вечно отмирающий и вечно рождающийся поток людей, несущих свой язык, свою духовную и материальную культур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Каждый кленовый лист как дождевая туч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Укажите предложения, в которых нужно поставить тире между подлежащим и сказуем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 Грешить дело человеческое, оправдывать свой грех дело дьявольско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) Биография Александра Грина беспощадный приговор дореволюционному строю человеческих отнош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) – Я человек подневольный и за барское дело отвечать долж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 Мы хозяева нашей природы, и она для нас кладовая солнца с великими сокровищами жиз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Под гигантским обрывом блестело Азовское море. Вода в нём как желтоватая листва ак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1440" y="315720"/>
            <a:ext cx="93632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ата:__________________________________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Ф.И.:__________________________________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Гласные И/Ы после 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.Укажите слова, в которых на месте пропуска пишется буква 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куц..й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ц..плёнок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ц..татник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сестриц..н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истц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. Укажите слова, в которых на месте пропуска пишется буква 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ц..рк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моц..он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ц..кнуть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синиц..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матриц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. Укажите слова, в которых на месте пропуска пишется буква 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косиц..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ц..новка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ц..ганский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краснолиц..й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5)певиц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Г. Укажите слова, в которых на месте пропуска пишется буква 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вакц..на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возле Ницц..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3)рац..я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нац..я;           5)революц..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. Укажите слова, в которых на месте пропуска пишется буква 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станц..онный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2)танц..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пац..ент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пац..фист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5)ц..пк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Е. Укажите слова, в которых на месте пропуска пишется буква 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ц..ферблат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2)ц..гарка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ц..мбалы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ц..ц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5)ц..гей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Правописание приставок ПРЕ- и ПРИ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. Укажите слова, в которых на месте пропуска пишется буква 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пр..врати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пр..откры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пр..упрята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пр..стреля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пр..образова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. Укажите слова, в которых на месте пропуска пишется буква 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пр..града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пр..озёрный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пр..бави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пр..украси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пр..ужасный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. Укажите слова, в которых на месте пропуска пишется буква 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пр..одоле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пр..задуматься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пр..ображени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пр..красивый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пр..винтит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Г. Укажите слова, в которых на месте пропуска пишется буква 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пр..смешной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пр..емник поэта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пр..следова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пр..сытиться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пр..ломл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. Укажите слова, в которых на месте пропуска пишется буква 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пр..неприятный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пр..бывает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пр..ступник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пр..слушаться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пр..ломл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Е. Укажите слова, в которых на месте пропуска пишется буква 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пр..быть вовремя       2)пр..дать друга       3)пр..дать ускорение       4)пр..творить дверь       5)пр..творить в жизн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Соединительные О и Е в сложных существительны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. Вставьте пропущенные букв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од..провод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глаз..мер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жизн..описани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астени..водство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асн..писец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власт..люби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дальн..зоркос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амен..тёс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чест..люби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земл..дели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ча..пити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еб..склон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. Раскройте скобк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етоно(мешалка)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лок(схема)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агон(весы)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ело(гонки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зоо(сад)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ет(дом)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лесо(полоса)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ов(хоз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30400" y="1268280"/>
            <a:ext cx="73310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1000" y="490320"/>
            <a:ext cx="789444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ата _________________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Ф.И. _________________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нтрольное тестирова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 вариан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Вставьте, где необходимо пропущенные буквы, раскройте скобк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нц…дент, ум…лять значение, выр…внять грядку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илетан…ский, ап…ел…яция, мас…онств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е…чувственный, пр…дание, пр…зирать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д…ютант, ар…ергард, пустош… 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Пол)листа, (западно)европейский, (полу)мас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стин…ый, зван…ый на ужин, топлён…ое молок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По)дружески, (в)миг узнала, подарить (на)память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чень (не)простая история, далеко (не)новые мысли, сад (не)огорожен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… что иное,как случай; во что(бы) то н… стало. Ну как н… порадеть родному человечку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В)следствии… дождей, иметь (в)виду, (в)отличи… от других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Расставьте, где необходимо знаки препинани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аташа девочка с живыми чёрными глазами вбежала в комнату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н сидел против меня облокотившись на перила и притянув к себе ветку обрывал с неё листь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олнце великолепное и яркое поднималось над лесом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Есть на земле такие превращенья правлений климатов и нравов и умо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Утром он закусывал вчерашней мелочью и выходил наблюдать и наслаждатьс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астоящему рыбаку нужно многое не только река цветы утренние зори но и таинственные ночи и голубые вечера и тишин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ладимир Сергеевич пытался несколько раз заговорить с нею однако без особенного успех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огода была ветреная ветер однако не совсем был попутны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о семейному преданию род наш шёл от какого-то миргородского казачьего полковни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ниги вошли в мою жизнь как великое чуд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ействительность как туча приближалась всё грозней и грозне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Городок стоял на крутой горе и закат над ним как пожарищ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Широко известно что как только происходит что-нибудь не совсем обыкновенное сразу появляются слух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шло несколько лет и обстоятельства привели меня в то самое мест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ак только занималась заря и двери заводили свой разноголосый концерт старички уже сидели за столом и пили ча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сю дорогу молчали мешала быстрая езд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высь взлетает Сокол жмётся Уж к земл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8.    Он поднял глаза над садом торжественно и царственно стояла ночь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Поясните лексическое значение слов и словосочетани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игилист – это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хиллесова пята –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ануть в Лету –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03640" y="1681560"/>
            <a:ext cx="16229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«Я смотрю – я забываю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я слушаю – я запоминаю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я делаю – я понимаю».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(Конфуц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71440" y="907920"/>
          <a:ext cx="9441000" cy="5185080"/>
        </p:xfrm>
        <a:graphic>
          <a:graphicData uri="http://schemas.openxmlformats.org/drawingml/2006/table">
            <a:tbl>
              <a:tblPr/>
              <a:tblGrid>
                <a:gridCol w="4681440"/>
                <a:gridCol w="4759560"/>
              </a:tblGrid>
              <a:tr h="374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ки препинания при сравнительном обор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и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авнительные обороты присоединяются сравнительными союзами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, будто, словно, точно, что, нежели, чем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деляются запятыми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перед </a:t>
                      </a: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ставится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оборотах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и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 обороту предшествуют соотносительные слова </a:t>
                      </a: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…как, такой…как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 т.п.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оборотах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кто иной, как; не что иное, как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перед </a:t>
                      </a: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не ставится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 основным значением оборота является обстоятельственное; подобный оборот может быть синонимичен творительному сравнения, а так же может быть заменён наречием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 оборот имеет значение тождества (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года как погода; лес как лес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, а также входит в состав сказуемого в качестве именной части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 союз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меет значение «в качестве»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 союз входит во фразеологические сочетания типа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речь как зеницу ока; лить как из ведра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 по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черний туман дымился в камыше и лёгким,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кисея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паром вился над водой. (А.И.Куприн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н,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и я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любил рыбалк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н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ой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же заядлый рыбак,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и я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кто иной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ой отец, приучил меня к рыбной ловл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мешок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сидело платье. – Платье сидело мешко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офёр как шофёр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неприметный, как все. (А.Т.Твардовски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гат, хорош собою, Ленский везде был принят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жених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(А.С.Пушкин) Ср.: Ленский везде был принят в качестве жених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41240" y="1572840"/>
            <a:ext cx="8656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лицетвор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перенос свойств человека на неодушевлённые предметы, явления природы,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очевала тучка золотая на груди утёса-великан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М.Лермонт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фраз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замена слова описательными выражен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ётр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= «Герой Полтав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ним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перенос значений по смежности явлен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с содержимого на содержащее: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вши круговые…шипя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с человека на одежду: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ы, мундиры голуб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) с людей на место: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ело обрадовано; завод реши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) с произведения на автора: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упил Репина, принёс Гогол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) с вещи на материал: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 то на серебре, на золоте еда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) с действия на орудие: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ро его местию дыши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95320" y="1794960"/>
            <a:ext cx="8288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Готовимся к ЕГ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.Поставьте знаки ударения в слов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постро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тало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варт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еспечение                                  экспер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ча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зыковая систем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олго                без умол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Отметьте слово, значение которого определено неправиль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рометчивый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обдуманный, слишком поспешный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коллизия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олкновение противоположных сил, стремлений,     интерес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элитарный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учший, отборный, производящий эли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09600" y="669600"/>
            <a:ext cx="8155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Готовимся к ЕГ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Укажите, в каком порядке должны следовать предложения, чтобы получился текс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бъясните постановку знаков препинания в предложении «Г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пределите тип связи предложений в тексте. Укажите средства цепной связ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Выпишите из текста все синонимы к слову «картина». Какие из них являются контекстуальным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. Правда, художник написал столько превосходных весенних вещей. Но это почти всегда была весна, похожая на осен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. Невозможно перечислить все осенние дни, нанесённые им на полот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. Чем ближе к старости, тем чаще мысль Левитана останавливалась на осе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. Во всех этих пейзажах, что бы они ни изображали, безусловно, лучше всего передана печаль прощальных дней, сыплющихся листьев, загнивающих трав, тихого гудения пчёл перед холодами и предзимнего солнца, едва заметно прогревающего зем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. Левитан, так же как и Пушкин, и Тютчев, и многие другие русские писатели, поэты и художники, ждал осени как самого дорогого и мимолетного времени го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Е. Левитан оставил около ста «осенних» картин, не считая этю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74880" y="912960"/>
            <a:ext cx="803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отовимся к ЕГ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 Определите стиль и тип речи данного тек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. Определите тему и главную мыс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3. Укажите тип связи предложений в текс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4. Найдите в тексте слова, являющиеся антоним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5. Объясните знаки препинания в 1 и 2 предложен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ая характерная черта русской культуры, проходящая через всю её тысячелетнюю историю, начиная с Рус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ков, общей праматери трёх восточнославянских народов – русского, украинского и белорусского, - её вселенскость, универсализм. Эта черта вселенскости, универсализма часто искажается, порождая, с одной стороны, охаивания всего своего, а с другой – крайний национализм. Как это не парадоксально, светлый универсализм порождает тёмные тен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льтура России принадлежит десяткам народов Запада и Востока. Именно на этой основе, на многонациональной почве, она выросла во всём своём своеобраз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Д.С.Лихачё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09600" y="106920"/>
            <a:ext cx="78962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Готовимся к ЕГ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читайте текст. Выразите своё отношение к проблемам, затронутым автором. Согласны ли вы с позицией А.И.Солженицына? Какие языковые средства позволяют автору выразить свои мысли и чувств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РАЖЕНЬЕ В В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поверхности быстрого потока не различить отражений ни близких, ни далёких: даже если не мутен он, даже если свободен от пены – в постоянной струйчатой ряби, в неугомонной смене воды отраженья неверны, неотчётливы, непонят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шь когда поток через реки и речки доходит до спокойного широкого устья, или в заводи остановившейся, или в озерке, где вода не продрогнет, - лишь там мы видим в зеркальной глади и каждый листик прибрежного дерева, и каждое пёрышко тонкого облака, и налитую голубую глубь не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к и ты, так и я. Если до сих пор все никак не увидим, все никак не отразим бессмертную чеканную истину, - не потому ли, значит, что ещё движемся куда-то? Ещё живём?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А.И.Солженицы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62040" y="1643760"/>
            <a:ext cx="8661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581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машнее задание к упр.43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Определите стиль речи и тип данного текста. Свой ответ аргументируй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Определите тему и главную мысль текста. Дайте ему наз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Составьте цитатный план и укажите количество микрот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отовимся к ЕГЭ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упр. 51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 стиль и тип речи предложенных фраг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особенности жанра вы можете указ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ведущий тип связи между предложениями. В чём проявляе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 тему и главную мысль фрагментов. Какие чувства и мысли пробуждают тексты в читател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7:22:11Z</dcterms:created>
  <dc:creator>Алексей</dc:creator>
  <dc:description/>
  <dc:language>en-US</dc:language>
  <cp:lastModifiedBy>Алексей</cp:lastModifiedBy>
  <dcterms:modified xsi:type="dcterms:W3CDTF">2010-09-16T19:42:35Z</dcterms:modified>
  <cp:revision>7</cp:revision>
  <dc:subject/>
  <dc:title>Слайд 1</dc:title>
</cp:coreProperties>
</file>