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gif" ContentType="image/gif"/>
  <Override PartName="/ppt/media/image9.wmf" ContentType="image/x-wmf"/>
  <Override PartName="/ppt/media/image11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25D-D821-4A31-BC32-F75F9FC1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6215-79D1-4984-81EC-33B20640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04E3-6072-470C-80A3-514DABFE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E9DC-B57F-40BC-9CDC-CD3C155C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407-390C-4BC2-ACB4-980F0500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AA1-CEC5-4625-870F-EDEA4F61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038-D76F-4E20-A7F3-204046CA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25F3-48C6-40A2-9169-9B926BE0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996-BB91-4C3E-8C86-1EF2EA69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8A94-BC6F-40F7-BEC2-DBDF53A2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306-A91D-477D-8613-E49A3DB0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AB7-8C74-4ABA-97EC-572FDE0C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BAD6-861B-4430-9C19-2E7C8F8CB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6.gi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8280360" cy="5616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4360" y="189000"/>
            <a:ext cx="734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0772c"/>
                </a:solidFill>
                <a:latin typeface="Arial"/>
              </a:rPr>
              <a:t>Физмин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0772c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0772c"/>
                </a:solidFill>
                <a:latin typeface="Arial"/>
              </a:rPr>
              <a:t>Нарисуем песен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42920" y="620640"/>
            <a:ext cx="7201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cc00"/>
                </a:solidFill>
                <a:latin typeface="Arial"/>
              </a:rPr>
              <a:t>Ребята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ff"/>
                </a:solidFill>
                <a:latin typeface="Arial"/>
              </a:rPr>
              <a:t>           </a:t>
            </a:r>
            <a:r>
              <a:rPr b="1" i="1" lang="en-US" sz="5400" spc="-1" strike="noStrike">
                <a:solidFill>
                  <a:srgbClr val="ff00ff"/>
                </a:solidFill>
                <a:latin typeface="Arial"/>
              </a:rPr>
              <a:t>берегите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en-US" sz="5400" spc="-1" strike="noStrike">
                <a:solidFill>
                  <a:srgbClr val="3b0eba"/>
                </a:solidFill>
                <a:latin typeface="Arial"/>
              </a:rPr>
              <a:t>зре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16000" y="4508640"/>
            <a:ext cx="7201080" cy="1396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1125360"/>
            <a:ext cx="7559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cc33"/>
                </a:solidFill>
                <a:latin typeface="Arial"/>
              </a:rPr>
              <a:t>Чаще бывайте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ff"/>
                </a:solidFill>
                <a:latin typeface="Arial"/>
              </a:rPr>
              <a:t>на свежем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3b0eba"/>
                </a:solidFill>
                <a:latin typeface="Arial"/>
              </a:rPr>
              <a:t>воздух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79280" y="260280"/>
          <a:ext cx="8713800" cy="633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60280"/>
                    <a:ext cx="871380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50920" y="620640"/>
            <a:ext cx="1944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1052640"/>
            <a:ext cx="2089440" cy="1008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3429000"/>
            <a:ext cx="1871640" cy="79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3860640"/>
            <a:ext cx="2016000" cy="936720"/>
          </a:xfrm>
          <a:prstGeom prst="ellipse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260280"/>
            <a:ext cx="2016000" cy="9367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89000"/>
            <a:ext cx="4967280" cy="2158920"/>
          </a:xfrm>
          <a:prstGeom prst="cloudCallout">
            <a:avLst>
              <a:gd name="adj1" fmla="val -5578"/>
              <a:gd name="adj2" fmla="val 365"/>
            </a:avLst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276640"/>
            <a:ext cx="216000" cy="194436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3789360"/>
            <a:ext cx="144360" cy="86364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08360" y="2565360"/>
            <a:ext cx="287280" cy="1224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35280" y="4076640"/>
            <a:ext cx="144720" cy="93672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2708280"/>
            <a:ext cx="215640" cy="180036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32720" y="2997360"/>
            <a:ext cx="144360" cy="151272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3500280"/>
            <a:ext cx="142920" cy="1297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2421000"/>
            <a:ext cx="144720" cy="86364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2421000"/>
            <a:ext cx="288720" cy="1224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4869000"/>
            <a:ext cx="142920" cy="1081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2205000"/>
            <a:ext cx="142920" cy="1008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360" y="3284640"/>
            <a:ext cx="216000" cy="2232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1640" y="3645000"/>
            <a:ext cx="289080" cy="2305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59640" y="1700280"/>
            <a:ext cx="288720" cy="1081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diamond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5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animClr clrSpc="rgb">
                                      <p:cBhvr>
                                        <p:cTn id="31" dur="25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set>
                                      <p:cBhvr>
                                        <p:cTn id="32" dur="25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rot="19439400">
            <a:off x="1116000" y="3428640"/>
            <a:ext cx="1655640" cy="1225440"/>
          </a:xfrm>
          <a:prstGeom prst="rtTriangl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36360" y="4280040"/>
            <a:ext cx="9385200" cy="2774880"/>
          </a:xfrm>
          <a:custGeom>
            <a:avLst/>
            <a:gdLst/>
            <a:ahLst/>
            <a:rect l="l" t="t" r="r" b="b"/>
            <a:pathLst>
              <a:path w="5912" h="1748">
                <a:moveTo>
                  <a:pt x="45" y="99"/>
                </a:moveTo>
                <a:cubicBezTo>
                  <a:pt x="83" y="46"/>
                  <a:pt x="220" y="151"/>
                  <a:pt x="318" y="144"/>
                </a:cubicBezTo>
                <a:cubicBezTo>
                  <a:pt x="416" y="137"/>
                  <a:pt x="507" y="46"/>
                  <a:pt x="635" y="54"/>
                </a:cubicBezTo>
                <a:cubicBezTo>
                  <a:pt x="763" y="62"/>
                  <a:pt x="953" y="190"/>
                  <a:pt x="1089" y="190"/>
                </a:cubicBezTo>
                <a:cubicBezTo>
                  <a:pt x="1225" y="190"/>
                  <a:pt x="1331" y="47"/>
                  <a:pt x="1452" y="54"/>
                </a:cubicBezTo>
                <a:cubicBezTo>
                  <a:pt x="1573" y="61"/>
                  <a:pt x="1731" y="243"/>
                  <a:pt x="1814" y="235"/>
                </a:cubicBezTo>
                <a:cubicBezTo>
                  <a:pt x="1897" y="227"/>
                  <a:pt x="1867" y="15"/>
                  <a:pt x="1950" y="8"/>
                </a:cubicBezTo>
                <a:cubicBezTo>
                  <a:pt x="2033" y="1"/>
                  <a:pt x="2215" y="190"/>
                  <a:pt x="2313" y="190"/>
                </a:cubicBezTo>
                <a:cubicBezTo>
                  <a:pt x="2411" y="190"/>
                  <a:pt x="2464" y="0"/>
                  <a:pt x="2540" y="8"/>
                </a:cubicBezTo>
                <a:cubicBezTo>
                  <a:pt x="2616" y="16"/>
                  <a:pt x="2707" y="235"/>
                  <a:pt x="2767" y="235"/>
                </a:cubicBezTo>
                <a:cubicBezTo>
                  <a:pt x="2827" y="235"/>
                  <a:pt x="2835" y="0"/>
                  <a:pt x="2903" y="8"/>
                </a:cubicBezTo>
                <a:cubicBezTo>
                  <a:pt x="2971" y="16"/>
                  <a:pt x="3062" y="272"/>
                  <a:pt x="3175" y="280"/>
                </a:cubicBezTo>
                <a:cubicBezTo>
                  <a:pt x="3288" y="288"/>
                  <a:pt x="3477" y="69"/>
                  <a:pt x="3583" y="54"/>
                </a:cubicBezTo>
                <a:cubicBezTo>
                  <a:pt x="3689" y="39"/>
                  <a:pt x="3704" y="190"/>
                  <a:pt x="3810" y="190"/>
                </a:cubicBezTo>
                <a:cubicBezTo>
                  <a:pt x="3916" y="190"/>
                  <a:pt x="4097" y="39"/>
                  <a:pt x="4218" y="54"/>
                </a:cubicBezTo>
                <a:cubicBezTo>
                  <a:pt x="4339" y="69"/>
                  <a:pt x="4438" y="288"/>
                  <a:pt x="4536" y="280"/>
                </a:cubicBezTo>
                <a:cubicBezTo>
                  <a:pt x="4634" y="272"/>
                  <a:pt x="4702" y="15"/>
                  <a:pt x="4808" y="8"/>
                </a:cubicBezTo>
                <a:cubicBezTo>
                  <a:pt x="4914" y="1"/>
                  <a:pt x="5043" y="205"/>
                  <a:pt x="5171" y="235"/>
                </a:cubicBezTo>
                <a:cubicBezTo>
                  <a:pt x="5299" y="265"/>
                  <a:pt x="5481" y="183"/>
                  <a:pt x="5579" y="190"/>
                </a:cubicBezTo>
                <a:cubicBezTo>
                  <a:pt x="5677" y="197"/>
                  <a:pt x="5738" y="53"/>
                  <a:pt x="5761" y="280"/>
                </a:cubicBezTo>
                <a:cubicBezTo>
                  <a:pt x="5784" y="507"/>
                  <a:pt x="5912" y="1354"/>
                  <a:pt x="5715" y="1551"/>
                </a:cubicBezTo>
                <a:cubicBezTo>
                  <a:pt x="5518" y="1748"/>
                  <a:pt x="4845" y="1460"/>
                  <a:pt x="4581" y="1460"/>
                </a:cubicBezTo>
                <a:cubicBezTo>
                  <a:pt x="4317" y="1460"/>
                  <a:pt x="4476" y="1536"/>
                  <a:pt x="4128" y="1551"/>
                </a:cubicBezTo>
                <a:cubicBezTo>
                  <a:pt x="3780" y="1566"/>
                  <a:pt x="2949" y="1551"/>
                  <a:pt x="2495" y="1551"/>
                </a:cubicBezTo>
                <a:cubicBezTo>
                  <a:pt x="2041" y="1551"/>
                  <a:pt x="1784" y="1551"/>
                  <a:pt x="1406" y="1551"/>
                </a:cubicBezTo>
                <a:cubicBezTo>
                  <a:pt x="1028" y="1551"/>
                  <a:pt x="454" y="1559"/>
                  <a:pt x="227" y="1551"/>
                </a:cubicBezTo>
                <a:cubicBezTo>
                  <a:pt x="0" y="1543"/>
                  <a:pt x="68" y="1550"/>
                  <a:pt x="45" y="1505"/>
                </a:cubicBezTo>
                <a:cubicBezTo>
                  <a:pt x="22" y="1460"/>
                  <a:pt x="91" y="1361"/>
                  <a:pt x="91" y="1278"/>
                </a:cubicBezTo>
                <a:cubicBezTo>
                  <a:pt x="91" y="1195"/>
                  <a:pt x="38" y="1112"/>
                  <a:pt x="45" y="1006"/>
                </a:cubicBezTo>
                <a:cubicBezTo>
                  <a:pt x="52" y="900"/>
                  <a:pt x="128" y="734"/>
                  <a:pt x="136" y="643"/>
                </a:cubicBezTo>
                <a:cubicBezTo>
                  <a:pt x="144" y="552"/>
                  <a:pt x="106" y="553"/>
                  <a:pt x="91" y="462"/>
                </a:cubicBezTo>
                <a:cubicBezTo>
                  <a:pt x="76" y="371"/>
                  <a:pt x="7" y="152"/>
                  <a:pt x="45" y="99"/>
                </a:cubicBezTo>
                <a:close/>
              </a:path>
            </a:pathLst>
          </a:cu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576360" y="1952640"/>
            <a:ext cx="2736720" cy="12254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940360" y="404640"/>
            <a:ext cx="272736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572000" y="2708280"/>
            <a:ext cx="1727280" cy="23050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amond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animClr clrSpc="rgb">
                                      <p:cBhvr>
                                        <p:cTn id="81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set>
                                      <p:cBhvr>
                                        <p:cTn id="82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 rot="21406800">
            <a:off x="5292720" y="2565000"/>
            <a:ext cx="2519280" cy="2151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1301800">
            <a:off x="3276720" y="3428640"/>
            <a:ext cx="1726920" cy="1574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68360" y="189000"/>
            <a:ext cx="2511360" cy="1798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 rot="21233400">
            <a:off x="1042920" y="3860280"/>
            <a:ext cx="1582920" cy="1311480"/>
          </a:xfrm>
          <a:prstGeom prst="rect">
            <a:avLst/>
          </a:prstGeom>
          <a:ln w="0">
            <a:noFill/>
          </a:ln>
        </p:spPr>
      </p:pic>
    </p:spTree>
  </p:cSld>
  <p:transition spd="med" advTm="0">
    <p:diamond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502800">
            <a:off x="5363640" y="3500280"/>
            <a:ext cx="3168720" cy="4302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48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574400">
            <a:off x="2938320" y="5062320"/>
            <a:ext cx="2548080" cy="576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2637000"/>
            <a:ext cx="1441440" cy="12236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354000">
            <a:off x="684360" y="2852280"/>
            <a:ext cx="3024000" cy="4320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395200">
            <a:off x="1476360" y="1341360"/>
            <a:ext cx="3024360" cy="5428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30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6358800">
            <a:off x="3674880" y="996840"/>
            <a:ext cx="2636640" cy="649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06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0103600">
            <a:off x="5148360" y="1915920"/>
            <a:ext cx="3024000" cy="5666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33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710800">
            <a:off x="4456800" y="4694760"/>
            <a:ext cx="3024360" cy="6350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9658400">
            <a:off x="1186920" y="4220640"/>
            <a:ext cx="3024360" cy="6447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7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4524000">
            <a:off x="2735640" y="972360"/>
            <a:ext cx="2519280" cy="574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892200">
            <a:off x="738000" y="2138400"/>
            <a:ext cx="324000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45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1069000">
            <a:off x="684360" y="3500280"/>
            <a:ext cx="3095640" cy="506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8663000">
            <a:off x="4538880" y="1185120"/>
            <a:ext cx="294624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3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1374400">
            <a:off x="5364000" y="2781360"/>
            <a:ext cx="324036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6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 rot="1524000">
            <a:off x="5076360" y="4221000"/>
            <a:ext cx="338292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6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rot="4128000">
            <a:off x="3747960" y="5159520"/>
            <a:ext cx="2808360" cy="587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95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8853200">
            <a:off x="1680840" y="4879800"/>
            <a:ext cx="2808360" cy="6271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1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diamond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53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502800">
            <a:off x="5363640" y="3500280"/>
            <a:ext cx="3168720" cy="4302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48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574400">
            <a:off x="2938320" y="5062320"/>
            <a:ext cx="2548080" cy="576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51280" y="2637000"/>
            <a:ext cx="1441440" cy="12236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354000">
            <a:off x="826920" y="2852280"/>
            <a:ext cx="3024360" cy="4320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395200">
            <a:off x="1547640" y="1413000"/>
            <a:ext cx="3024360" cy="5428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30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6392400">
            <a:off x="3817080" y="1087920"/>
            <a:ext cx="2448000" cy="649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103600">
            <a:off x="5148360" y="1915920"/>
            <a:ext cx="3024000" cy="5666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33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710800">
            <a:off x="4456800" y="4694760"/>
            <a:ext cx="3024360" cy="6350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9658400">
            <a:off x="1186920" y="4220640"/>
            <a:ext cx="3024360" cy="6447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7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4524000">
            <a:off x="2807280" y="972360"/>
            <a:ext cx="2519280" cy="574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892200">
            <a:off x="738000" y="2138400"/>
            <a:ext cx="324000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45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1069000">
            <a:off x="684360" y="3500280"/>
            <a:ext cx="3095640" cy="506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8663000">
            <a:off x="4538880" y="1185120"/>
            <a:ext cx="294624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3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21374400">
            <a:off x="5364000" y="2781360"/>
            <a:ext cx="324036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6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 rot="1524000">
            <a:off x="5076360" y="4221000"/>
            <a:ext cx="338292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6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rot="4128000">
            <a:off x="3677400" y="4970520"/>
            <a:ext cx="2808360" cy="5871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95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8853200">
            <a:off x="1680840" y="4879800"/>
            <a:ext cx="2808360" cy="6271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1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diamond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95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3313080" cy="2855880"/>
          </a:xfrm>
          <a:prstGeom prst="rect">
            <a:avLst/>
          </a:prstGeom>
          <a:ln w="0">
            <a:noFill/>
          </a:ln>
        </p:spPr>
      </p:pic>
    </p:spTree>
  </p:cSld>
  <p:transition spd="med" advTm="0">
    <p:diamond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 rot="20883000">
            <a:off x="2556000" y="1413000"/>
            <a:ext cx="3448080" cy="2468520"/>
          </a:xfrm>
          <a:prstGeom prst="rect">
            <a:avLst/>
          </a:prstGeom>
          <a:ln w="0">
            <a:noFill/>
          </a:ln>
        </p:spPr>
      </p:pic>
      <p:sp>
        <p:nvSpPr>
          <p:cNvPr id="111" name="Cloud"/>
          <p:cNvSpPr/>
          <p:nvPr/>
        </p:nvSpPr>
        <p:spPr>
          <a:xfrm>
            <a:off x="3492360" y="404640"/>
            <a:ext cx="943200" cy="685800"/>
          </a:xfrm>
          <a:prstGeom prst="pie">
            <a:avLst/>
          </a:prstGeom>
          <a:gradFill rotWithShape="0">
            <a:gsLst>
              <a:gs pos="0">
                <a:srgbClr val="f0772c"/>
              </a:gs>
              <a:gs pos="100000">
                <a:srgbClr val="b75b2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loud"/>
          <p:cNvSpPr/>
          <p:nvPr/>
        </p:nvSpPr>
        <p:spPr>
          <a:xfrm>
            <a:off x="4716360" y="0"/>
            <a:ext cx="2527560" cy="1433520"/>
          </a:xfrm>
          <a:prstGeom prst="pie">
            <a:avLst/>
          </a:prstGeom>
          <a:gradFill rotWithShape="0">
            <a:gsLst>
              <a:gs pos="0">
                <a:srgbClr val="f0772c"/>
              </a:gs>
              <a:gs pos="100000">
                <a:srgbClr val="b75b2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loud"/>
          <p:cNvSpPr/>
          <p:nvPr/>
        </p:nvSpPr>
        <p:spPr>
          <a:xfrm>
            <a:off x="250920" y="189000"/>
            <a:ext cx="2022480" cy="1119240"/>
          </a:xfrm>
          <a:prstGeom prst="pie">
            <a:avLst/>
          </a:prstGeom>
          <a:gradFill rotWithShape="0">
            <a:gsLst>
              <a:gs pos="0">
                <a:srgbClr val="f0772c"/>
              </a:gs>
              <a:gs pos="100000">
                <a:srgbClr val="b75b2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loud"/>
          <p:cNvSpPr/>
          <p:nvPr/>
        </p:nvSpPr>
        <p:spPr>
          <a:xfrm>
            <a:off x="7524720" y="1125360"/>
            <a:ext cx="1158840" cy="83052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loud"/>
          <p:cNvSpPr/>
          <p:nvPr/>
        </p:nvSpPr>
        <p:spPr>
          <a:xfrm>
            <a:off x="2843280" y="2492280"/>
            <a:ext cx="3384360" cy="3311640"/>
          </a:xfrm>
          <a:prstGeom prst="pie">
            <a:avLst/>
          </a:prstGeom>
          <a:gradFill rotWithShape="0">
            <a:gsLst>
              <a:gs pos="0">
                <a:srgbClr val="f0772c"/>
              </a:gs>
              <a:gs pos="100000">
                <a:srgbClr val="9a4c1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diamond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6.75301E-007 L -0.4651 0.43247 E">
                                      <p:cBhvr>
                                        <p:cTn id="328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08048E-006 L 0.35417 0.53746 E">
                                      <p:cBhvr>
                                        <p:cTn id="331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08048E-006 L 0.0901 0.54787 E">
                                      <p:cBhvr>
                                        <p:cTn id="33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21924E-006 L -0.18108 0.48312 E">
                                      <p:cBhvr>
                                        <p:cTn id="337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5:37:02Z</dcterms:created>
  <dc:creator>Масько Л.Г.</dc:creator>
  <dc:description/>
  <dc:language>en-US</dc:language>
  <cp:lastModifiedBy>alex</cp:lastModifiedBy>
  <dcterms:modified xsi:type="dcterms:W3CDTF">2008-01-27T12:53:44Z</dcterms:modified>
  <cp:revision>25</cp:revision>
  <dc:subject/>
  <dc:title>Найди меня</dc:title>
</cp:coreProperties>
</file>