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3AB-F364-46ED-AC5F-DB97874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E67-6BCF-436E-A681-4C15092A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D38-EFD2-4FF0-92BA-F594FA82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8EA-008E-4C27-82B0-367A00A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8F7-2320-454F-A3FA-5535597D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678-351E-473E-A1EF-29FB1BCA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67A-A55E-419C-8E5B-C38B9B65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283-E1EE-401E-8BEB-83E5916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7D6-D46D-420F-8FA6-9B2B0E45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71F-8D98-4D5F-AFAF-31A5531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C8A-B677-4DFB-ACBD-A7366FEA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584-4C97-4A1D-BFA9-188F6B0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E38-565E-47FA-B626-3934BB34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c0d2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4f123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ls" descr="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27"/>
                </a:moveTo>
                <a:arcTo wR="10800" hR="10800" stAng="-23329" swAng="-2157667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71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a965"/>
            </a:gs>
            <a:gs pos="50000">
              <a:srgbClr val="99ff99"/>
            </a:gs>
            <a:gs pos="100000">
              <a:srgbClr val="65a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0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alex</cp:lastModifiedBy>
  <dcterms:modified xsi:type="dcterms:W3CDTF">2008-01-27T12:49:59Z</dcterms:modified>
  <cp:revision>21</cp:revision>
  <dc:subject/>
  <dc:title>Слайд 1</dc:title>
</cp:coreProperties>
</file>