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402-6DF9-4670-9517-406EAD3F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2BB-F6E3-4C8F-8BFC-EB3A4EF1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6D2-7302-45EC-80E0-D09CF735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85F-C845-4AA1-B14E-C7E4B6D0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69B-BD1A-4FA6-B306-840CD7B5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605-E6E6-475B-AD10-9D9C46B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1FA-647C-455A-9235-EC8693E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02AB-EEEF-4C35-B920-889736CE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E4E-5A58-4126-96B9-2F1D311E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F99-FB5E-415F-99AF-38EF9468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E52-DF24-4E6E-9CEB-8D8B561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1217-4CC7-4786-AC98-A6F28CD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430C-6C3B-484A-93CA-7986BCE00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287000" y="-1066680"/>
            <a:ext cx="5105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БЕГЕМО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339200"/>
            <a:ext cx="73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Этот толстый зверь, огромный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Целый день, как - будто сонный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 зоопарке-то народу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Что ему…? Он ляжет в воду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Голова одна торчит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Хорошо хоть не ворчит!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Отрастил большой живот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Кто же это?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14739" t="5627" r="11580" b="9964"/>
          <a:stretch/>
        </p:blipFill>
        <p:spPr>
          <a:xfrm>
            <a:off x="9753480" y="685800"/>
            <a:ext cx="6400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084 0.03334 L -0.89584 0.22222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-0.04444 L -0.90834 0.13334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228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г соединяет между собой большой овал туловища 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ьший — п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3244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28600"/>
            <a:ext cx="8001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круге нарисуй глаза и ухо. За кругом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овала на шее. Построй переднюю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нюю лапы и добавь хв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958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28600"/>
            <a:ext cx="8153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ещё две лапы, прорису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льцы и колени. Но слож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переди: глаза, нос, пасть, зубы и щ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5530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73520" y="228600"/>
            <a:ext cx="71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ётко прорисуй контуры, убрав ли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008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2286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х, нелёгкая это работа — из болота тащить бегемот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628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14739" t="5627" r="11580" b="9964"/>
          <a:stretch/>
        </p:blipFill>
        <p:spPr>
          <a:xfrm>
            <a:off x="4724280" y="3505320"/>
            <a:ext cx="4038840" cy="298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28600" y="304920"/>
            <a:ext cx="2514600" cy="1955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3200400" y="838080"/>
            <a:ext cx="2438280" cy="188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943600" y="304920"/>
            <a:ext cx="2819520" cy="1928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41911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3-03T11:00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