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E9CF-362E-42B2-B510-C4F025128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3B6F-F740-4902-AC0D-7DA88A22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AC8C-6487-4748-AC48-B9AD2AD8F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DC34-A46F-47DF-BBE5-BD8F47B65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00CB-1872-43AB-8AEE-D56747B8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B58F-5906-4D29-9E85-D14F6532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7D44-7A70-47F5-A25C-FAAEB5A6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C0D0-06BF-4EA0-B605-5243E582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F8DD-AD33-461B-BF4A-FE2CFEE5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7E39-93FB-436F-BC96-909C5E12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786B-F4E6-49AA-8FC3-4ED75E92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A9F0-0A40-402D-BEE8-FB08DAB0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D0AF-966D-4496-9F94-171C34E5D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0287000" y="-1066680"/>
            <a:ext cx="5105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БЕГЕМОТ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339200"/>
            <a:ext cx="7315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Этот толстый зверь, огромный,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Целый день, как - будто сонный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В зоопарке-то народу!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Что ему…? Он ляжет в воду,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Голова одна торчит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Хорошо хоть не ворчит!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Отрастил большой живот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Кто же это?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rcRect l="14739" t="5627" r="11580" b="9964"/>
          <a:stretch/>
        </p:blipFill>
        <p:spPr>
          <a:xfrm>
            <a:off x="9753480" y="685800"/>
            <a:ext cx="64008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084 0.03334 L -0.89584 0.22222 E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5 -0.04444 L -0.90834 0.13334 E">
                                      <p:cBhvr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2286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уг соединяет между собой большой овал туловища 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ьший — п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632448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28600"/>
            <a:ext cx="8001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круге нарисуй глаза и ухо. За кругом 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ва овала на шее. Построй переднюю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днюю лапы и добавь хво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609588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28600"/>
            <a:ext cx="8153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рисуй ещё две лапы, прорису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альцы и колени. Но сложная рабо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переди: глаза, нос, пасть, зубы и щ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55308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73520" y="228600"/>
            <a:ext cx="713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ётко прорисуй контуры, убрав ли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тро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640080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22860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х, нелёгкая это работа — из болота тащить бегемота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371600" y="1752480"/>
            <a:ext cx="656280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rcRect l="14739" t="5627" r="11580" b="9964"/>
          <a:stretch/>
        </p:blipFill>
        <p:spPr>
          <a:xfrm>
            <a:off x="4724280" y="3505320"/>
            <a:ext cx="4038840" cy="2981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228600" y="304920"/>
            <a:ext cx="2514600" cy="1955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3200400" y="838080"/>
            <a:ext cx="2438280" cy="1884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5943600" y="304920"/>
            <a:ext cx="2819520" cy="1928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380880" y="3048120"/>
            <a:ext cx="419112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arez</cp:lastModifiedBy>
  <dcterms:modified xsi:type="dcterms:W3CDTF">2008-03-03T11:00:43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