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A3E-AD38-41A5-92F2-5203E99C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CC6-4C5F-413A-BCD3-8573E9D2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C59-EA63-46CF-866D-4A58D6A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A4F-0489-4BA9-8A65-7CBE36DA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ED9-23ED-4890-B70D-74DB583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7D9-1002-4235-A3BB-093F6F5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055-FD10-4D40-99D7-E1E9AA2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621-95FB-4A76-9DCB-CDB6578E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607-0F67-44D2-92B0-2258A96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7D4-56A1-46D0-9AD6-F2BFD031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CF6-ADE1-470F-9259-DB06425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915-32A0-4E9B-A2D8-2840A34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9F8-0E4F-41BE-A2EC-D91BF8BF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53480" y="-99072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БЕЛОЧК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08760"/>
            <a:ext cx="7238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Хожу в пушистой шубке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Живу в густом лесу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 дупле на старом дубе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Орешки я грызу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829800" y="1066680"/>
            <a:ext cx="6705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83 0.01666 L -0.82083 0.2055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 -0.10972 L -0.94167 0.06805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и две прямые линии для хвоста и туловища, 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й из 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голову и туловище с помощь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7913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й линии нарисуй хвост. Дорисуй с  помощью овалов задние 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ние лапки. На голове нарисуй остроконечные 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1722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перь нарисуй глаза, нос и морд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7913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2320" y="30492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авь недостающие детали и сот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омогательны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5530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45280" y="22860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на картинке дерево для бел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048120" cy="235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352680" y="99072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3048120" cy="232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3276720"/>
            <a:ext cx="3962520" cy="305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524880" y="2590920"/>
            <a:ext cx="47246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8172 L -0.575 0.09606 E">
                                      <p:cBhvr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2-19T09:48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