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D0D-52CD-411C-BA48-7831FDF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566-B223-4E86-B1B6-3FF3C34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CB0-31D8-4645-A9DE-D4CEF40F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7C0-9830-45D2-AD96-B9D733B3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70F-B2D6-4286-B62C-F232C13F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ACC-D624-49A9-B790-A380E2CC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DCD-A467-407D-A7FB-B7EDBC7B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EAE8-96D8-4E15-9C01-C0F1BE0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7A1-574A-4325-A670-934B0E51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DC2-1B5A-49D6-A3C7-68CCF5C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3F3-D96A-4B50-AAF8-91F9960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E9B-A9D1-43E0-B0B5-27C6E6F9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3E0F-C876-4761-A83C-E8A9C85C9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53480" y="-990720"/>
            <a:ext cx="495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ЕЛОЧ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08760"/>
            <a:ext cx="7238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Хожу в пушистой шубке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Живу в густом лесу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 дупле на старом дубе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Орешки я грызу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829800" y="1066680"/>
            <a:ext cx="6705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083 0.01666 L -0.82083 0.2055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5 -0.10972 L -0.94167 0.06805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две прямые линии для хвоста и туловища, 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й из ни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голову и туловище с помощь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ва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752480"/>
            <a:ext cx="57913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второй линии нарисуй хвост. Дорисуй с  помощью овалов задние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ние лапки. На голове нарисуй остроконечные 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00200" y="1752480"/>
            <a:ext cx="61722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перь нарисуй глаза, нос и морд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57913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22320" y="30492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авь недостающие детали и сот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омогательны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55308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45280" y="228600"/>
            <a:ext cx="76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на картинке дерево для бе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048120" cy="235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352680" y="99072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3048120" cy="232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3276720"/>
            <a:ext cx="3962520" cy="3055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9524880" y="2590920"/>
            <a:ext cx="47246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8172 L -0.575 0.09606 E">
                                      <p:cBhvr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2-19T09:48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