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E6B5-E9E1-42CB-8684-84BBC1D6B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7B68-32E8-41FB-8DAD-69E58C49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10B3-8702-4F0D-9F05-52B4C193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5F6C-1F85-48DC-96AA-8D1BB8611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9B36-FF2F-4F80-95C2-1984390A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2890-FA06-4B1A-AEB3-3D62FC3D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A6D7-C323-4E3B-A8AC-ADD63345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005C-672D-4FF7-9CFA-5AF92455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0CF8-7C8B-4EE7-A095-45E58E88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81BD-E37C-4108-A91A-53610A3C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5023-120C-4B05-B767-D77D48F6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F277-8FE4-4E22-898C-FC7A162B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E555-BEB0-44EF-83F2-ABD5D331F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448920" y="457200"/>
            <a:ext cx="6781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БОЖЬЯ  КОРОВК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136800" y="1140480"/>
            <a:ext cx="8949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Я — малюсенький жучок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Спинка — красный пиджачок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В чёрные горошки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Дай свои ладошки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Их чуть-чуть пощекочу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И на небо полечу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А на ком обновка?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То — 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9906120" y="21337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25 -3.33333E-006 L -0.89584 -3.33333E-006 E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-0.23334 4.44444E-006 L -0.80834 -0.07778 E">
                                      <p:cBhvr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21240" y="380880"/>
            <a:ext cx="718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веди линию и на ней нарисуй ов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295280" y="1447920"/>
            <a:ext cx="64008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28240"/>
            <a:ext cx="82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верхней части овала проведи лини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 точки пересечения ещё две лин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торые расходятся книз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32448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58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ставь два кружочка на голове — это глаза. Нарисуй кружочки на крыль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19320" y="1523880"/>
            <a:ext cx="6629400" cy="50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3880" y="3801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рисуй лапки, усики и глаз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19320" y="1447920"/>
            <a:ext cx="6324480" cy="48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49480" y="380520"/>
            <a:ext cx="674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ади божью коровку на листоче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крась картин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066680" y="1447920"/>
            <a:ext cx="69343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638680" y="3352680"/>
            <a:ext cx="3124440" cy="3124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97180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514600" cy="1981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019920" y="304920"/>
            <a:ext cx="2895480" cy="2211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762120" y="3276720"/>
            <a:ext cx="464796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ya</cp:lastModifiedBy>
  <dcterms:modified xsi:type="dcterms:W3CDTF">2008-03-03T17:17:3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