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DC6-A95B-4098-825F-FB717C3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588-A3EF-41B6-A398-F0C20D4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39C-1313-40A3-960E-3B6D8057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55A-5BFA-41C5-B618-03CC2EE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E5-5509-46F7-89A0-5242E05D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A53-8928-4787-8218-057E173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48C-8E30-4EF4-A42E-A499FABD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045-B86A-45C1-8EFF-55D40C57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D88-B084-4FBD-B82E-734895C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73A-E069-40BC-A02C-576B087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0A2-6130-4E04-B200-F82ADC2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3CE-0E37-4ACA-8350-0B34873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ABD-3D8D-4004-9C27-FD3FB4FD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4489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ОЖЬЯ  КОРОВ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36800" y="1140480"/>
            <a:ext cx="8949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Я — малюсенький жучок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пинка — красный пиджачок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чёрные горошк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ай свои ладошк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х чуть-чуть пощекочу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 на небо полечу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 на ком обновка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о —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9061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5 -3.33333E-006 L -0.89584 -3.33333E-00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23334 4.44444E-006 L -0.80834 -0.07778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1240" y="380880"/>
            <a:ext cx="71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и линию и на ней нарисуй о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400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28240"/>
            <a:ext cx="82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ерхней части овала проведи ли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точки пересечения ещё две ли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ые расходятся к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3244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вь два кружочка на голове — это глаза. Нарисуй кружочки на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6294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380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лапки, усики и гла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32448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9480" y="380520"/>
            <a:ext cx="67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ади божью коровку на лист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ась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12444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2895480" cy="221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3276720"/>
            <a:ext cx="4647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17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