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D04-58A2-4328-8A78-01E32F93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531-916C-4692-90BE-CC419A46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D93-2DE7-48FE-9938-B56E77A0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80F-1920-4C8B-834B-D6D67EA4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35C-B75B-422D-8B12-FAB608E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A30-90AE-4260-9B2F-41B745EA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00E-162B-4A39-8288-5087DC8E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C8F-79FF-4013-BF45-80921DDB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54E-B4D6-4E7F-AA56-0811783E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F54-0C3F-4716-B797-CFA52F5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F6E-C5B7-40CA-A313-388D4997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031-0716-4A43-9C5F-0C26B983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3B82-2741-405F-8075-06215ACF5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3.png"/><Relationship Id="rId9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0" Type="http://schemas.microsoft.com/office/2007/relationships/media" Target="file:///tmp/home/.config/libreoffice/4/user/gallery/&#1047;&#1072;&#1087;&#1080;&#1089;&#1072;&#1085;&#1085;&#1099;&#1081;%20&#1079;&#1074;&#1091;&#1082;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295280"/>
            <a:ext cx="6400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 д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1641" t="1220" r="1538" b="0"/>
          <a:stretch/>
        </p:blipFill>
        <p:spPr>
          <a:xfrm>
            <a:off x="380880" y="304920"/>
            <a:ext cx="4496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304920"/>
            <a:ext cx="5398920" cy="624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791320" y="457200"/>
            <a:ext cx="761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33720" y="4648320"/>
            <a:ext cx="761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010280" y="2514600"/>
            <a:ext cx="838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324480" y="457200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228600"/>
            <a:ext cx="838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2819520"/>
            <a:ext cx="762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0200" y="6094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62520" y="2666880"/>
            <a:ext cx="122868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Д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дудят в дудочку? (ДУ-ДУ-ДУ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2335320" cy="428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56080" y="3313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8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90920" y="228600"/>
            <a:ext cx="3200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4678200"/>
            <a:ext cx="2748240" cy="217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760840" cy="293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954160" cy="3174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743200" y="3467160"/>
            <a:ext cx="3305160" cy="33908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62120" y="4495680"/>
            <a:ext cx="1904760" cy="2362320"/>
            <a:chOff x="762120" y="4495680"/>
            <a:chExt cx="1904760" cy="2362320"/>
          </a:xfrm>
        </p:grpSpPr>
        <p:sp>
          <p:nvSpPr>
            <p:cNvPr id="51" name=""/>
            <p:cNvSpPr/>
            <p:nvPr/>
          </p:nvSpPr>
          <p:spPr>
            <a:xfrm>
              <a:off x="1143000" y="4495680"/>
              <a:ext cx="1523880" cy="1371600"/>
            </a:xfrm>
            <a:prstGeom prst="cloudCallout">
              <a:avLst>
                <a:gd name="adj1" fmla="val -44375"/>
                <a:gd name="adj2" fmla="val 644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2120" y="6095880"/>
              <a:ext cx="9144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7924680" y="-6858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1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15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95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8240" y="1678320"/>
            <a:ext cx="761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мире не бывает доктора добр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сем он помога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доктор - друг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 доктору ход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аленькие де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Этот самый док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учше всех на свет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04920"/>
            <a:ext cx="518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Очень длинны, очень кол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У зверька того игол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Бродит, не смотря на нас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По вольеру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95680" y="2819520"/>
            <a:ext cx="43974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189000"/>
            <a:ext cx="273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59280" y="1994040"/>
            <a:ext cx="58384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182520"/>
            <a:ext cx="59896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rcRect l="5468" t="2524" r="3382" b="2841"/>
          <a:stretch/>
        </p:blipFill>
        <p:spPr>
          <a:xfrm>
            <a:off x="685800" y="53352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8643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7-04-29T05:59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