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5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7C76-BBA5-4290-9F12-27D0A60F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1B15-24F6-45C6-B43A-1251EA46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BED8-9C36-4807-BA7D-C10DE719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AE4-DB46-4EFB-BE51-0D238376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BCF9-3C6B-4646-85E9-152CE75F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B5EF-E216-4012-9295-2106B20C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4CD-4A9A-4E30-B6E6-61F9ABE1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12A9-AF9D-4192-A4D7-EF5D6B9F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1FFB-16A5-4581-8BC2-F73A81D0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41B1-7875-4AE6-A3C8-E0C3B4EC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41B8-C8ED-43F4-88FB-F958EA13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334-0C67-4E35-906C-3C550F25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F230-9F53-492A-B2D4-E4403F035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7" Type="http://schemas.microsoft.com/office/2007/relationships/media" Target="file:///tmp/home/.config/libreoffice/4/user/gallery/&#1047;&#1072;&#1087;&#1080;&#1089;&#1072;&#1085;&#1085;&#1099;&#1081;%20&#1079;&#1074;&#1091;&#1082;" TargetMode="External"/><Relationship Id="rId8" Type="http://schemas.openxmlformats.org/officeDocument/2006/relationships/image" Target="../media/image3.png"/><Relationship Id="rId9" Type="http://schemas.openxmlformats.org/officeDocument/2006/relationships/image" Target="../media/image8.png"/><Relationship Id="rId10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11" Type="http://schemas.microsoft.com/office/2007/relationships/media" Target="file:///tmp/home/.config/libreoffice/4/user/gallery/&#1047;&#1072;&#1087;&#1080;&#1089;&#1072;&#1085;&#1085;&#1099;&#1081;%20&#1079;&#1074;&#1091;&#1082;" TargetMode="External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609480"/>
            <a:ext cx="601956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 к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rcRect l="0" t="3627" r="5001" b="0"/>
          <a:stretch/>
        </p:blipFill>
        <p:spPr>
          <a:xfrm>
            <a:off x="762120" y="533520"/>
            <a:ext cx="419076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0" t="4551" r="0" b="4414"/>
          <a:stretch/>
        </p:blipFill>
        <p:spPr>
          <a:xfrm>
            <a:off x="1447920" y="1371600"/>
            <a:ext cx="5740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455292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квакает лягушка? (КВА–КВА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38160" y="1928880"/>
            <a:ext cx="5467680" cy="300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5345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9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04920" y="1981080"/>
            <a:ext cx="32004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2362320" cy="852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67280" y="762120"/>
            <a:ext cx="3063960" cy="3314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324480" y="4952880"/>
            <a:ext cx="2971800" cy="171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038480" y="3276720"/>
            <a:ext cx="1762200" cy="3390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7543800" y="-3808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4038480" y="380880"/>
            <a:ext cx="1295640" cy="161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7924680" y="-2332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8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385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737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46280" y="1524240"/>
            <a:ext cx="76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Кит фонтан пустил до неба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Жаль, что ты при этом не бы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Мы с тобою бы вдво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Поплескались вволю в нем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609480"/>
            <a:ext cx="4968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Все иметь всегда хотят Полосатых поросят. Забывая, что потом Каждый станет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3573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657600" y="1905120"/>
            <a:ext cx="5197320" cy="4462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762120" y="304920"/>
            <a:ext cx="27432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К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11320" y="1004760"/>
            <a:ext cx="512136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011320" y="1004760"/>
            <a:ext cx="51213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rcRect l="1292" t="1804" r="1937" b="8075"/>
          <a:stretch/>
        </p:blipFill>
        <p:spPr>
          <a:xfrm>
            <a:off x="914400" y="9144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ya</cp:lastModifiedBy>
  <dcterms:modified xsi:type="dcterms:W3CDTF">2007-04-29T06:10:2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