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png" ContentType="image/png"/>
  <Override PartName="/ppt/media/image5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49AA-F79B-49FB-99BE-C0ED9F4A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E070-B825-4850-9985-CBE1389A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6E00-CB05-4905-B057-C33E6B53B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E9CE-0BBF-418E-92F9-C0B29AF3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69FC-1F93-426A-AB3C-AE597014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AA3F-FC74-44C3-8822-336D080F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FCCD-2C1B-4D78-A719-1634406C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1BDC-6540-4FB2-9524-4361CED3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AF37-98DE-4D52-9749-6F25E962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CDBE-30CB-47ED-884C-63B34A01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E83B-8E2A-4AF8-B3ED-8470C0D5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D93C-F36F-44A0-9EDB-44F7BD33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764F-39D7-4801-AB4B-154F51D2C8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7" Type="http://schemas.microsoft.com/office/2007/relationships/media" Target="file:///tmp/home/.config/libreoffice/4/user/gallery/&#1047;&#1072;&#1087;&#1080;&#1089;&#1072;&#1085;&#1085;&#1099;&#1081;%20&#1079;&#1074;&#1091;&#1082;" TargetMode="External"/><Relationship Id="rId8" Type="http://schemas.openxmlformats.org/officeDocument/2006/relationships/image" Target="../media/image3.png"/><Relationship Id="rId9" Type="http://schemas.openxmlformats.org/officeDocument/2006/relationships/image" Target="../media/image8.png"/><Relationship Id="rId10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11" Type="http://schemas.microsoft.com/office/2007/relationships/media" Target="file:///tmp/home/.config/libreoffice/4/user/gallery/&#1047;&#1072;&#1087;&#1080;&#1089;&#1072;&#1085;&#1085;&#1099;&#1081;%20&#1079;&#1074;&#1091;&#1082;" TargetMode="External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609480"/>
            <a:ext cx="6019560" cy="541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 к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rcRect l="0" t="3627" r="5001" b="0"/>
          <a:stretch/>
        </p:blipFill>
        <p:spPr>
          <a:xfrm>
            <a:off x="762120" y="533520"/>
            <a:ext cx="4190760" cy="60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rcRect l="0" t="4551" r="0" b="4414"/>
          <a:stretch/>
        </p:blipFill>
        <p:spPr>
          <a:xfrm>
            <a:off x="1447920" y="1371600"/>
            <a:ext cx="5740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455292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791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квакает лягушка? (КВА–КВА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838160" y="1928880"/>
            <a:ext cx="5467680" cy="3000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5345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99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04920" y="1981080"/>
            <a:ext cx="320040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2362320" cy="852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867280" y="762120"/>
            <a:ext cx="3063960" cy="3314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324480" y="4952880"/>
            <a:ext cx="2971800" cy="1719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4038480" y="3276720"/>
            <a:ext cx="1762200" cy="3390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" action="ppaction://media"/>
          </p:cNvPr>
          <p:cNvPicPr/>
          <p:nvPr>
            <a:vide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7543800" y="-3808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4038480" y="380880"/>
            <a:ext cx="1295640" cy="1619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media"/>
          </p:cNvPr>
          <p:cNvPicPr/>
          <p:nvPr>
            <a:vide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7924680" y="-2332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385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385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7374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46280" y="1524240"/>
            <a:ext cx="765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Кит фонтан пустил до неба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Жаль, что ты при этом не был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Мы с тобою бы вдво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Поплескались вволю в нем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609480"/>
            <a:ext cx="49687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Monotype Corsiva"/>
              </a:rPr>
              <a:t>Все иметь всегда хотят Полосатых поросят. Забывая, что потом Каждый станет 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219640" y="1700280"/>
            <a:ext cx="3573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657600" y="1905120"/>
            <a:ext cx="5197320" cy="4462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762120" y="304920"/>
            <a:ext cx="274320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К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011320" y="1004760"/>
            <a:ext cx="5121360" cy="48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011320" y="1004760"/>
            <a:ext cx="51213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rcRect l="1292" t="1804" r="1937" b="8075"/>
          <a:stretch/>
        </p:blipFill>
        <p:spPr>
          <a:xfrm>
            <a:off x="914400" y="91440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ya</cp:lastModifiedBy>
  <dcterms:modified xsi:type="dcterms:W3CDTF">2007-04-29T06:10:2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