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C6B1-0034-4B00-8975-A311DDF4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D63C-A279-4C1B-9F28-9E9BC416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E6E-7228-48B8-A066-F2573CE9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5A91-BABE-4D99-9E25-2AA74CE0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CBE8-1397-4FAD-BE86-35B8FE8A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EC4E-400C-4347-A2A9-D13F4AE3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54DE-F87B-409B-A96D-6F67442D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1055-83A8-4E4A-9D99-7410F425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790-3AB2-4B34-AAD0-865168EC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7C5-05A8-49C1-92F9-1FECA79F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956D-BB8F-44F7-B63D-426BC4FA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14AF-0CC1-4634-9789-CF5E9CDF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50C9-34CA-49F5-A85E-8C74DA1B5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210680" y="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КЕНГУРУ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-72000" y="2512800"/>
            <a:ext cx="9362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Ребенка животные те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Носят в сумке на животе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rcRect l="13908" t="27740" r="17479" b="7735"/>
          <a:stretch/>
        </p:blipFill>
        <p:spPr>
          <a:xfrm>
            <a:off x="9829800" y="1600200"/>
            <a:ext cx="5562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17 -0.02778 L -0.8125 0.06111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84 0.01204 L -0.87917 0.03426 E">
                                      <p:cBhvr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30456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рисуй большое тулови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маленькую голову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63244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03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8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рисуй шею, которая соедин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лову и туловище, и длинный толст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вост, а также большую заднюю лап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3880" y="1600200"/>
            <a:ext cx="632484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6440" y="166320"/>
            <a:ext cx="867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ши, глаза, нос и рот нарисуй на голо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туловищу добавь маленькие передние лап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льнюю заднюю лапу и, конечно, сум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19320" y="1752480"/>
            <a:ext cx="617220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71480" y="228240"/>
            <a:ext cx="78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рисуй контур, убери вспомогате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нии постро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40080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66680" y="25848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енгуру живёт в Австрал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исуй, где он скач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6324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rcRect l="13908" t="27740" r="17479" b="7735"/>
          <a:stretch/>
        </p:blipFill>
        <p:spPr>
          <a:xfrm>
            <a:off x="5562720" y="4038480"/>
            <a:ext cx="3047760" cy="2498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2743200" cy="2120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200400" y="762120"/>
            <a:ext cx="2743200" cy="2120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095880" y="380880"/>
            <a:ext cx="2667240" cy="2089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62120" y="3276720"/>
            <a:ext cx="4419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ya</cp:lastModifiedBy>
  <dcterms:modified xsi:type="dcterms:W3CDTF">2008-03-03T17:24:4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