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A392-0D80-4778-B87C-C134F3A0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C9F4-55C6-40D8-9764-8C617A1C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186A-64B4-482F-ABAD-483D3E62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F778-8CA7-4040-810B-DB77E07F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A1A-0EF7-4C4A-9877-C0F1B65F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CD67-45E6-40E8-BD61-27FE6D82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A92-68CF-4921-B66B-68074CD6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E89-F416-4F98-B076-8811D78B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10A-E81C-4F5C-B478-D8AE0D27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D32-1176-4089-911E-8AAF132B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858-705E-4864-A194-8BED2372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C80B-2141-424A-87D4-D8E9C618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FB6D-CB51-4FCC-ACB2-7FEA0ADB5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210680" y="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КЕНГУРУ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-72000" y="2512800"/>
            <a:ext cx="936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Ребенка животные те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Носят в сумке на животе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rcRect l="13908" t="27740" r="17479" b="7735"/>
          <a:stretch/>
        </p:blipFill>
        <p:spPr>
          <a:xfrm>
            <a:off x="9829800" y="1600200"/>
            <a:ext cx="5562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17 -0.02778 L -0.8125 0.06111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84 0.01204 L -0.87917 0.03426 E">
                                      <p:cBhvr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30456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рисуй большое тулови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маленькую голову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63244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903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8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рисуй шею, которая соедин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лову и туловище, и длинный толст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2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вост, а также большую заднюю лап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3880" y="1600200"/>
            <a:ext cx="632484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6440" y="166320"/>
            <a:ext cx="867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ши, глаза, нос и рот нарисуй на голо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туловищу добавь маленькие передние лап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льнюю заднюю лапу и, конечно, сум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19320" y="1752480"/>
            <a:ext cx="617220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71480" y="228240"/>
            <a:ext cx="78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рисуй контур, убери вспомогате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84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нии постро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40080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66680" y="25848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енгуру живёт в Австрал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исуй, где он скач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6324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rcRect l="13908" t="27740" r="17479" b="7735"/>
          <a:stretch/>
        </p:blipFill>
        <p:spPr>
          <a:xfrm>
            <a:off x="5562720" y="4038480"/>
            <a:ext cx="3047760" cy="2498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2743200" cy="2120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200400" y="762120"/>
            <a:ext cx="2743200" cy="2120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095880" y="380880"/>
            <a:ext cx="2667240" cy="2089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62120" y="3276720"/>
            <a:ext cx="4419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ya</cp:lastModifiedBy>
  <dcterms:modified xsi:type="dcterms:W3CDTF">2008-03-03T17:24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