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AC3-4D4F-4F95-9643-12DC4597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300-25DF-4CA7-9260-4A97133D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DED-7652-40C5-AB2E-3F600DC9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B36-6D33-405D-A4C0-DB49B0CC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8D6-672D-481F-ADB5-39C9F179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E72-ACAD-4D25-9F29-C5DB40D9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D27-478E-4908-9032-81E29C3C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FD7-89E0-4E41-A43E-4393DD1F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C71-AA2D-44EF-A0EC-D864CDC8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DE5-58C7-433D-B5D4-48956E55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824-8652-4A21-BB44-F92E9EDE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AAFA-4075-4BA8-B0E4-03CE2A75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1F8F-2518-4A7C-BE9B-2349961AA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420720" y="0"/>
            <a:ext cx="3733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ЁЖИК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-766080" y="2193120"/>
            <a:ext cx="10860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В густом лесу под елками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Осыпанный листвой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Лежит клубок с иголками,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Колючий и живой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0" t="0" r="16054" b="0"/>
          <a:stretch/>
        </p:blipFill>
        <p:spPr>
          <a:xfrm>
            <a:off x="11049120" y="1523880"/>
            <a:ext cx="693396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17 0.01111 L -1.04583 0.05555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083 -0.10486 L -1.07917 0.00625 E">
                                      <p:cBhvr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04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ди горизонтальную линию и сверху нарису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вину ов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24852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0456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рисуй нос, глаз, ушко. Внизу доба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а овала и соедини их с туловищ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55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н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58676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62320" y="3808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арианты рисунка еж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3962520" cy="3087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495680" y="3276720"/>
            <a:ext cx="43434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7124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крась ежа в лесу на поля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80773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rez</cp:lastModifiedBy>
  <dcterms:modified xsi:type="dcterms:W3CDTF">2008-03-03T11:11:2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