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FFD-3A24-4339-9418-439A1FA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816-A269-486D-A703-FDFFDCC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E1C-FB43-4B8A-A8C0-3D37C77E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8DE-8E4A-4794-A16B-183239A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EED-2024-48CE-AF76-D7DD1C85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FA7-8625-4884-8DF8-F51F992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48A-E3BC-4F0A-A0D2-AD466EB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51B-16D5-43E7-81B3-49C0B53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301-C55B-4C91-9F60-4410177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BE5-819D-4E57-88FA-F3113B6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80F-79D1-402E-95A0-27DA7F2B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17D-E973-404A-B6A8-18547670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2DC-08CB-40F4-A1AB-17E4DF158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420720" y="0"/>
            <a:ext cx="3733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ЁЖИ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766080" y="2193120"/>
            <a:ext cx="10860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 густом лесу под елками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Осыпанный листвой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Лежит клубок с иголками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олючий и живой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16054" b="0"/>
          <a:stretch/>
        </p:blipFill>
        <p:spPr>
          <a:xfrm>
            <a:off x="11049120" y="1523880"/>
            <a:ext cx="6933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7 0.01111 L -1.04583 0.0555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83 -0.10486 L -1.07917 0.00625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горизонтальную линию и сверху нарису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ину о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2485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0456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нос, глаз, ушко. Внизу доба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овала и соедини их с туловищ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8676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62320" y="380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ианты рисунка е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962520" cy="308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4343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24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крась ежа в лесу на поля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80773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11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