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C893-E831-4388-BD60-5F8AA118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3CD-A5BC-4FEA-986A-7A08687A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D6B-8C7D-4C8C-A463-61051CCC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928-24D1-41F2-94A1-6C5B943B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AED-1812-4F60-921F-2F583FB7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815-AF6F-46B2-976F-61321176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A8D-EF25-4970-A6B0-461C083E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809-E306-47BC-BE4A-0B5C860A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0A1-05DB-405D-93ED-D1DD4C60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1FF-55AF-4211-8D6A-1EEFC964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A93-8F31-4239-9B96-30040D9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716-75F3-4202-A96E-1679F81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467A-9570-4CCD-84EC-72EA1CF43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15855" t="6513" r="10975" b="16993"/>
          <a:stretch/>
        </p:blipFill>
        <p:spPr>
          <a:xfrm>
            <a:off x="9906120" y="2441520"/>
            <a:ext cx="5638680" cy="441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0134720" y="457200"/>
            <a:ext cx="4267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ЗАЙЧИК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86480" y="2435760"/>
            <a:ext cx="886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Угадайте, что за шапка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Меха целая охапка.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Шапка бегает в лесу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У кустов грызет кору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167 0.00555 L -0.875 0.01667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667 -0.12245 L -0.93334 -0.07801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6360" y="227880"/>
            <a:ext cx="52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рисуй туловище и го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0866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553440" cy="5030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581120" y="2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-1581120" y="2760840"/>
          <a:ext cx="182520" cy="1179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-1579680" y="3939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581120" y="21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-1581120" y="4856040"/>
          <a:ext cx="182520" cy="1179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-1579680" y="60508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4400" y="228240"/>
            <a:ext cx="648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помощью овалов дорисуй лап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вост, уши, морковк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54400" y="304560"/>
            <a:ext cx="636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исуй на голове мордочку, но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а и щё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553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53680" y="30420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зайчика, глядя на образ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6294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960" y="304560"/>
            <a:ext cx="912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исуй солнышко, деревья, полянку, где зайч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ется пообе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6294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rez</cp:lastModifiedBy>
  <dcterms:modified xsi:type="dcterms:W3CDTF">2008-03-03T11:18:4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