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wmf" ContentType="image/x-wmf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94432-8678-4C08-901A-367D80B8C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33978-FC51-45E6-9536-50807C37A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68BEA-1142-46B0-8347-CAF71386C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D09E9-DFF8-4395-B561-B698FEBE7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AF792-5E27-44B7-83E3-B9763AAB5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29E5E-7317-4FF9-B38F-C1477A8C7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A00DF-5252-4B4D-A24B-4B04FA851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3062F-343B-4C33-A060-D6F3F1D19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30544-4062-48C2-80A8-CB9CFC8CB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E0C19-BA15-4084-BF35-7092B0948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038DA-FC2E-44BC-A3F7-AE71C7B01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455ED-B29D-4C2F-85D8-973ADE062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3E6BD-F12A-48A9-8E25-28B95A22B7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3"/>
          <a:srcRect l="15855" t="6513" r="10975" b="16993"/>
          <a:stretch/>
        </p:blipFill>
        <p:spPr>
          <a:xfrm>
            <a:off x="9906120" y="2441520"/>
            <a:ext cx="5638680" cy="44164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>
            <a:off x="10134720" y="457200"/>
            <a:ext cx="426708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ЗАЙЧИК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4" name=""/>
          <p:cNvSpPr/>
          <p:nvPr/>
        </p:nvSpPr>
        <p:spPr>
          <a:xfrm>
            <a:off x="186480" y="2435760"/>
            <a:ext cx="88660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Monotype Corsiva"/>
              </a:rPr>
              <a:t>Угадайте, что за шапка.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Monotype Corsiva"/>
              </a:rPr>
              <a:t>Меха целая охапка.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Monotype Corsiva"/>
              </a:rPr>
              <a:t>Шапка бегает в лесу,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Monotype Corsiva"/>
              </a:rPr>
              <a:t>У кустов грызет кору.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4167 0.00555 L -0.875 0.01667 E">
                                      <p:cBhvr>
                                        <p:cTn id="6" dur="2000" fill="hold"/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1667 -0.12245 L -0.93334 -0.07801 E">
                                      <p:cBhvr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836360" y="227880"/>
            <a:ext cx="526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1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Нарисуй туловище и голов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990720" y="1066680"/>
            <a:ext cx="708660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1523880" y="1447920"/>
            <a:ext cx="6553440" cy="50306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-1581120" y="212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-1581120" y="2760840"/>
          <a:ext cx="182520" cy="117936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117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" name=""/>
          <p:cNvSpPr/>
          <p:nvPr/>
        </p:nvSpPr>
        <p:spPr>
          <a:xfrm>
            <a:off x="-1579680" y="393984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-1581120" y="212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-1581120" y="4856040"/>
          <a:ext cx="182520" cy="117936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117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" name=""/>
          <p:cNvSpPr/>
          <p:nvPr/>
        </p:nvSpPr>
        <p:spPr>
          <a:xfrm>
            <a:off x="-1579680" y="6050880"/>
            <a:ext cx="18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454400" y="228240"/>
            <a:ext cx="6487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21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 помощью овалов дорисуй лапы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1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хвост, уши, морковку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454400" y="304560"/>
            <a:ext cx="6360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21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рисуй на голове мордочку, нос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1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лаза и щё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1371600" y="1523880"/>
            <a:ext cx="6553080" cy="50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453680" y="304200"/>
            <a:ext cx="655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1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Дорисуй зайчика, глядя на образец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1371600" y="1371600"/>
            <a:ext cx="6629400" cy="508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0960" y="304560"/>
            <a:ext cx="9126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Нарисуй солнышко, деревья, полянку, где зайчи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собирается пообеда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6629400" cy="49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arez</cp:lastModifiedBy>
  <dcterms:modified xsi:type="dcterms:W3CDTF">2008-03-03T11:18:41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