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C2E-3D0F-4054-9800-9841097A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B89-D75F-4ECF-9121-4240BC34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694-2FA7-4CA9-AF8C-FC38D193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43E-A771-4F12-8DFB-41AC0BFE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6C5-570B-40ED-A57E-780E1BB1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B35-0CD4-4095-8774-6B43A29F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171-0019-4469-ADE9-6FADF9FF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192-37C4-4742-80FC-A6F5FFBC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009-FE01-4C0B-A413-FAE51C0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141-9FC6-4F2E-A5B6-A70E7563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6CF-E696-4924-A4E4-6F7309AC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D4F-5363-466F-8F4D-18A0BDF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B05C-F635-43BE-9DCC-4839E9EC6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753480" y="0"/>
            <a:ext cx="3810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ЕБР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-168840" y="2283480"/>
            <a:ext cx="9583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Я в пижаме полосатой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Очень теплой, волосатой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Не лошадка я, но все же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На лошадку я похож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14288" t="0" r="7795" b="0"/>
          <a:stretch/>
        </p:blipFill>
        <p:spPr>
          <a:xfrm>
            <a:off x="9829800" y="1676520"/>
            <a:ext cx="480060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5 2.22222E-006 L -0.775 0.06666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083 -0.08125 L -0.82083 -0.01458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24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ди две окруж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исуй ещё одну деталь, из кото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ом получится голова зеб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40080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44560" y="380520"/>
            <a:ext cx="714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 туловище, шею и ноги зеб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4008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93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исуй хвост. На ногах зебры выдели копыта, на голове — глаза, на холке у животного — гр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60962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95160" y="2282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исуй чёрные полоски. Прорисуй уш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65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за, мордо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67057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1880" y="304560"/>
            <a:ext cx="840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ужно добавить, чтобы поселить зебру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фрике? Придумай картинку и раскрась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1025" b="0"/>
          <a:stretch/>
        </p:blipFill>
        <p:spPr>
          <a:xfrm>
            <a:off x="762120" y="1523880"/>
            <a:ext cx="7391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14288" t="0" r="7795" b="0"/>
          <a:stretch/>
        </p:blipFill>
        <p:spPr>
          <a:xfrm>
            <a:off x="5715000" y="3581280"/>
            <a:ext cx="3048120" cy="2934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819160" cy="2166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76720" y="1066680"/>
            <a:ext cx="2743200" cy="2095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248520" y="228600"/>
            <a:ext cx="2666880" cy="2048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rcRect l="0" t="0" r="1025" b="0"/>
          <a:stretch/>
        </p:blipFill>
        <p:spPr>
          <a:xfrm>
            <a:off x="762120" y="3429000"/>
            <a:ext cx="4343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8-03-03T17:21:1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