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004A-B48F-49F6-9989-7977B9F9D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F3F3-9D4E-41AD-9B40-286CBEB3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DAC3-05BE-474A-BE38-DFEF780D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31FB-8431-41A8-9AFC-5DED5A23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0F97-8242-4464-91BC-CF132234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0FEB-A570-4798-A0B9-92B41C2E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E1C4-048B-4E5C-BB35-926040AF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36BA-03CF-4ECD-8FDC-5EA150D1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7B68-2009-46DD-80F5-0AAAA782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5BF0-4F50-4F46-8D08-F3242A7F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23FC-C11B-4B0D-8565-7885BE27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14C9-A6F6-4390-AA6C-8E3FE00B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7FFB-E023-4DC9-84C1-D3B135500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753480" y="0"/>
            <a:ext cx="3810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ЗЕБР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-168840" y="2283480"/>
            <a:ext cx="9583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Я в пижаме полосатой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Очень теплой, волосатой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Не лошадка я, но все же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На лошадку я похож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rcRect l="14288" t="0" r="7795" b="0"/>
          <a:stretch/>
        </p:blipFill>
        <p:spPr>
          <a:xfrm>
            <a:off x="9829800" y="1676520"/>
            <a:ext cx="4800600" cy="46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5 2.22222E-006 L -0.775 0.06666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083 -0.08125 L -0.82083 -0.01458 E">
                                      <p:cBhvr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2824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ди две окруж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рисуй ещё одну деталь, из котор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ом получится голова зеб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640080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44560" y="380520"/>
            <a:ext cx="714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рисуй туловище, шею и ноги зеб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рисуй у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640080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4093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рисуй хвост. На ногах зебры выдели копыта, на голове — глаза, на холке у животного — гри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23880" y="1905120"/>
            <a:ext cx="60962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95160" y="22824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рисуй чёрные полоски. Прорисуй уш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за, мордоч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95280" y="1371600"/>
            <a:ext cx="670572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81880" y="304560"/>
            <a:ext cx="840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нужно добавить, чтобы поселить зебру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фрике? Придумай картинку и раскрась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0" t="0" r="1025" b="0"/>
          <a:stretch/>
        </p:blipFill>
        <p:spPr>
          <a:xfrm>
            <a:off x="762120" y="1523880"/>
            <a:ext cx="7391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rcRect l="14288" t="0" r="7795" b="0"/>
          <a:stretch/>
        </p:blipFill>
        <p:spPr>
          <a:xfrm>
            <a:off x="5715000" y="3581280"/>
            <a:ext cx="3048120" cy="2934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2819160" cy="2166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276720" y="1066680"/>
            <a:ext cx="2743200" cy="2095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248520" y="228600"/>
            <a:ext cx="2666880" cy="2048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rcRect l="0" t="0" r="1025" b="0"/>
          <a:stretch/>
        </p:blipFill>
        <p:spPr>
          <a:xfrm>
            <a:off x="762120" y="3429000"/>
            <a:ext cx="43434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ya</cp:lastModifiedBy>
  <dcterms:modified xsi:type="dcterms:W3CDTF">2008-03-03T17:21:1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