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85D-7AB4-4C41-BB5B-C95849E3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99F-4063-46A3-BD9F-1BB7711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246-391B-4326-B42B-B89783A8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08E-C39E-41D8-AE1A-A908A296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1A0-469E-4C5D-8A65-C425B55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085-B843-4C5A-B31E-8F8E5CE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F80-D7DB-4D15-8BB4-0387DB0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759-EEA0-45B7-96AA-87ED0936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263-3E0F-40E0-BBC0-01CCBF2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D0F-67DD-4916-B145-AEDDE37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05F-89B5-4E26-A358-0DF344D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905-FDCE-43B5-9CFC-2A4877C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ED63-B456-4DFF-8329-6C44D9DD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8600"/>
            <a:ext cx="91440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ал - опорный край держав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ё добытчик и кузнец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овесники нашей  прежней слав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славы нынешней творец...         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Твардовски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6000"/>
          </a:blip>
          <a:srcRect l="2219" t="2754" r="0" b="4957"/>
          <a:stretch/>
        </p:blipFill>
        <p:spPr>
          <a:xfrm>
            <a:off x="2057400" y="1219320"/>
            <a:ext cx="7086600" cy="5395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2031840" cy="556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52280" y="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ение природы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зяйственной деятельностью человека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38080" y="2819520"/>
            <a:ext cx="6934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тако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л?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6"/>
          <a:srcRect l="4196" t="4161" r="52315" b="59151"/>
          <a:stretch/>
        </p:blipFill>
        <p:spPr>
          <a:xfrm>
            <a:off x="0" y="0"/>
            <a:ext cx="3733920" cy="2824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7"/>
          <a:srcRect l="4196" t="50027" r="52315" b="12786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8"/>
          <a:srcRect l="54564" t="50027" r="4240" b="13100"/>
          <a:stretch/>
        </p:blipFill>
        <p:spPr>
          <a:xfrm>
            <a:off x="5029200" y="41148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9"/>
          <a:srcRect l="52271" t="5450" r="4240" b="59151"/>
          <a:stretch/>
        </p:blipFill>
        <p:spPr>
          <a:xfrm>
            <a:off x="5105520" y="0"/>
            <a:ext cx="4038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6666"/>
          <a:stretch/>
        </p:blipFill>
        <p:spPr>
          <a:xfrm>
            <a:off x="3124080" y="0"/>
            <a:ext cx="335304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-1562040" y="247644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менный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5562360" y="220968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яс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0"/>
            <a:ext cx="8153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 РАЙОН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.Республика Удмуртия –г.Иже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2. Республика Башкирия – 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3.Свердловская область – г.Екатерин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4.Челябинская область – г. Челяби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5.Оренбургская область – г. Орен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6.Курганская область – г. Ку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7. Пермский край – г.Пер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225" r="1060" b="0"/>
          <a:stretch/>
        </p:blipFill>
        <p:spPr>
          <a:xfrm>
            <a:off x="914400" y="163440"/>
            <a:ext cx="7924680" cy="669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5400000">
            <a:off x="7048440" y="87624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ЭГП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-1486080" y="201924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066680" y="106668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600200"/>
            <a:ext cx="2438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80880"/>
            <a:ext cx="80391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ая работа № 14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Сравнительная характеристика ЭГП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льского и Поволжского районов"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971800" y="304920"/>
            <a:ext cx="320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ложение по отношению к государственным грани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 территории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с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ход к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ранспортное по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838080"/>
            <a:ext cx="8686800" cy="65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РЕЛЬЕФ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НЕВЫСОКИЕ ГОРЫ, ЛЕГКО ПРОХОДИМЫЕ ГОРЫ И РАВНИНЫ – ПРЕДУРАЛЬЕ(Восточно-Европейская) и ЗАУРАЛЬЯ (Западно-Сибир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КЛИМАТ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меняется с севра на юг(на севере +15С,  на юге - +20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Природные зоны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высотная пояс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Большая часть – леса, юг –Оренбургская  и Курганская области заняты ст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0"/>
            <a:ext cx="8229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Е УСЛОВ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0"/>
            <a:ext cx="8153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СЕЛЕНИЕ УРА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828800"/>
            <a:ext cx="8686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Заселение  терри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Национальный сост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Религиозный сост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Численность нас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Естественный прирост и миг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14T14:17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