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1F0-1EA4-4359-905D-0A6845B5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814-F065-4F68-B7A9-9D19274E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2D9-D26A-418F-B82B-BE73E49D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C83-B4E7-44C7-BABE-14EE3320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203-A716-40C1-9E2E-11E62E5E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662-5870-4DD6-8BBC-86245FF1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F61-4D08-4F69-8C22-35D0F8B8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FE7-61BF-4669-AB6A-235144C8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106-BA05-4273-A6CD-47A1C88A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965-BD07-4DFD-9930-765A471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76A-1026-46C0-9941-CA1661C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BE4-96C3-4DCF-9785-F5A7BA4E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5E07-CB0A-4F6D-A8E5-2C6D325C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228600"/>
            <a:ext cx="914400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рал - опорный край державы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Её добытчик и кузнец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овесники нашей  прежней славы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 славы нынешней творец...         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Твардовски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6000"/>
          </a:blip>
          <a:srcRect l="2219" t="2754" r="0" b="4957"/>
          <a:stretch/>
        </p:blipFill>
        <p:spPr>
          <a:xfrm>
            <a:off x="2057400" y="1219320"/>
            <a:ext cx="7086600" cy="5395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203184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52280" y="0"/>
            <a:ext cx="86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ение природы 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зяйственной деятельностью человека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38080" y="2819520"/>
            <a:ext cx="6934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тако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ал?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6"/>
          <a:srcRect l="4196" t="4161" r="52315" b="59151"/>
          <a:stretch/>
        </p:blipFill>
        <p:spPr>
          <a:xfrm>
            <a:off x="0" y="0"/>
            <a:ext cx="3733920" cy="2824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7"/>
          <a:srcRect l="4196" t="50027" r="52315" b="12786"/>
          <a:stretch/>
        </p:blipFill>
        <p:spPr>
          <a:xfrm>
            <a:off x="0" y="4114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8"/>
          <a:srcRect l="54564" t="50027" r="4240" b="13100"/>
          <a:stretch/>
        </p:blipFill>
        <p:spPr>
          <a:xfrm>
            <a:off x="5029200" y="41148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9"/>
          <a:srcRect l="52271" t="5450" r="4240" b="59151"/>
          <a:stretch/>
        </p:blipFill>
        <p:spPr>
          <a:xfrm>
            <a:off x="5105520" y="0"/>
            <a:ext cx="4038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6666"/>
          <a:stretch/>
        </p:blipFill>
        <p:spPr>
          <a:xfrm>
            <a:off x="3124080" y="0"/>
            <a:ext cx="3353040" cy="670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5400000">
            <a:off x="-1562040" y="2476440"/>
            <a:ext cx="6019920" cy="182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менный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5562360" y="220968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яс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880" y="0"/>
            <a:ext cx="8153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СТАВ РАЙОН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14300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1.Республика Удмуртия –г.Иже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2. Республика Башкирия – г.У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3.Свердловская область – г.Екатерин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4.Челябинская область – г. Челябин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5.Оренбургская область – г. Орен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6.Курганская область – г. Ку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7. Пермский край – г.Пер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225" r="1060" b="0"/>
          <a:stretch/>
        </p:blipFill>
        <p:spPr>
          <a:xfrm>
            <a:off x="914400" y="163440"/>
            <a:ext cx="7924680" cy="669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5400000">
            <a:off x="7048440" y="876240"/>
            <a:ext cx="243828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ЭГП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-1486080" y="2019240"/>
            <a:ext cx="42670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066680" y="106668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600200"/>
            <a:ext cx="2438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380880"/>
            <a:ext cx="803916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ктическая работа № 14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Сравнительная характеристика ЭГП 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льского и Поволжского районов"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971800" y="304920"/>
            <a:ext cx="320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80773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оложение по отношению к государственным грани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а территории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с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ход к мо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ранспортное 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838080"/>
            <a:ext cx="8686800" cy="65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РЕЛЬЕФ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НЕВЫСОКИЕ ГОРЫ, ЛЕГКО ПРОХОДИМЫЕ ГОРЫ И РАВНИНЫ – ПРЕДУРАЛЬЕ(Восточно-Европейская) и ЗАУРАЛЬЯ (Западно-Сибирск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КЛИМАТ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меняется с севра на юг(на севере +15С,  на юге - +20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Природные зоны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высотная пояс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Большая часть – леса, юг –Оренбургская  и Курганская области заняты степ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0"/>
            <a:ext cx="82296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РОДНЫЕ УСЛОВ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0"/>
            <a:ext cx="8153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СЕЛЕНИЕ УРАЛ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828800"/>
            <a:ext cx="8686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Заселение  терри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Национальный сост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Религиозный сост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Численность нас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Естественный прирост и мигр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9-14T14:17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