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67C-92E5-446E-81E0-8FCAD8D2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506-185B-4E5B-B905-197DC656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9D43-4370-495C-A523-41FED60C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0F93-788F-4AE8-B2DD-79D8B79F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6C5-67B4-434F-8F11-CCF42C2D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8586-4E6E-4109-8CD0-B5511D74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C8AE-9527-476F-8175-CC710C48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2AE-F72B-435F-A788-FC4AEC51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A623-4061-44A5-B318-9507F8B3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02DF-E5BE-406C-8A96-031C2E35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385-60D0-46CD-9412-68AF2A8C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E368-9139-4CD1-968F-9DB1BB93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DCAF-09A0-4D0A-BEE3-B24BB27D6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2521080" cy="23338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3708360" y="1052640"/>
            <a:ext cx="4535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тфолио педагога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1989000"/>
            <a:ext cx="5184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ежда Викторовна Клим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ст  информационных технологий и компьютерной тех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рабо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 «Образование Карасукского райо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105264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считаю, что на уроке  должно сочетаться несколько творческих видов деятельности, которые позволят ребенку наиболее эффективно и полно усвоить необходимый материал и использовать свои достижения для дальнейшего обучени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316836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112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считаю своей главнейшей задачей –  постоянное и заботливое наблюдение за интересами  учащихся, так как они показывают уровень развития, которого ребенок достиг. Интерес – это  всегда признак стоящей за ним способ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03640" y="2781360"/>
            <a:ext cx="259236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907920"/>
            <a:ext cx="856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считаю, что образ – это замечательный инструмент обу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ребенок берет  из любого, преподаваемого предме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лько образы, которые он сам формирует по отношению к нем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00360" y="2852640"/>
            <a:ext cx="3311640" cy="19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19700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считаю, что в школе следует начинать и продолжать те виды деятельности, с которыми ребенок уже был знаком в домашних услов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71640" y="2421000"/>
            <a:ext cx="3525840" cy="24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907920"/>
            <a:ext cx="89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овательный процесс имеет две стороны: психическую и социальную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считаю, что ни одна из сторон не может быть подчинена другой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бственные инстинкты и способности ребенка являются исходным материалом и отправной точкой всего образования, но без пристального внимания к психическим процессам и деятельности личности, образовательный процесс будет стихийным и произво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457440" cy="23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05264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считаю, что учитель и ученик должны быть сотоварищами, партнерами, ни один из них не должен стоять над другим. Должна ли быть дистанция между ними? Да. Но не стена, а более высокая ступень, с которой, протягивая руку, ты помогаешь подняться тем, кто идет за т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869000"/>
            <a:ext cx="806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считаю, что эмоции – это отражение действий. Пытаться стимулировать или поднимать эмоции отдельно от соответствующих им видов деятельности – это провоцировать нездоровое и болезненное состояние 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2189160" cy="2048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940360" y="2565360"/>
            <a:ext cx="204804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дут уроки завтра, послезавтра, будут всю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ждому человеку, причисленному к образовательной практике, сравнительно легко согласиться с моими «Я считаю», признать их разумность и справед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4392720" cy="23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341360"/>
            <a:ext cx="820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т уже много лет я отчетливо помню слова неизвестного автора, которые помогают мне в педагогической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м проповедь выслушивать, мне лучше бы взглянуть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лучше проводить меня, чем указать мне путь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за умнее слуха и поймут все без труда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ва порой запутаны, пример же -  никогда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т лучший проводник, кто веру в жизнь провел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бро увидеть в действии – вот лучшая из школ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если все мне показать, я выучу урок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нятней мне движенье рук, чем быстрых слов поток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лжно быть, можно верить этим умным словесам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я уж лучше погляжу, что делаешь ты сам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друг я не правильно пойму прекрасный твой совет –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то пойму как ты живешь: по правде или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2997360"/>
            <a:ext cx="81374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ование: высшее (в 1987 году закончила Новосибирский Государственный Педагогический Институт - математика, в 1991 году закончила Университет Марксизма-Ленинизма – комсомольское строительство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ж работы -2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лет – учитель (из них 8 лет зам. директ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года - метод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83664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емного о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516720" y="981000"/>
            <a:ext cx="113976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90792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урсы повышения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2555640" cy="3600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26640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90792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урсы повышения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2759040" cy="396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7280" y="2276640"/>
            <a:ext cx="4465440" cy="30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90792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Курсы повышения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598920" cy="2554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88000" y="2708280"/>
            <a:ext cx="360036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9079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Мои дост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2838600" cy="3600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27385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90792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вое педагогическое кредо попробую изложить при помощи принципов, на которые я опираюсь в своей повседневной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700360" y="2349360"/>
            <a:ext cx="381312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105264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считаю, что учитель перестает быть учителем, если не стремится к самообразованию и повышению квалифик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4267440" cy="2809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04:34:58Z</dcterms:created>
  <dc:creator>Comp5</dc:creator>
  <dc:description/>
  <dc:language>en-US</dc:language>
  <cp:lastModifiedBy>Comp5</cp:lastModifiedBy>
  <dcterms:modified xsi:type="dcterms:W3CDTF">2009-05-05T08:08:08Z</dcterms:modified>
  <cp:revision>5</cp:revision>
  <dc:subject/>
  <dc:title>Слайд 1</dc:title>
</cp:coreProperties>
</file>