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E9B-7F8D-4617-B4C1-CD19C256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F6B-1CAC-44D8-9CFB-16813F1C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FA3-C1BF-46B3-A27D-F537A099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EE4-93A0-40D1-B459-5A21D31F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E88-A692-44DF-8159-B92CFD09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55F-6802-4C34-BC8D-60BDBB5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4EF-AAA7-418C-843E-CEE1B99F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304-0778-4F96-9031-625D7C88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3CA-6161-4145-8617-8A8240ED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98D-121D-4953-BBCD-B4D1695B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A04-A2BF-4FE2-8F4B-7625819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422-8FF3-4B3E-B7EE-4077E36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C05-5C18-4F23-BE17-32EFBE2CB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2521080" cy="23338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3708360" y="1052640"/>
            <a:ext cx="45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фолио педагога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1989000"/>
            <a:ext cx="518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ежда Викторовна Кл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ст  информационных технологий и компьютерной тех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 «Образование Карасук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05264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на уроке  должно сочетаться несколько творческих видов деятельности, которые позволят ребенку наиболее эффективно и полно усвоить необходимый материал и использовать свои достижения для дальнейшего обучен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168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 своей главнейшей задачей –  постоянное и заботливое наблюдение за интересами  учащихся, так как они показывают уровень развития, которого ребенок достиг. Интерес – это  всегда признак стоящей за ним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59236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90792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образ – это замечательный инструмент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ребенок берет  из любого, преподаваемого предм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образы, которые он сам формирует по отношению к нем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311640" cy="19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19700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в школе следует начинать и продолжать те виды деятельности, с которыми ребенок уже был знаком в домашни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52584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0792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тельный процесс имеет две стороны: психическую и социальную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ни одна из сторон не может быть подчинена другой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ственные инстинкты и способности ребенка являются исходным материалом и отправной точкой всего образования, но без пристального внимания к психическим процессам и деятельности личности, образовательный процесс будет стихийным и произво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457440" cy="23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052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учитель и ученик должны быть сотоварищами, партнерами, ни один из них не должен стоять над другим. Должна ли быть дистанция между ними? Да. Но не стена, а более высокая ступень, с которой, протягивая руку, ты помогаешь подняться тем, кто идет за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869000"/>
            <a:ext cx="806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эмоции – это отражение действий. Пытаться стимулировать или поднимать эмоции отдельно от соответствующих им видов деятельности – это провоцировать нездоровое и болезненное состояние 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2189160" cy="204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940360" y="2565360"/>
            <a:ext cx="20480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ут уроки завтра, послезавтра, будут всю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ждому человеку, причисленному к образовательной практике, сравнительно легко согласиться с моими «Я считаю», признать их разумность и справед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392720" cy="23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34136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уже много лет я отчетливо помню слова неизвестного автора, которые помогают мне в педагогическ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проповедь выслушивать, мне лучше бы взглянуть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учше проводить меня, чем указать мне путь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за умнее слуха и поймут все без труда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а порой запутаны, пример же -  никогда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т лучший проводник, кто веру в жизнь провел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 увидеть в действии – вот лучшая из школ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если все мне показать, я выучу урок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нятней мне движенье рук, чем быстрых слов поток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лжно быть, можно верить этим умным словесам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я уж лучше погляжу, что делаешь ты сам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друг я не правильно пойму прекрасный твой совет –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то пойму как ты живешь: по правде или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997360"/>
            <a:ext cx="8137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е: высшее (в 1987 году закончила Новосибирский Государственный Педагогический Институт - математика, в 1991 году закончила Университет Марксизма-Ленинизма – комсомольское строительство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ж работы -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лет – учитель (из них 8 лет зам. дирек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года - метод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много о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16720" y="981000"/>
            <a:ext cx="11397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9079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2555640" cy="36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26640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079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759040" cy="396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2276640"/>
            <a:ext cx="446544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90792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598920" cy="255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600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907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и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283860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7385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9079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вое педагогическое кредо попробую изложить при помощи принципов, на которые я опираюсь в своей повседнев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381312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105264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учитель перестает быть учителем, если не стремится к самообразованию и повышению квалифик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67440" cy="280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4:34:58Z</dcterms:created>
  <dc:creator>Comp5</dc:creator>
  <dc:description/>
  <dc:language>en-US</dc:language>
  <cp:lastModifiedBy>Comp5</cp:lastModifiedBy>
  <dcterms:modified xsi:type="dcterms:W3CDTF">2009-05-05T08:08:08Z</dcterms:modified>
  <cp:revision>5</cp:revision>
  <dc:subject/>
  <dc:title>Слайд 1</dc:title>
</cp:coreProperties>
</file>