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483-864F-417A-B410-F24CB7B6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BCE-8FDE-4DD1-948E-9009602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61B-512A-42E5-9BA8-34D5EAC5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486-A22E-4A4C-893A-4F59B8B0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BA0-02F5-4634-AD2D-DA7913E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6A4-B335-45A9-B4FF-48BC08A3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C1D-402C-491B-85E2-72A7F3B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606-611D-43A1-A643-31C0FE3E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528-265E-40A8-8652-98F9E606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1B1-35DE-4B10-97BF-0DD545D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950-87CF-4537-9612-8A4CBC6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D07-AC8E-4A97-B4D0-34A1C87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8EC1-7DEE-4A42-A7CE-101FDB36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295280"/>
            <a:ext cx="7924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ВОЛЖЬ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304920"/>
            <a:ext cx="76960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РАСЛИ СПЕЦИАЛИЗАЦ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18148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ШИНОСТРО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57800" y="1981080"/>
            <a:ext cx="371484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ИМИЧЕ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20944800">
            <a:off x="257040" y="2130480"/>
            <a:ext cx="3819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ИДРОЭНЕРГЕ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81080" y="99072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1430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9907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66680" y="38088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АШИНОСТРО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447920"/>
            <a:ext cx="80010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ОБИЛЕСТРО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БОРОСТРО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ИАСТРО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КТРОН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ОБИЛЕСТРО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371600"/>
            <a:ext cx="77724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бережные Челны - Кам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льятти - В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льяновск - УАЗ (вездеходы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гельс - троллейбу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533520" y="228600"/>
            <a:ext cx="7696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990720"/>
            <a:ext cx="8686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5 Др.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 А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прос 6-9 стр.250 уч. 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№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 Хозяйственное освоение район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таблицу по стр.246-247 уч. 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 по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3962520"/>
          <a:ext cx="8458200" cy="1457280"/>
        </p:xfrm>
        <a:graphic>
          <a:graphicData uri="http://schemas.openxmlformats.org/drawingml/2006/table">
            <a:tbl>
              <a:tblPr/>
              <a:tblGrid>
                <a:gridCol w="2173320"/>
                <a:gridCol w="62848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осв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этап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хозяйственного освоения территории. Отрас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19320" y="457200"/>
            <a:ext cx="67816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СОСТАВ РАЙОНА: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914400"/>
            <a:ext cx="8229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1.Республика Татарстан –г.Каз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спублика Чувашия – г.Чебокс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Республика Марий Эл – г. Йошкар-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Ульяновская область – г.Ульян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марская область – г.Сам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Саратовская область – г. Сар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олгоградская область – г.Волг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Астраханская область – г.Астрах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7467480" cy="655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-2247840" y="2705040"/>
            <a:ext cx="62485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олга - природная ос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924680" y="15228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153280" y="2438280"/>
            <a:ext cx="7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838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22860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ЭГП района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066680"/>
            <a:ext cx="853452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1.Главная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сь Поволжья является 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2.Волга – связующее звено республик и областей района и районов Европейской части. Субъекты «нанизаны» на Волгу как бусинки на 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3. Район вытянут с севера на юг, а это значит , что климатические условия севера и юг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4.Район находится между индустриальными ядрами России – Центральной Россией и У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5.Поволжье – приграничный рай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6. Сосед на юге Северный Кав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7. Транспортное положение благоприят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удоходная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Транзитные ж/д, автодороги, нефте- и газопроводы с запада на восток. Выход к мо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0"/>
            <a:ext cx="8915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19320"/>
            <a:ext cx="8763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1.РЕЛЬЕФ –равн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2.КЛИМАТ – умеренно-континентальный, на юге континентальный: теплое, на юге жаркое лето, увлажнение на севере достаточное, на юге – недостаточное, возможны засу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.ПРИРОДНЫЕ ЗОНЫ – широтная зональность, ярко выражена: с севера на юг район вытянут более 100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21020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смешанные леса – республика Татарс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лесостепи –Ульяновская  и Самарская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степи – Саратовская и Волгоградская 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Matura MT Script Capitals"/>
              </a:rPr>
              <a:t>полупустыни – Астрахан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43434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59436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0"/>
            <a:ext cx="8229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Е РЕСУР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990720"/>
            <a:ext cx="8839440" cy="59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.МИНЕРАЛЬНЫЕ РЕСУР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 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.д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обыча нефти и газа (Татарстан, Самарская и  Астраханская обла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Б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оваренная соль на озере Баскунчак и Эль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         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стро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.АГРОКЛИМАТИЧЕСКИЕ и ЗЕМЕЛЬ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ВОД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4.РЫБНЫЕ ресурсы(осетровые 90%) Каспийского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0"/>
            <a:ext cx="769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СЕЛ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96012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ВОПРОСЫ К КЛАС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.Каков естественный прирост населения Поволж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. Сравните среднюю плотность населения России и Поволж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. Преобладающий народ в рай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 Когда в Поволжье поселились нем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5. Какие народы Поволжья подверглись насильственной мигр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6. Каков уровень урбанизации рай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7.Найдите соответств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Национальность                    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Русские                             а. 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Татары                              б. правосла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алмыки                            в. будд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380880"/>
            <a:ext cx="870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ГОРОДА - МИЛЛИОННИКИ ПОВОЛЖЬЯ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3880" y="2743200"/>
            <a:ext cx="632484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ЗА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А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152280"/>
            <a:ext cx="8381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ГОРОДА НАЗЫВАЛИСЬ РАНЬШ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632448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АРИЦЫ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ЛИНГР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МБИРС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 rot="5791800">
            <a:off x="6209640" y="2171520"/>
            <a:ext cx="32767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14T15:31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