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F1DD-A302-4630-A208-30050C85E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49E5-CE71-44E0-B0E4-C2F91479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B340-BF13-4A61-A0DE-6E7E1183D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D3F2-371B-4CBB-AB5F-50C00713A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C4C6-7A19-453F-8F73-351C51C3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81E3-4FDC-4A23-8697-F02CE80A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98F3-E5D9-485C-ADCB-7D6F79EB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33E2-7CEA-4A30-9A20-75C4F47F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AE86-EB9D-4702-9B6B-DB642E26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C08D-8F9F-40BB-A51C-99198FFB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3887-4C72-42CA-A800-31BE7991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FC37-5FA5-45AB-AB8B-5554F87C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084E-C193-40EC-8956-AC364ABCB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1295280"/>
            <a:ext cx="792468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ВОЛЖЬ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533520" y="304920"/>
            <a:ext cx="76960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66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ТРАСЛИ СПЕЦИАЛИЗАЦИ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66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66680" y="5181480"/>
            <a:ext cx="6858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МАШИНОСТРОЕНИ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257800" y="1981080"/>
            <a:ext cx="3714840" cy="191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ХИМИЧЕСКА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 rot="20944800">
            <a:off x="257040" y="2130480"/>
            <a:ext cx="38196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ИДРОЭНЕРГЕТИ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981080" y="990720"/>
            <a:ext cx="22860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114300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990720"/>
            <a:ext cx="1447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066680" y="38088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МАШИНОСТРОЕНИ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447920"/>
            <a:ext cx="8001000" cy="51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ВТОМОБИЛЕСТРОЕНИЕ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ИБОРОСТРОЕ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ВИАСТРОЕ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ЛЕКТРОНИ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04920" y="228600"/>
            <a:ext cx="8381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ВТОМОБИЛЕСТРОЕНИЕ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3520" y="1371600"/>
            <a:ext cx="777240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бережные Челны - Кам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ольятти - В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льяновск - УАЗ (вездеходы)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нгельс - троллейбус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533520" y="228600"/>
            <a:ext cx="76960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ее задание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990720"/>
            <a:ext cx="86868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5 Др.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6 Ал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опрос 6-9 стр.250 уч. 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ктическая работа №1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 Хозяйственное освоение района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ть таблицу по стр.246-247 уч. 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вод по раб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04920" y="3962520"/>
          <a:ext cx="8458200" cy="1457280"/>
        </p:xfrm>
        <a:graphic>
          <a:graphicData uri="http://schemas.openxmlformats.org/drawingml/2006/table">
            <a:tbl>
              <a:tblPr/>
              <a:tblGrid>
                <a:gridCol w="2173320"/>
                <a:gridCol w="628488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ы осво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этапов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и хозяйственного освоения территории. Отрас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219320" y="457200"/>
            <a:ext cx="678168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СОСТАВ РАЙОНА: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914400"/>
            <a:ext cx="82296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1.Республика Татарстан –г.Каза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66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Республика Чувашия – г.Чебокс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66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Республика Марий Эл – г. Йошкар-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00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Ульяновская область – г.Ульянов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00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Самарская область – г.Сам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00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Саратовская область – г. Сар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00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Волгоградская область – г.Волгогр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00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Астраханская область – г.Астраха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7467480" cy="6553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 rot="5400000">
            <a:off x="-2247840" y="2705040"/>
            <a:ext cx="624852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Волга - природная ось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924680" y="152280"/>
            <a:ext cx="914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Impact"/>
              </a:rPr>
              <a:t>с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Impact"/>
              <a:ea typeface="Impac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153280" y="2438280"/>
            <a:ext cx="762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Impact"/>
              </a:rPr>
              <a:t>ю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Impact"/>
              <a:ea typeface="Impact"/>
            </a:endParaRPr>
          </a:p>
        </p:txBody>
      </p:sp>
      <p:sp>
        <p:nvSpPr>
          <p:cNvPr id="48" name=""/>
          <p:cNvSpPr/>
          <p:nvPr/>
        </p:nvSpPr>
        <p:spPr>
          <a:xfrm>
            <a:off x="8458200" y="8380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33520" y="22860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Impact"/>
              </a:rPr>
              <a:t>ЭГП района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066680"/>
            <a:ext cx="8534520" cy="56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1.Главная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ось Поволжья является Вол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2.Волга – связующее звено республик и областей района и районов Европейской части. Субъекты «нанизаны» на Волгу как бусинки на н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3. Район вытянут с севера на юг, а это значит , что климатические условия севера и юга различ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4.Район находится между индустриальными ядрами России – Центральной Россией и Ура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5.Поволжье – приграничный райо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6. Сосед на юге Северный Кавк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7. Транспортное положение благоприятно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Судоходная р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Транзитные ж/д, автодороги, нефте- и газопроводы с запада на восток. Выход к мор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28600" y="0"/>
            <a:ext cx="8915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РОДНЫЕ УСЛОВИЯ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219320"/>
            <a:ext cx="8763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1.РЕЛЬЕФ –равни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2.КЛИМАТ – умеренно-континентальный, на юге континентальный: теплое, на юге жаркое лето, увлажнение на севере достаточное, на юге – недостаточное, возможны засух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3.ПРИРОДНЫЕ ЗОНЫ – широтная зональность, ярко выражена: с севера на юг район вытянут более 1000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4210200"/>
            <a:ext cx="8763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9900"/>
                </a:solidFill>
                <a:latin typeface="Matura MT Script Capitals"/>
              </a:rPr>
              <a:t>смешанные леса – республика Татарст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Matura MT Script Capitals"/>
              </a:rPr>
              <a:t>           </a:t>
            </a:r>
            <a:r>
              <a:rPr b="0" lang="en-US" sz="2400" spc="-1" strike="noStrike">
                <a:solidFill>
                  <a:srgbClr val="009900"/>
                </a:solidFill>
                <a:latin typeface="Matura MT Script Capitals"/>
              </a:rPr>
              <a:t>лесостепи –Ульяновская  и Самарская об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Matura MT Script Capitals"/>
              </a:rPr>
              <a:t>           </a:t>
            </a:r>
            <a:r>
              <a:rPr b="0" lang="en-US" sz="2400" spc="-1" strike="noStrike">
                <a:solidFill>
                  <a:srgbClr val="009900"/>
                </a:solidFill>
                <a:latin typeface="Matura MT Script Capitals"/>
              </a:rPr>
              <a:t>степи – Саратовская и Волгоградская  об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Matura MT Script Capitals"/>
              </a:rPr>
              <a:t>           </a:t>
            </a:r>
            <a:r>
              <a:rPr b="0" lang="en-US" sz="2400" spc="-1" strike="noStrike">
                <a:solidFill>
                  <a:srgbClr val="009900"/>
                </a:solidFill>
                <a:latin typeface="Matura MT Script Capitals"/>
              </a:rPr>
              <a:t>полупустыни – Астраханская обла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44197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880" y="4343400"/>
            <a:ext cx="381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8600" y="5943600"/>
            <a:ext cx="457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ю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0"/>
            <a:ext cx="82296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РОДНЫЕ РЕСУРС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990720"/>
            <a:ext cx="8839440" cy="59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1.МИНЕРАЛЬНЫЕ РЕСУРСЫ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Monotype Corsiva"/>
              </a:rPr>
              <a:t>              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А</a:t>
            </a:r>
            <a:r>
              <a:rPr b="0" lang="ru-RU" sz="3200" spc="-1" strike="noStrike">
                <a:solidFill>
                  <a:srgbClr val="333399"/>
                </a:solidFill>
                <a:latin typeface="Monotype Corsiva"/>
              </a:rPr>
              <a:t>.д</a:t>
            </a:r>
            <a:r>
              <a:rPr b="0" lang="ru-RU" sz="2800" spc="-1" strike="noStrike">
                <a:solidFill>
                  <a:srgbClr val="333399"/>
                </a:solidFill>
                <a:latin typeface="Monotype Corsiva"/>
              </a:rPr>
              <a:t>обыча нефти и газа (Татарстан, Самарская и  Астраханская облас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      </a:t>
            </a: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Б</a:t>
            </a:r>
            <a:r>
              <a:rPr b="0" lang="ru-RU" sz="3600" spc="-1" strike="noStrike">
                <a:solidFill>
                  <a:srgbClr val="333399"/>
                </a:solidFill>
                <a:latin typeface="Monotype Corsiva"/>
              </a:rPr>
              <a:t>.</a:t>
            </a:r>
            <a:r>
              <a:rPr b="0" lang="ru-RU" sz="2800" spc="-1" strike="noStrike">
                <a:solidFill>
                  <a:srgbClr val="333399"/>
                </a:solidFill>
                <a:latin typeface="Monotype Corsiva"/>
              </a:rPr>
              <a:t>поваренная соль на озере Баскунчак и Эльт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Monotype Corsiva"/>
              </a:rPr>
              <a:t>                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В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.</a:t>
            </a:r>
            <a:r>
              <a:rPr b="0" lang="ru-RU" sz="2800" spc="-1" strike="noStrike">
                <a:solidFill>
                  <a:srgbClr val="333399"/>
                </a:solidFill>
                <a:latin typeface="Monotype Corsiva"/>
              </a:rPr>
              <a:t>строительные 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2.АГРОКЛИМАТИЧЕСКИЕ и ЗЕМЕЛЬНЫЕ рес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3.ВОДНЫЕ рес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4.РЫБНЫЕ ресурсы(осетровые 90%) Каспийского мо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09480" y="0"/>
            <a:ext cx="7696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НАСЕЛЕНИ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219320"/>
            <a:ext cx="9601200" cy="64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00"/>
                </a:solidFill>
                <a:uFillTx/>
                <a:latin typeface="Arial"/>
              </a:rPr>
              <a:t>ВОПРОСЫ К КЛАСС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1.Каков естественный прирост населения Поволжь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2. Сравните среднюю плотность населения России и Поволж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3. Преобладающий народ в район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4. Когда в Поволжье поселились немц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5. Какие народы Поволжья подверглись насильственной мигра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6. Каков уровень урбанизации райо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7.Найдите соответств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Национальность                     рели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Русские                             а. исл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Татары                              б. правосла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Калмыки                            в. будд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28600" y="380880"/>
            <a:ext cx="87058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ГОРОДА - МИЛЛИОННИКИ ПОВОЛЖЬЯ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523880" y="2743200"/>
            <a:ext cx="6324840" cy="27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ЗАН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АМАР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04920" y="152280"/>
            <a:ext cx="8381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КИЕ ГОРОДА НАЗЫВАЛИСЬ РАНЬШ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95280"/>
            <a:ext cx="632448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ЦАРИЦЫ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ТАЛИНГРА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ИМБИРС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5" name=""/>
          <p:cNvSpPr txBox="1"/>
          <p:nvPr/>
        </p:nvSpPr>
        <p:spPr>
          <a:xfrm rot="5791800">
            <a:off x="6209640" y="2171520"/>
            <a:ext cx="3276720" cy="1676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04-14T15:31:0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