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gif" ContentType="image/gif"/>
  <Override PartName="/ppt/media/image12.gif" ContentType="image/gif"/>
  <Override PartName="/ppt/media/image3.jpeg" ContentType="image/jpeg"/>
  <Override PartName="/ppt/media/image15.png" ContentType="image/png"/>
  <Override PartName="/ppt/media/image11.gif" ContentType="image/gif"/>
  <Override PartName="/ppt/media/image14.png" ContentType="image/png"/>
  <Override PartName="/ppt/media/image10.gif" ContentType="image/gif"/>
  <Override PartName="/ppt/media/image1.jpeg" ContentType="image/jpeg"/>
  <Override PartName="/ppt/media/image7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EFB-4A9E-427E-92E0-12A9CE94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5A2-E57D-44E7-A65B-4642CA0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B5D-63BA-44D8-8CE5-6EBDAE4B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589-D26C-4790-AFAF-487865C8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F74-11D1-4B64-94F9-F470AC6A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7EC-FAE0-4B16-A0B8-07F9F969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2EB-E950-49FE-BEEC-49703D08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FB3-BD02-48B4-9A1B-D31157CE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327-625A-4312-922F-BD39D4B5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C1F-7ABF-48E7-A955-3A9A946A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541-161B-4892-9FE5-C72D2DC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C83-1BF2-4782-96FC-63C675D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162E-36D1-43C4-9868-A689C1439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 удивительно хороша жизнь!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 мозаика состоит она и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ноцветных кусочков впечатлений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рою мимолётных, но тем не менее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убоко западающих в душу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мели бы видеть глаза и сердце…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/К. Дитма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640800"/>
            <a:ext cx="81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Друг познается в беде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628640"/>
            <a:ext cx="925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Жизнь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дана на добрые дела.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2421000"/>
            <a:ext cx="18396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2240" y="3500280"/>
            <a:ext cx="8175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Жадность последнего ума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лишает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www.clubdances.ru/dance/196.gif"/>
          <p:cNvPicPr/>
          <p:nvPr/>
        </p:nvPicPr>
        <p:blipFill>
          <a:blip r:embed="rId1"/>
          <a:stretch/>
        </p:blipFill>
        <p:spPr>
          <a:xfrm>
            <a:off x="1571760" y="142920"/>
            <a:ext cx="5572080" cy="5572080"/>
          </a:xfrm>
          <a:prstGeom prst="rect">
            <a:avLst/>
          </a:prstGeom>
          <a:ln w="0">
            <a:noFill/>
          </a:ln>
        </p:spPr>
      </p:pic>
      <p:pic>
        <p:nvPicPr>
          <p:cNvPr id="63" name="medvedi.mp3" descr=""/>
          <p:cNvPicPr/>
          <p:nvPr/>
        </p:nvPicPr>
        <p:blipFill>
          <a:blip r:embed="rId2"/>
          <a:stretch/>
        </p:blipFill>
        <p:spPr>
          <a:xfrm>
            <a:off x="842976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59.0)">
                                      <p:cBhvr>
                                        <p:cTn id="5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artgif.ru/MULT/3011.gif"/>
          <p:cNvPicPr/>
          <p:nvPr/>
        </p:nvPicPr>
        <p:blipFill>
          <a:blip r:embed="rId1"/>
          <a:stretch/>
        </p:blipFill>
        <p:spPr>
          <a:xfrm>
            <a:off x="3714840" y="2143080"/>
            <a:ext cx="261468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rtgif.ru/MULT/629029.gif"/>
          <p:cNvPicPr/>
          <p:nvPr/>
        </p:nvPicPr>
        <p:blipFill>
          <a:blip r:embed="rId1"/>
          <a:stretch/>
        </p:blipFill>
        <p:spPr>
          <a:xfrm>
            <a:off x="3857760" y="2286000"/>
            <a:ext cx="2286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artgif.ru/MULT/94003.gif"/>
          <p:cNvPicPr/>
          <p:nvPr/>
        </p:nvPicPr>
        <p:blipFill>
          <a:blip r:embed="rId1"/>
          <a:stretch/>
        </p:blipFill>
        <p:spPr>
          <a:xfrm>
            <a:off x="2714760" y="1428840"/>
            <a:ext cx="2790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artgif.ru/JIVOTNIE/animals141.gif"/>
          <p:cNvPicPr/>
          <p:nvPr/>
        </p:nvPicPr>
        <p:blipFill>
          <a:blip r:embed="rId1"/>
          <a:stretch/>
        </p:blipFill>
        <p:spPr>
          <a:xfrm>
            <a:off x="2857680" y="2286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s42.radikal.ru/i095/0808/d7/7a7900fc4a3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1000080"/>
            <a:ext cx="307188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http://s44.radikal.ru/i104/0808/50/5e648150dac7.gif"/>
          <p:cNvPicPr/>
          <p:nvPr/>
        </p:nvPicPr>
        <p:blipFill>
          <a:blip r:embed="rId1"/>
          <a:stretch/>
        </p:blipFill>
        <p:spPr>
          <a:xfrm>
            <a:off x="1071720" y="434880"/>
            <a:ext cx="685800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448080" cy="407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765000"/>
            <a:ext cx="47163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5640" y="-76320"/>
            <a:ext cx="81741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Я приду на помощь человеку, когда он позовет ме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 У тебя доброе сердце, поэтому и ходить ты должен в красивой одеж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 Брал он орехи только с одного кедра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122400"/>
            <a:ext cx="64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Сказка – рассказ о чем-то необычн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во что трудно поверить, о невероятном, фантастическом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cc00"/>
                </a:solidFill>
                <a:uFillTx/>
                <a:latin typeface="Arial"/>
              </a:rPr>
              <a:t>Венгерская народная ска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136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чащоб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плутов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с укоризной</a:t>
            </a: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0:15:29Z</dcterms:created>
  <dc:creator>Сергей</dc:creator>
  <dc:description/>
  <dc:language>en-US</dc:language>
  <cp:lastModifiedBy>Сергей</cp:lastModifiedBy>
  <dcterms:modified xsi:type="dcterms:W3CDTF">2010-10-19T15:56:34Z</dcterms:modified>
  <cp:revision>3</cp:revision>
  <dc:subject/>
  <dc:title>Как удивительно хороша жизнь! Как мозаика состоит она из Разноцветных кусочков впечатлений, Порою мимолётных, но тем не менее Глубоко западающих в душу. Умели бы видеть глаза и сердце…                                                                                                                   /К. Дитман</dc:title>
</cp:coreProperties>
</file>