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14.png" ContentType="image/png"/>
  <Override PartName="/ppt/media/image10.gif" ContentType="image/gif"/>
  <Override PartName="/ppt/media/image1.jpeg" ContentType="image/jpe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103-A26D-42CF-A118-7EDF515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385-E1C3-40B6-B1EB-8737429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C4D-D056-4A89-95CC-8C841052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9E4-3FE3-4EAD-B1AD-B39E3639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0C6-3738-400E-9D94-CDE2EBAC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973-C857-4396-8ECE-7E7D5B7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F66-9546-4E9A-9C4D-B2A64D89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141-6059-48C6-8EAB-3720E2CC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5A1-911B-479B-83A1-C7A2EA2B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A9B-D500-4604-8DBB-542292C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C64-329D-4EAE-9162-8D43562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E35-BF23-49DA-9E92-F95339F5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12FD-0212-4368-8C05-CD0314203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 удивительно хороша жизнь!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 мозаика состоит она 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ноцветных кусочков впечатлений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рою мимолётных, но тем не менее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убоко западающих в душу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мели бы видеть глаза и сердце…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/К. Дитма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640800"/>
            <a:ext cx="81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Друг познается в бед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628640"/>
            <a:ext cx="925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Жизнь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дана на добрые дела.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421000"/>
            <a:ext cx="18396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2240" y="3500280"/>
            <a:ext cx="8175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Жадность последнего ум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лишае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1571760" y="14292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63" name="medvedi.mp3" descr=""/>
          <p:cNvPicPr/>
          <p:nvPr/>
        </p:nvPicPr>
        <p:blipFill>
          <a:blip r:embed="rId2"/>
          <a:stretch/>
        </p:blipFill>
        <p:spPr>
          <a:xfrm>
            <a:off x="842976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59.0)">
                                      <p:cBhvr>
                                        <p:cTn id="5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artgif.ru/MULT/3011.gif"/>
          <p:cNvPicPr/>
          <p:nvPr/>
        </p:nvPicPr>
        <p:blipFill>
          <a:blip r:embed="rId1"/>
          <a:stretch/>
        </p:blipFill>
        <p:spPr>
          <a:xfrm>
            <a:off x="3714840" y="2143080"/>
            <a:ext cx="26146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rtgif.ru/MULT/629029.gif"/>
          <p:cNvPicPr/>
          <p:nvPr/>
        </p:nvPicPr>
        <p:blipFill>
          <a:blip r:embed="rId1"/>
          <a:stretch/>
        </p:blipFill>
        <p:spPr>
          <a:xfrm>
            <a:off x="3857760" y="2286000"/>
            <a:ext cx="2286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artgif.ru/MULT/94003.gif"/>
          <p:cNvPicPr/>
          <p:nvPr/>
        </p:nvPicPr>
        <p:blipFill>
          <a:blip r:embed="rId1"/>
          <a:stretch/>
        </p:blipFill>
        <p:spPr>
          <a:xfrm>
            <a:off x="2714760" y="1428840"/>
            <a:ext cx="2790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artgif.ru/JIVOTNIE/animals141.gif"/>
          <p:cNvPicPr/>
          <p:nvPr/>
        </p:nvPicPr>
        <p:blipFill>
          <a:blip r:embed="rId1"/>
          <a:stretch/>
        </p:blipFill>
        <p:spPr>
          <a:xfrm>
            <a:off x="2857680" y="2286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000080"/>
            <a:ext cx="307188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http://s44.radikal.ru/i104/0808/50/5e648150dac7.gif"/>
          <p:cNvPicPr/>
          <p:nvPr/>
        </p:nvPicPr>
        <p:blipFill>
          <a:blip r:embed="rId1"/>
          <a:stretch/>
        </p:blipFill>
        <p:spPr>
          <a:xfrm>
            <a:off x="1071720" y="434880"/>
            <a:ext cx="685800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448080" cy="407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4716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5640" y="-76320"/>
            <a:ext cx="81741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Я приду на помощь человеку, когда он позовет ме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У тебя доброе сердце, поэтому и ходить ты должен в красивой одеж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 Брал он орехи только с одного кедра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122400"/>
            <a:ext cx="64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казка – рассказ о чем-то необычн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во что трудно поверить, о невероятном, фантастическом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99cc00"/>
                </a:solidFill>
                <a:uFillTx/>
                <a:latin typeface="Arial"/>
              </a:rPr>
              <a:t>Венгерская народная 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136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чащоб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плутов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с укоризной</a:t>
            </a: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0:15:29Z</dcterms:created>
  <dc:creator>Сергей</dc:creator>
  <dc:description/>
  <dc:language>en-US</dc:language>
  <cp:lastModifiedBy>Сергей</cp:lastModifiedBy>
  <dcterms:modified xsi:type="dcterms:W3CDTF">2010-10-19T15:56:34Z</dcterms:modified>
  <cp:revision>3</cp:revision>
  <dc:subject/>
  <dc:title>Как удивительно хороша жизнь! Как мозаика состоит она из Разноцветных кусочков впечатлений, Порою мимолётных, но тем не менее Глубоко западающих в душу. Умели бы видеть глаза и сердце…                                                                                                                   /К. Дитман</dc:title>
</cp:coreProperties>
</file>