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6FA-C3A0-4EF0-A2D1-AEAA889F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FBE-16AE-4CA8-976E-2F2F6D98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7EA-565D-4EBA-828A-AE6D4E39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47A-A9EA-4D0C-B64D-C1ACF90D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567-607E-42D4-AFD5-96716AB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DD5-5BE5-44B7-86D1-A35872EC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563-288F-4357-97FC-26498D31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6B1-30F8-46C7-B0C0-120F928D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640-751D-4886-AF62-BE36D609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C59-49C7-45B1-8B6E-4338DFD1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A41-B147-407C-97A3-D9B66AE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CC2-341C-4D6B-9621-D9E05213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84EC-868A-4162-BC3A-BC2F024C3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614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емати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.И.Моро)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3</a:t>
            </a:r>
            <a:br>
              <a:rPr sz="24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Те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нетабличное умножение и деление. Приём деления для случаев вида: 78:2, 69:3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99736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знакомить с приемом деления двузначных чисел на однозначные, когда число десятков и число единиц делимого делятся на дели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накомить с приемом деления двузначных чисел на однозначные для случаев вида: 36:2, 78:2, 48: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вивать умения решать задачи на нахождение разности произведения и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воспитывать интерес к изучению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бота по учебнику. (стр.15 №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4000" y="1557360"/>
            <a:ext cx="7345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жнения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48074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атров –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ольк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блиотек - ?, в 6 ра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1700280"/>
            <a:ext cx="436320" cy="1728720"/>
          </a:xfrm>
          <a:custGeom>
            <a:avLst/>
            <a:gdLst>
              <a:gd name="textAreaLeft" fmla="*/ 0 w 436320"/>
              <a:gd name="textAreaRight" fmla="*/ 306000 w 43632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19573200">
            <a:off x="4714920" y="1555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9392400">
            <a:off x="4642920" y="3283200"/>
            <a:ext cx="7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508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6 = 18 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08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18 – 3 = 1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05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на 15 библиотек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тог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80661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нового узнали на урок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.задание: стр. 15 № 5, № 6, лабири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08000" y="-360"/>
            <a:ext cx="5435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 зада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39880" cy="241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19280" y="260280"/>
            <a:ext cx="2146320" cy="264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708360" y="692280"/>
            <a:ext cx="2044800" cy="269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1968480" cy="2463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 rot="20823000">
            <a:off x="3132000" y="2997000"/>
            <a:ext cx="2044800" cy="3073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 rot="21193800">
            <a:off x="5219640" y="3499920"/>
            <a:ext cx="20192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7048440" y="3733920"/>
            <a:ext cx="2095560" cy="312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 rot="20940600">
            <a:off x="6803640" y="836280"/>
            <a:ext cx="1930320" cy="2832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 rot="21317400">
            <a:off x="14032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5238720"/>
            <a:ext cx="338472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56000" y="476280"/>
            <a:ext cx="4351320" cy="244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4927680" cy="2771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 rot="21243000">
            <a:off x="168120" y="2707920"/>
            <a:ext cx="49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148360" y="4610160"/>
            <a:ext cx="3995640" cy="2247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 rot="21265800">
            <a:off x="4858920" y="2491920"/>
            <a:ext cx="4067280" cy="2287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50920" y="0"/>
            <a:ext cx="5759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4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025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22 января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  8  8  8  8  8  8  8  8  8  8  8  8  8  8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стный сч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Уменьшаемое, вычитаемое, раз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Множитель, множитель, произ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лагаемое, слагаемое, су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Делимое, делитель, произ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3500280"/>
            <a:ext cx="3635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40+36):4=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60+27):3=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1+13):6=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429000"/>
            <a:ext cx="4583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периметр прямоугольника со сторонами 4 см и 8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12 с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24 с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3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29080" y="4149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9080" y="4724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2520" y="537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 урав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=60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Х=60: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=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:Х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6360" y="220500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=80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27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Х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9080" y="35002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:40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8160" y="147780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:3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800" y="206064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=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9440" y="27082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Х=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335772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0:3=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1:3=         2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=          69: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2:8=         60:2=           78: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6:8=         80:20=         91:7=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4:9=         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4=          39: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: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:8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800" y="191628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:8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800" y="249228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:9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7128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268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:2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191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:2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42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76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: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134136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: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184464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: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234936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: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76500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508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508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5080" y="2492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7800" y="69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7800" y="1268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3800" y="19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2520" y="2421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7800" y="76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7800" y="1341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7800" y="18446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2349360"/>
            <a:ext cx="5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57336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Наша 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делить двузначные числ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Запомн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1600200"/>
            <a:ext cx="3393720" cy="1756800"/>
            <a:chOff x="457200" y="1600200"/>
            <a:chExt cx="3393720" cy="1756800"/>
          </a:xfrm>
        </p:grpSpPr>
        <p:cxnSp>
          <p:nvCxnSpPr>
            <p:cNvPr id="93" name="_s9228"/>
            <p:cNvCxnSpPr>
              <a:stCxn id="94" idx="0"/>
              <a:endCxn id="95" idx="2"/>
            </p:cNvCxnSpPr>
            <p:nvPr/>
          </p:nvCxnSpPr>
          <p:spPr>
            <a:xfrm flipV="1" rot="16200000">
              <a:off x="2434680" y="2021040"/>
              <a:ext cx="352080" cy="914400"/>
            </a:xfrm>
            <a:prstGeom prst="bentConnector3">
              <a:avLst>
                <a:gd name="adj1" fmla="val 32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9226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1520640" y="2021400"/>
              <a:ext cx="352080" cy="914040"/>
            </a:xfrm>
            <a:prstGeom prst="bentConnector3">
              <a:avLst>
                <a:gd name="adj1" fmla="val 32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9222"/>
            <p:cNvSpPr/>
            <p:nvPr/>
          </p:nvSpPr>
          <p:spPr>
            <a:xfrm>
              <a:off x="1370520" y="160020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9223"/>
            <p:cNvSpPr/>
            <p:nvPr/>
          </p:nvSpPr>
          <p:spPr>
            <a:xfrm>
              <a:off x="457200" y="265428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25"/>
            <p:cNvSpPr/>
            <p:nvPr/>
          </p:nvSpPr>
          <p:spPr>
            <a:xfrm>
              <a:off x="2284560" y="2654280"/>
              <a:ext cx="1566360" cy="702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132000" y="155736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3= 20+3=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437000"/>
            <a:ext cx="3312720" cy="2160000"/>
            <a:chOff x="539640" y="4437000"/>
            <a:chExt cx="3312720" cy="2160000"/>
          </a:xfrm>
        </p:grpSpPr>
        <p:cxnSp>
          <p:nvCxnSpPr>
            <p:cNvPr id="100" name="_s9240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2316600" y="5077800"/>
              <a:ext cx="633960" cy="876960"/>
            </a:xfrm>
            <a:prstGeom prst="bentConnector3">
              <a:avLst>
                <a:gd name="adj1" fmla="val 142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9238"/>
            <p:cNvCxnSpPr>
              <a:stCxn id="104" idx="0"/>
              <a:endCxn id="102" idx="2"/>
            </p:cNvCxnSpPr>
            <p:nvPr/>
          </p:nvCxnSpPr>
          <p:spPr>
            <a:xfrm flipH="1" flipV="1" rot="5400000">
              <a:off x="1440720" y="5078160"/>
              <a:ext cx="633960" cy="876600"/>
            </a:xfrm>
            <a:prstGeom prst="bentConnector3">
              <a:avLst>
                <a:gd name="adj1" fmla="val 142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9234"/>
            <p:cNvSpPr/>
            <p:nvPr/>
          </p:nvSpPr>
          <p:spPr>
            <a:xfrm>
              <a:off x="1415520" y="4437000"/>
              <a:ext cx="1560600" cy="763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35"/>
            <p:cNvSpPr/>
            <p:nvPr/>
          </p:nvSpPr>
          <p:spPr>
            <a:xfrm>
              <a:off x="539640" y="5833800"/>
              <a:ext cx="1560600" cy="763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9237"/>
            <p:cNvSpPr/>
            <p:nvPr/>
          </p:nvSpPr>
          <p:spPr>
            <a:xfrm>
              <a:off x="2291760" y="5833800"/>
              <a:ext cx="1560600" cy="763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32000" y="443700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2= 30+9=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помн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4000" y="1484280"/>
            <a:ext cx="2447640" cy="1584000"/>
            <a:chOff x="324000" y="1484280"/>
            <a:chExt cx="2447640" cy="1584000"/>
          </a:xfrm>
        </p:grpSpPr>
        <p:cxnSp>
          <p:nvCxnSpPr>
            <p:cNvPr id="108" name="_s10252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1718280" y="1946160"/>
              <a:ext cx="317520" cy="659520"/>
            </a:xfrm>
            <a:prstGeom prst="bentConnector3">
              <a:avLst>
                <a:gd name="adj1" fmla="val 21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50"/>
            <p:cNvCxnSpPr>
              <a:stCxn id="112" idx="0"/>
              <a:endCxn id="110" idx="2"/>
            </p:cNvCxnSpPr>
            <p:nvPr/>
          </p:nvCxnSpPr>
          <p:spPr>
            <a:xfrm flipH="1" flipV="1" rot="5400000">
              <a:off x="1059480" y="1946520"/>
              <a:ext cx="317520" cy="659520"/>
            </a:xfrm>
            <a:prstGeom prst="bentConnector3">
              <a:avLst>
                <a:gd name="adj1" fmla="val 217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246"/>
            <p:cNvSpPr/>
            <p:nvPr/>
          </p:nvSpPr>
          <p:spPr>
            <a:xfrm>
              <a:off x="982800" y="148428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247"/>
            <p:cNvSpPr/>
            <p:nvPr/>
          </p:nvSpPr>
          <p:spPr>
            <a:xfrm>
              <a:off x="324000" y="243468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49"/>
            <p:cNvSpPr/>
            <p:nvPr/>
          </p:nvSpPr>
          <p:spPr>
            <a:xfrm>
              <a:off x="1641960" y="2434680"/>
              <a:ext cx="112968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11280" y="1484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7= 10+3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4005360"/>
            <a:ext cx="2879280" cy="2304360"/>
            <a:chOff x="324000" y="4005360"/>
            <a:chExt cx="2879280" cy="2304360"/>
          </a:xfrm>
        </p:grpSpPr>
        <p:cxnSp>
          <p:nvCxnSpPr>
            <p:cNvPr id="115" name="_s10271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1806840" y="4776120"/>
              <a:ext cx="674640" cy="762120"/>
            </a:xfrm>
            <a:prstGeom prst="bentConnector3">
              <a:avLst>
                <a:gd name="adj1" fmla="val 16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269"/>
            <p:cNvCxnSpPr>
              <a:stCxn id="119" idx="0"/>
              <a:endCxn id="117" idx="2"/>
            </p:cNvCxnSpPr>
            <p:nvPr/>
          </p:nvCxnSpPr>
          <p:spPr>
            <a:xfrm flipH="1" flipV="1" rot="5400000">
              <a:off x="1045440" y="4776480"/>
              <a:ext cx="674640" cy="761760"/>
            </a:xfrm>
            <a:prstGeom prst="bentConnector3">
              <a:avLst>
                <a:gd name="adj1" fmla="val 16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0265"/>
            <p:cNvSpPr/>
            <p:nvPr/>
          </p:nvSpPr>
          <p:spPr>
            <a:xfrm>
              <a:off x="1085040" y="4005360"/>
              <a:ext cx="1356480" cy="81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266"/>
            <p:cNvSpPr/>
            <p:nvPr/>
          </p:nvSpPr>
          <p:spPr>
            <a:xfrm>
              <a:off x="324000" y="5494680"/>
              <a:ext cx="1356480" cy="81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68"/>
            <p:cNvSpPr/>
            <p:nvPr/>
          </p:nvSpPr>
          <p:spPr>
            <a:xfrm>
              <a:off x="1846800" y="5494680"/>
              <a:ext cx="1356480" cy="815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00360" y="400536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3= 10+3=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6:16:50Z</dcterms:created>
  <dc:creator>ГУЗЕЛЬ</dc:creator>
  <dc:description/>
  <dc:language>en-US</dc:language>
  <cp:lastModifiedBy>ГУЗЕЛЬ</cp:lastModifiedBy>
  <dcterms:modified xsi:type="dcterms:W3CDTF">2010-01-21T16:58:29Z</dcterms:modified>
  <cp:revision>7</cp:revision>
  <dc:subject/>
  <dc:title>Математика (М.И.Моро) Класс: 3 Тема: «Внетабличное умножение и деление. Приём деления для случаев вида: 78:2, 69:3». </dc:title>
</cp:coreProperties>
</file>