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0CE-6889-485B-A8D1-BCAEC62D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74F-1796-4D07-A799-4B65CE52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667-488E-48ED-A2BA-6F327220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41F-E988-4B9F-A21D-CAC86E93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1F8-C3D0-4AD6-B023-BDA3B665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238-A7D2-4DBF-9BDE-F390858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98D-21EA-490A-B01E-F95A3FC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26E-B77D-42B9-A934-09D0018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8A8-E103-4E6B-AAB2-55333B9E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39C-3090-472B-8BA7-C860DC4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20F-BEC7-4175-8D1D-BA7D11A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855-1713-40C3-BC45-2398D1D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7B58-0847-4907-AEB4-9E090F941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614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емати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.И.Моро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3</a:t>
            </a:r>
            <a:br>
              <a:rPr sz="24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Те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нетабличное умножение и деление. Приём деления для случаев вида: 78:2, 69:3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99736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знакомить с приемом деления двузначных чисел на однозначные, когда число десятков и число единиц делимого делятся на дел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накомить с приемом деления двузначных чисел на однозначные для случаев вида: 36:2, 78:2, 48: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вивать умения решать задачи на нахождение разности произведения и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оспитывать интерес к изучению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по учебнику. (стр.15 №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345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жнения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48074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атров –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оль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блиотек - ?, в 6 р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700280"/>
            <a:ext cx="436320" cy="1728720"/>
          </a:xfrm>
          <a:custGeom>
            <a:avLst/>
            <a:gdLst>
              <a:gd name="textAreaLeft" fmla="*/ 0 w 436320"/>
              <a:gd name="textAreaRight" fmla="*/ 306000 w 43632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19573200">
            <a:off x="4714920" y="1555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9392400">
            <a:off x="4642920" y="3283200"/>
            <a:ext cx="7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6 = 18 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08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18 – 3 = 1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на 15 библиотек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тог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8066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нового узнали на урок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.задание: стр. 15 № 5, № 6, лабири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08000" y="-360"/>
            <a:ext cx="5435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зада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39880" cy="241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2146320" cy="264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708360" y="692280"/>
            <a:ext cx="2044800" cy="269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1968480" cy="2463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 rot="20823000">
            <a:off x="3132000" y="2997000"/>
            <a:ext cx="2044800" cy="307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21193800">
            <a:off x="5219640" y="3499920"/>
            <a:ext cx="20192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7048440" y="373392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 rot="20940600">
            <a:off x="6803640" y="836280"/>
            <a:ext cx="1930320" cy="283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 rot="21317400">
            <a:off x="14032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5238720"/>
            <a:ext cx="338472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56000" y="476280"/>
            <a:ext cx="4351320" cy="244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4927680" cy="277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 rot="21243000">
            <a:off x="168120" y="2707920"/>
            <a:ext cx="49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148360" y="4610160"/>
            <a:ext cx="3995640" cy="2247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 rot="21265800">
            <a:off x="4858920" y="2491920"/>
            <a:ext cx="4067280" cy="2287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50920" y="0"/>
            <a:ext cx="5759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25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22 января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  8  8  8  8  8  8  8  8  8  8  8  8  8  8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стный сч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Уменьшаемое, вычитаемое, раз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Множитель, множитель, произ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лагаемое, слагаемое, су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Делимое, делитель, произ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500280"/>
            <a:ext cx="363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40+36):4=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60+27):3=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1+13):6=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429000"/>
            <a:ext cx="4583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периметр прямоугольника со сторонами 4 см и 8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12 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24 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3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29080" y="4149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9080" y="4724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2520" y="537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 урав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=60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Х=60: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:Х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6360" y="22050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=80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27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9080" y="35002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:40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8160" y="14778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:3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800" y="206064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=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9440" y="27082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=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3357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0:3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:3=         2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=          69: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2:8=         60:2=           78: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6:8=         80:20=         91:7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4:9=         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4=          39: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: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:8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800" y="191628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:8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800" y="249228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:9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712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268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:2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191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:2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42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76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: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134136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: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184464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: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234936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: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76500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508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508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5080" y="249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7800" y="6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780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80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2520" y="2421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7800" y="76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7800" y="1341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7800" y="1844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349360"/>
            <a:ext cx="5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57336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ша 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делить двузначные числ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Запомн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1600200"/>
            <a:ext cx="3393720" cy="1756800"/>
            <a:chOff x="457200" y="1600200"/>
            <a:chExt cx="3393720" cy="1756800"/>
          </a:xfrm>
        </p:grpSpPr>
        <p:cxnSp>
          <p:nvCxnSpPr>
            <p:cNvPr id="93" name="_s92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2434680" y="2021040"/>
              <a:ext cx="352080" cy="91440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9226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1520640" y="2021400"/>
              <a:ext cx="352080" cy="91404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9222"/>
            <p:cNvSpPr/>
            <p:nvPr/>
          </p:nvSpPr>
          <p:spPr>
            <a:xfrm>
              <a:off x="1370520" y="160020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9223"/>
            <p:cNvSpPr/>
            <p:nvPr/>
          </p:nvSpPr>
          <p:spPr>
            <a:xfrm>
              <a:off x="457200" y="265428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25"/>
            <p:cNvSpPr/>
            <p:nvPr/>
          </p:nvSpPr>
          <p:spPr>
            <a:xfrm>
              <a:off x="2284560" y="265428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132000" y="155736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3= 20+3=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437000"/>
            <a:ext cx="3312720" cy="2160000"/>
            <a:chOff x="539640" y="4437000"/>
            <a:chExt cx="3312720" cy="2160000"/>
          </a:xfrm>
        </p:grpSpPr>
        <p:cxnSp>
          <p:nvCxnSpPr>
            <p:cNvPr id="100" name="_s9240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2316600" y="5077800"/>
              <a:ext cx="633960" cy="87696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9238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1440720" y="5078160"/>
              <a:ext cx="633960" cy="87660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9234"/>
            <p:cNvSpPr/>
            <p:nvPr/>
          </p:nvSpPr>
          <p:spPr>
            <a:xfrm>
              <a:off x="1415520" y="44370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35"/>
            <p:cNvSpPr/>
            <p:nvPr/>
          </p:nvSpPr>
          <p:spPr>
            <a:xfrm>
              <a:off x="539640" y="58338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9237"/>
            <p:cNvSpPr/>
            <p:nvPr/>
          </p:nvSpPr>
          <p:spPr>
            <a:xfrm>
              <a:off x="2291760" y="58338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32000" y="443700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2= 30+9=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помн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4000" y="1484280"/>
            <a:ext cx="2447640" cy="1584000"/>
            <a:chOff x="324000" y="1484280"/>
            <a:chExt cx="2447640" cy="1584000"/>
          </a:xfrm>
        </p:grpSpPr>
        <p:cxnSp>
          <p:nvCxnSpPr>
            <p:cNvPr id="108" name="_s10252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1718280" y="194616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50"/>
            <p:cNvCxnSpPr>
              <a:stCxn id="112" idx="0"/>
              <a:endCxn id="110" idx="2"/>
            </p:cNvCxnSpPr>
            <p:nvPr/>
          </p:nvCxnSpPr>
          <p:spPr>
            <a:xfrm flipH="1" flipV="1" rot="5400000">
              <a:off x="1059480" y="194652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246"/>
            <p:cNvSpPr/>
            <p:nvPr/>
          </p:nvSpPr>
          <p:spPr>
            <a:xfrm>
              <a:off x="982800" y="14842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247"/>
            <p:cNvSpPr/>
            <p:nvPr/>
          </p:nvSpPr>
          <p:spPr>
            <a:xfrm>
              <a:off x="324000" y="24346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49"/>
            <p:cNvSpPr/>
            <p:nvPr/>
          </p:nvSpPr>
          <p:spPr>
            <a:xfrm>
              <a:off x="1641960" y="24346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11280" y="1484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7= 10+3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4005360"/>
            <a:ext cx="2879280" cy="2304360"/>
            <a:chOff x="324000" y="4005360"/>
            <a:chExt cx="2879280" cy="2304360"/>
          </a:xfrm>
        </p:grpSpPr>
        <p:cxnSp>
          <p:nvCxnSpPr>
            <p:cNvPr id="115" name="_s10271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1806840" y="4776120"/>
              <a:ext cx="674640" cy="762120"/>
            </a:xfrm>
            <a:prstGeom prst="bentConnector3">
              <a:avLst>
                <a:gd name="adj1" fmla="val 16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69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1045440" y="4776480"/>
              <a:ext cx="674640" cy="761760"/>
            </a:xfrm>
            <a:prstGeom prst="bentConnector3">
              <a:avLst>
                <a:gd name="adj1" fmla="val 16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265"/>
            <p:cNvSpPr/>
            <p:nvPr/>
          </p:nvSpPr>
          <p:spPr>
            <a:xfrm>
              <a:off x="1085040" y="400536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266"/>
            <p:cNvSpPr/>
            <p:nvPr/>
          </p:nvSpPr>
          <p:spPr>
            <a:xfrm>
              <a:off x="324000" y="549468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68"/>
            <p:cNvSpPr/>
            <p:nvPr/>
          </p:nvSpPr>
          <p:spPr>
            <a:xfrm>
              <a:off x="1846800" y="549468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00360" y="400536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3= 10+3=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6:16:50Z</dcterms:created>
  <dc:creator>ГУЗЕЛЬ</dc:creator>
  <dc:description/>
  <dc:language>en-US</dc:language>
  <cp:lastModifiedBy>ГУЗЕЛЬ</cp:lastModifiedBy>
  <dcterms:modified xsi:type="dcterms:W3CDTF">2010-01-21T16:58:29Z</dcterms:modified>
  <cp:revision>7</cp:revision>
  <dc:subject/>
  <dc:title>Математика (М.И.Моро) Класс: 3 Тема: «Внетабличное умножение и деление. Приём деления для случаев вида: 78:2, 69:3». </dc:title>
</cp:coreProperties>
</file>