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6.gif" ContentType="image/gif"/>
  <Override PartName="/ppt/media/image14.gif" ContentType="image/gif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9B6-0A47-4126-BE8F-90BC7F38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49A-1BA1-4818-92F3-6588A088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BE0-FB4D-4BB0-91D9-DF5CAFB5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940-D87D-4904-8522-06AEFCA0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E9BDA-B782-435C-97D8-34EB901A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1F2B0-6CAF-4B8E-BD99-B18F2212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1BA01-2D00-4BC5-A225-4B15CC28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0D792-F59E-4309-8E3F-F5F713BE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30394-832A-43B6-8435-E9A559DE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43DD8-EBD6-441E-8BCE-1726D854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47E02-682E-49F8-8CA2-975FFBC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D13-427D-446C-8C73-F2942067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08D2D-6020-4FFD-8386-EB2FF80B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3F032-FB29-4018-99E3-65D518D0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34337-248F-4F0C-8B87-8588F72A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975F3-D600-4D36-83CF-38F4C3F4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63523-601F-459D-BDB7-E1D56EF6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240-38F0-4989-B5A5-36D3F28B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D58-01C8-46BA-A074-D070836D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45F-5CB5-41DC-B43B-55BA3388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C80-5296-4D36-9F27-4D7399DA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0B9-DF9A-4754-B2E0-7FFD1E1D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24E-D7AC-4E92-A47B-79758B2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C92-4E99-494E-AE62-3B494CB4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8F78-DF49-40F6-A43C-7F53068FE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D636-A709-44D9-913A-22B8C58C09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755640" y="62064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ик Зна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971640" y="6381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8748720" y="6858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34"/>
          <p:cNvSpPr/>
          <p:nvPr/>
        </p:nvSpPr>
        <p:spPr>
          <a:xfrm flipV="1">
            <a:off x="6300720" y="549360"/>
            <a:ext cx="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ibbon1Sharp"/>
          <p:cNvSpPr/>
          <p:nvPr/>
        </p:nvSpPr>
        <p:spPr>
          <a:xfrm>
            <a:off x="6227640" y="476280"/>
            <a:ext cx="720720" cy="288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2"/>
          <p:cNvGrpSpPr/>
          <p:nvPr/>
        </p:nvGrpSpPr>
        <p:grpSpPr>
          <a:xfrm>
            <a:off x="3708360" y="1125360"/>
            <a:ext cx="5111640" cy="5543280"/>
            <a:chOff x="3708360" y="1125360"/>
            <a:chExt cx="5111640" cy="5543280"/>
          </a:xfrm>
        </p:grpSpPr>
        <p:sp>
          <p:nvSpPr>
            <p:cNvPr id="128" name="Pyr1"/>
            <p:cNvSpPr/>
            <p:nvPr/>
          </p:nvSpPr>
          <p:spPr>
            <a:xfrm>
              <a:off x="5697360" y="1125360"/>
              <a:ext cx="1144800" cy="12279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Pyr2"/>
            <p:cNvSpPr/>
            <p:nvPr/>
          </p:nvSpPr>
          <p:spPr>
            <a:xfrm>
              <a:off x="5034240" y="2353320"/>
              <a:ext cx="2466000" cy="144216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Pyr3"/>
            <p:cNvSpPr/>
            <p:nvPr/>
          </p:nvSpPr>
          <p:spPr>
            <a:xfrm>
              <a:off x="4377960" y="3795840"/>
              <a:ext cx="3778200" cy="14400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Pyr4"/>
            <p:cNvSpPr/>
            <p:nvPr/>
          </p:nvSpPr>
          <p:spPr>
            <a:xfrm>
              <a:off x="3708360" y="5226840"/>
              <a:ext cx="5111640" cy="14418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Arial"/>
              </a:rPr>
              <a:t>Работа металлургического комбината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Экология в опасности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92" name="Picture 4" descr="wer3"/>
          <p:cNvPicPr/>
          <p:nvPr/>
        </p:nvPicPr>
        <p:blipFill>
          <a:blip r:embed="rId1"/>
          <a:stretch/>
        </p:blipFill>
        <p:spPr>
          <a:xfrm>
            <a:off x="539640" y="1700280"/>
            <a:ext cx="792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на корабле"/>
          <p:cNvPicPr/>
          <p:nvPr/>
        </p:nvPicPr>
        <p:blipFill>
          <a:blip r:embed="rId1"/>
          <a:stretch/>
        </p:blipFill>
        <p:spPr>
          <a:xfrm>
            <a:off x="324000" y="2924280"/>
            <a:ext cx="2474640" cy="270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ship2"/>
          <p:cNvPicPr/>
          <p:nvPr/>
        </p:nvPicPr>
        <p:blipFill>
          <a:blip r:embed="rId2"/>
          <a:stretch/>
        </p:blipFill>
        <p:spPr>
          <a:xfrm flipH="1">
            <a:off x="5003280" y="907920"/>
            <a:ext cx="3611880" cy="1155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7" descr="AG00180_"/>
          <p:cNvPicPr/>
          <p:nvPr/>
        </p:nvPicPr>
        <p:blipFill>
          <a:blip r:embed="rId3"/>
          <a:stretch/>
        </p:blipFill>
        <p:spPr>
          <a:xfrm>
            <a:off x="6372360" y="3429000"/>
            <a:ext cx="1981080" cy="942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7" descr="AG00180_"/>
          <p:cNvPicPr/>
          <p:nvPr/>
        </p:nvPicPr>
        <p:blipFill>
          <a:blip r:embed="rId4"/>
          <a:stretch/>
        </p:blipFill>
        <p:spPr>
          <a:xfrm>
            <a:off x="4788000" y="3573360"/>
            <a:ext cx="1981080" cy="943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7" descr="AG00180_"/>
          <p:cNvPicPr/>
          <p:nvPr/>
        </p:nvPicPr>
        <p:blipFill>
          <a:blip r:embed="rId5"/>
          <a:stretch/>
        </p:blipFill>
        <p:spPr>
          <a:xfrm>
            <a:off x="4427640" y="1989000"/>
            <a:ext cx="2490840" cy="1405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7" descr="AG00180_"/>
          <p:cNvPicPr/>
          <p:nvPr/>
        </p:nvPicPr>
        <p:blipFill>
          <a:blip r:embed="rId6"/>
          <a:stretch/>
        </p:blipFill>
        <p:spPr>
          <a:xfrm>
            <a:off x="2556000" y="3068640"/>
            <a:ext cx="2490840" cy="1405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7" descr="AG00180_"/>
          <p:cNvPicPr/>
          <p:nvPr/>
        </p:nvPicPr>
        <p:blipFill>
          <a:blip r:embed="rId7"/>
          <a:stretch/>
        </p:blipFill>
        <p:spPr>
          <a:xfrm>
            <a:off x="2771640" y="2349360"/>
            <a:ext cx="2490840" cy="1405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8"/>
          <p:cNvSpPr/>
          <p:nvPr/>
        </p:nvSpPr>
        <p:spPr>
          <a:xfrm>
            <a:off x="0" y="5310360"/>
            <a:ext cx="9144000" cy="143352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09_Didyulya - Russkaya.mp3" descr=""/>
          <p:cNvPicPr/>
          <p:nvPr/>
        </p:nvPicPr>
        <p:blipFill>
          <a:blip r:embed="rId8"/>
          <a:stretch/>
        </p:blipFill>
        <p:spPr>
          <a:xfrm>
            <a:off x="11430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-1.71871E-006 L 0.84253 -1.71871E-006 E">
                                      <p:cBhvr>
                                        <p:cTn id="54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8.67916E-006 L -0.78351 -0.01041 E">
                                      <p:cBhvr>
                                        <p:cTn id="57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76458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90400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Свойства металлов.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5800" y="220500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верд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043280" y="2924280"/>
            <a:ext cx="40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стичность; ков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3">
            <a:hlinkClick r:id="" action="ppaction://hlinkshowjump?jump=nextslide"/>
          </p:cNvPr>
          <p:cNvSpPr/>
          <p:nvPr/>
        </p:nvSpPr>
        <p:spPr>
          <a:xfrm>
            <a:off x="7885080" y="587700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0">
            <a:hlinkClick r:id="" action="ppaction://hlinkshowjump?jump=nextslide"/>
          </p:cNvPr>
          <p:cNvSpPr/>
          <p:nvPr/>
        </p:nvSpPr>
        <p:spPr>
          <a:xfrm>
            <a:off x="7524720" y="6165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3794"/>
                </a:moveTo>
                <a:lnTo>
                  <a:pt x="25534" y="10800"/>
                </a:lnTo>
                <a:lnTo>
                  <a:pt x="11521" y="17806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кузнец"/>
          <p:cNvPicPr/>
          <p:nvPr/>
        </p:nvPicPr>
        <p:blipFill>
          <a:blip r:embed="rId1"/>
          <a:stretch/>
        </p:blipFill>
        <p:spPr>
          <a:xfrm>
            <a:off x="2268360" y="404640"/>
            <a:ext cx="4286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0"/>
          <p:cNvGrpSpPr/>
          <p:nvPr/>
        </p:nvGrpSpPr>
        <p:grpSpPr>
          <a:xfrm>
            <a:off x="395280" y="333360"/>
            <a:ext cx="1800360" cy="2089080"/>
            <a:chOff x="395280" y="333360"/>
            <a:chExt cx="1800360" cy="2089080"/>
          </a:xfrm>
        </p:grpSpPr>
        <p:sp>
          <p:nvSpPr>
            <p:cNvPr id="209" name="Rectangle 11"/>
            <p:cNvSpPr/>
            <p:nvPr/>
          </p:nvSpPr>
          <p:spPr>
            <a:xfrm>
              <a:off x="395280" y="333360"/>
              <a:ext cx="1800360" cy="208908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Picture 12" descr="iron"/>
            <p:cNvPicPr/>
            <p:nvPr/>
          </p:nvPicPr>
          <p:blipFill>
            <a:blip r:embed="rId1"/>
            <a:stretch/>
          </p:blipFill>
          <p:spPr>
            <a:xfrm>
              <a:off x="539280" y="333360"/>
              <a:ext cx="1570680" cy="19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13"/>
          <p:cNvGrpSpPr/>
          <p:nvPr/>
        </p:nvGrpSpPr>
        <p:grpSpPr>
          <a:xfrm>
            <a:off x="6734160" y="4365720"/>
            <a:ext cx="2409480" cy="1952640"/>
            <a:chOff x="6734160" y="4365720"/>
            <a:chExt cx="2409480" cy="1952640"/>
          </a:xfrm>
        </p:grpSpPr>
        <p:sp>
          <p:nvSpPr>
            <p:cNvPr id="212" name="Rectangle 14"/>
            <p:cNvSpPr/>
            <p:nvPr/>
          </p:nvSpPr>
          <p:spPr>
            <a:xfrm>
              <a:off x="6734160" y="4365720"/>
              <a:ext cx="2409480" cy="195264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89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3" name="Picture 15" descr="худ издел"/>
            <p:cNvPicPr/>
            <p:nvPr/>
          </p:nvPicPr>
          <p:blipFill>
            <a:blip r:embed="rId2"/>
            <a:stretch/>
          </p:blipFill>
          <p:spPr>
            <a:xfrm>
              <a:off x="6734160" y="4365720"/>
              <a:ext cx="2253960" cy="18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16"/>
          <p:cNvGrpSpPr/>
          <p:nvPr/>
        </p:nvGrpSpPr>
        <p:grpSpPr>
          <a:xfrm>
            <a:off x="324000" y="2708280"/>
            <a:ext cx="1474560" cy="1871640"/>
            <a:chOff x="324000" y="2708280"/>
            <a:chExt cx="1474560" cy="1871640"/>
          </a:xfrm>
        </p:grpSpPr>
        <p:sp>
          <p:nvSpPr>
            <p:cNvPr id="215" name="Rectangle 17"/>
            <p:cNvSpPr/>
            <p:nvPr/>
          </p:nvSpPr>
          <p:spPr>
            <a:xfrm>
              <a:off x="324000" y="2708280"/>
              <a:ext cx="1474560" cy="1773000"/>
            </a:xfrm>
            <a:prstGeom prst="rect">
              <a:avLst/>
            </a:prstGeom>
            <a:solidFill>
              <a:srgbClr val="ff99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6" name="Picture 18" descr="iron1"/>
            <p:cNvPicPr/>
            <p:nvPr/>
          </p:nvPicPr>
          <p:blipFill>
            <a:blip r:embed="rId3"/>
            <a:stretch/>
          </p:blipFill>
          <p:spPr>
            <a:xfrm>
              <a:off x="451800" y="2708280"/>
              <a:ext cx="122076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19"/>
          <p:cNvGrpSpPr/>
          <p:nvPr/>
        </p:nvGrpSpPr>
        <p:grpSpPr>
          <a:xfrm>
            <a:off x="2771640" y="404640"/>
            <a:ext cx="2485800" cy="2592720"/>
            <a:chOff x="2771640" y="404640"/>
            <a:chExt cx="2485800" cy="2592720"/>
          </a:xfrm>
        </p:grpSpPr>
        <p:sp>
          <p:nvSpPr>
            <p:cNvPr id="218" name="Rectangle 20"/>
            <p:cNvSpPr/>
            <p:nvPr/>
          </p:nvSpPr>
          <p:spPr>
            <a:xfrm>
              <a:off x="2771640" y="404640"/>
              <a:ext cx="2485800" cy="2592720"/>
            </a:xfrm>
            <a:prstGeom prst="rect">
              <a:avLst/>
            </a:prstGeom>
            <a:solidFill>
              <a:srgbClr val="cc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Picture 21" descr="изделия из металлоа"/>
            <p:cNvPicPr/>
            <p:nvPr/>
          </p:nvPicPr>
          <p:blipFill>
            <a:blip r:embed="rId4"/>
            <a:stretch/>
          </p:blipFill>
          <p:spPr>
            <a:xfrm>
              <a:off x="2771640" y="552960"/>
              <a:ext cx="2310480" cy="2295720"/>
            </a:xfrm>
            <a:prstGeom prst="rect">
              <a:avLst/>
            </a:prstGeom>
            <a:ln w="9360">
              <a:solidFill>
                <a:srgbClr val="333300"/>
              </a:solidFill>
              <a:miter/>
            </a:ln>
          </p:spPr>
        </p:pic>
      </p:grpSp>
      <p:pic>
        <p:nvPicPr>
          <p:cNvPr id="220" name="Picture 22" descr="ser1"/>
          <p:cNvPicPr/>
          <p:nvPr/>
        </p:nvPicPr>
        <p:blipFill>
          <a:blip r:embed="rId5"/>
          <a:stretch/>
        </p:blipFill>
        <p:spPr>
          <a:xfrm>
            <a:off x="179280" y="486900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zol7"/>
          <p:cNvPicPr/>
          <p:nvPr/>
        </p:nvPicPr>
        <p:blipFill>
          <a:blip r:embed="rId6"/>
          <a:stretch/>
        </p:blipFill>
        <p:spPr>
          <a:xfrm>
            <a:off x="2843280" y="3573360"/>
            <a:ext cx="3743280" cy="2894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проволока"/>
          <p:cNvPicPr/>
          <p:nvPr/>
        </p:nvPicPr>
        <p:blipFill>
          <a:blip r:embed="rId7"/>
          <a:stretch/>
        </p:blipFill>
        <p:spPr>
          <a:xfrm>
            <a:off x="5580000" y="620640"/>
            <a:ext cx="3265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590400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Свойства металлов.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85800" y="206064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верд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043280" y="2781360"/>
            <a:ext cx="40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стичность; ков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19640" y="3500280"/>
            <a:ext cx="47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при нагре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341080" y="4292640"/>
            <a:ext cx="35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лектропров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97440" y="5516640"/>
            <a:ext cx="12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ле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133080" y="4869000"/>
            <a:ext cx="32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плопров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4"/>
          <p:cNvGrpSpPr/>
          <p:nvPr/>
        </p:nvGrpSpPr>
        <p:grpSpPr>
          <a:xfrm>
            <a:off x="3564000" y="809640"/>
            <a:ext cx="5580000" cy="6048000"/>
            <a:chOff x="3564000" y="809640"/>
            <a:chExt cx="5580000" cy="6048000"/>
          </a:xfrm>
        </p:grpSpPr>
        <p:sp>
          <p:nvSpPr>
            <p:cNvPr id="231" name="Pyr1"/>
            <p:cNvSpPr/>
            <p:nvPr/>
          </p:nvSpPr>
          <p:spPr>
            <a:xfrm>
              <a:off x="5735520" y="809640"/>
              <a:ext cx="1249920" cy="133956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Pyr2"/>
            <p:cNvSpPr/>
            <p:nvPr/>
          </p:nvSpPr>
          <p:spPr>
            <a:xfrm>
              <a:off x="5011200" y="2149200"/>
              <a:ext cx="2691720" cy="1573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Pyr3"/>
            <p:cNvSpPr/>
            <p:nvPr/>
          </p:nvSpPr>
          <p:spPr>
            <a:xfrm>
              <a:off x="4295160" y="3723120"/>
              <a:ext cx="4124160" cy="1571400"/>
            </a:xfrm>
            <a:prstGeom prst="pie">
              <a:avLst/>
            </a:prstGeom>
            <a:gradFill rotWithShape="0">
              <a:gsLst>
                <a:gs pos="0">
                  <a:srgbClr val="ffbe7d"/>
                </a:gs>
                <a:gs pos="100000">
                  <a:srgbClr val="76583a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Pyr4"/>
            <p:cNvSpPr/>
            <p:nvPr/>
          </p:nvSpPr>
          <p:spPr>
            <a:xfrm>
              <a:off x="3564000" y="5284440"/>
              <a:ext cx="5580000" cy="157320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Rectangle 9"/>
          <p:cNvSpPr/>
          <p:nvPr/>
        </p:nvSpPr>
        <p:spPr>
          <a:xfrm>
            <a:off x="4286160" y="573408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руппы металл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4500720" y="407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ы добы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олучения метал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5580000" y="278136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ал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5508720" y="148428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етал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 flipV="1">
            <a:off x="6372360" y="1159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ibbon1Sharp"/>
          <p:cNvSpPr/>
          <p:nvPr/>
        </p:nvSpPr>
        <p:spPr>
          <a:xfrm>
            <a:off x="6227640" y="0"/>
            <a:ext cx="1150920" cy="69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7" descr="a246"/>
          <p:cNvPicPr/>
          <p:nvPr/>
        </p:nvPicPr>
        <p:blipFill>
          <a:blip r:embed="rId1"/>
          <a:stretch/>
        </p:blipFill>
        <p:spPr>
          <a:xfrm>
            <a:off x="250920" y="4797360"/>
            <a:ext cx="1177920" cy="2060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заяц"/>
          <p:cNvPicPr/>
          <p:nvPr/>
        </p:nvPicPr>
        <p:blipFill>
          <a:blip r:embed="rId2"/>
          <a:stretch/>
        </p:blipFill>
        <p:spPr>
          <a:xfrm>
            <a:off x="1692360" y="4724280"/>
            <a:ext cx="1571400" cy="2017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2"/>
          <p:cNvSpPr/>
          <p:nvPr/>
        </p:nvSpPr>
        <p:spPr>
          <a:xfrm>
            <a:off x="1073520" y="969840"/>
            <a:ext cx="36262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Молодцы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Ура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6516720" y="189000"/>
            <a:ext cx="719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devockabig"/>
          <p:cNvPicPr/>
          <p:nvPr/>
        </p:nvPicPr>
        <p:blipFill>
          <a:blip r:embed="rId1"/>
          <a:stretch/>
        </p:blipFill>
        <p:spPr>
          <a:xfrm>
            <a:off x="1476360" y="404640"/>
            <a:ext cx="5543640" cy="46022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7"/>
          <p:cNvSpPr txBox="1"/>
          <p:nvPr/>
        </p:nvSpPr>
        <p:spPr>
          <a:xfrm rot="20836800">
            <a:off x="380520" y="4343040"/>
            <a:ext cx="8477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b3edff"/>
                    </a:gs>
                  </a:gsLst>
                  <a:lin ang="6882000"/>
                </a:gradFill>
                <a:latin typeface="Impact"/>
              </a:rPr>
              <a:t>Успехов вам в изучении темы: "Металлы"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b3edff"/>
                  </a:gs>
                </a:gsLst>
                <a:lin ang="6882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85480" y="1773360"/>
            <a:ext cx="41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оянство фор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2565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ёрд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482920" y="3284640"/>
            <a:ext cx="22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в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130560" y="3933720"/>
            <a:ext cx="57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ширение при нагре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492360" y="4653000"/>
            <a:ext cx="238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уп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209120" y="5373720"/>
            <a:ext cx="430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неральный соста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909440" y="306360"/>
            <a:ext cx="5340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войства горных пор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лина, кварц, бронза, песок, слюда, каменная соль, алюминий, каменный уголь, олово, гранит, гравий, алма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3924360" y="1125360"/>
            <a:ext cx="1511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284720" y="1700280"/>
            <a:ext cx="22320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572000" y="2276640"/>
            <a:ext cx="12240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8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аллов много 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дело не в количеств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оманде работящей металлическ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кие мастера, такие личнос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уменьшать нам вовсе не прист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слуги безусловные металл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 египтянином, китайцем, древним гре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каждым современным человеко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204360" y="189000"/>
            <a:ext cx="1662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Эпигра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"/>
          <p:cNvGrpSpPr/>
          <p:nvPr/>
        </p:nvGrpSpPr>
        <p:grpSpPr>
          <a:xfrm>
            <a:off x="3564000" y="809640"/>
            <a:ext cx="5580000" cy="6048000"/>
            <a:chOff x="3564000" y="809640"/>
            <a:chExt cx="5580000" cy="6048000"/>
          </a:xfrm>
        </p:grpSpPr>
        <p:sp>
          <p:nvSpPr>
            <p:cNvPr id="146" name="Pyr1"/>
            <p:cNvSpPr/>
            <p:nvPr/>
          </p:nvSpPr>
          <p:spPr>
            <a:xfrm>
              <a:off x="5735520" y="809640"/>
              <a:ext cx="1249920" cy="133956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Pyr2"/>
            <p:cNvSpPr/>
            <p:nvPr/>
          </p:nvSpPr>
          <p:spPr>
            <a:xfrm>
              <a:off x="5011200" y="2149200"/>
              <a:ext cx="2691720" cy="157356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Pyr3"/>
            <p:cNvSpPr/>
            <p:nvPr/>
          </p:nvSpPr>
          <p:spPr>
            <a:xfrm>
              <a:off x="4295160" y="3723120"/>
              <a:ext cx="4124160" cy="1571400"/>
            </a:xfrm>
            <a:prstGeom prst="pie">
              <a:avLst/>
            </a:prstGeom>
            <a:gradFill rotWithShape="0">
              <a:gsLst>
                <a:gs pos="0">
                  <a:srgbClr val="ffbe7d"/>
                </a:gs>
                <a:gs pos="100000">
                  <a:srgbClr val="76583a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Pyr4"/>
            <p:cNvSpPr/>
            <p:nvPr/>
          </p:nvSpPr>
          <p:spPr>
            <a:xfrm>
              <a:off x="3564000" y="5284440"/>
              <a:ext cx="5580000" cy="157320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>
                    <a:alpha val="10196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4355640" y="5805360"/>
            <a:ext cx="38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уппы метал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644000" y="422100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ы добы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получения метал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5725800" y="285264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ал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5580360" y="1557360"/>
            <a:ext cx="156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етал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6372360" y="25992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ibbon1Sharp"/>
          <p:cNvSpPr/>
          <p:nvPr/>
        </p:nvSpPr>
        <p:spPr>
          <a:xfrm>
            <a:off x="6372360" y="189000"/>
            <a:ext cx="714240" cy="325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1621080" y="709560"/>
            <a:ext cx="309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ик Зна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/>
          <p:cNvSpPr/>
          <p:nvPr/>
        </p:nvSpPr>
        <p:spPr>
          <a:xfrm rot="861600">
            <a:off x="1402920" y="1268280"/>
            <a:ext cx="504720" cy="1582920"/>
          </a:xfrm>
          <a:prstGeom prst="downArrow">
            <a:avLst>
              <a:gd name="adj1" fmla="val 49685"/>
              <a:gd name="adj2" fmla="val 80845"/>
            </a:avLst>
          </a:pr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995640" y="1341360"/>
            <a:ext cx="505080" cy="2735280"/>
          </a:xfrm>
          <a:prstGeom prst="downArrow">
            <a:avLst>
              <a:gd name="adj1" fmla="val 50000"/>
              <a:gd name="adj2" fmla="val 135388"/>
            </a:avLst>
          </a:pr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 rot="20410800">
            <a:off x="7116480" y="1263240"/>
            <a:ext cx="504720" cy="1584360"/>
          </a:xfrm>
          <a:prstGeom prst="downArrow">
            <a:avLst>
              <a:gd name="adj1" fmla="val 50000"/>
              <a:gd name="adj2" fmla="val 78477"/>
            </a:avLst>
          </a:pr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191280" cy="1143000"/>
          </a:xfrm>
          <a:prstGeom prst="rect">
            <a:avLst/>
          </a:prstGeom>
          <a:solidFill>
            <a:srgbClr val="ffcfa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Группы металлов.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811440" y="31813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ве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690360" y="418932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е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159240" y="321300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ро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239840" y="3294000"/>
            <a:ext cx="95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96720" y="5013360"/>
            <a:ext cx="150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ме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алюми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52720" y="5373720"/>
            <a:ext cx="9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чугу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ста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7021440" y="4941720"/>
            <a:ext cx="13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золо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сереб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пла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 rot="6521400">
            <a:off x="655200" y="4129200"/>
            <a:ext cx="1108080" cy="28872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 rot="6521400">
            <a:off x="632880" y="4125600"/>
            <a:ext cx="1108080" cy="28908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 rot="5400000">
            <a:off x="3982320" y="4882320"/>
            <a:ext cx="604800" cy="288720"/>
          </a:xfrm>
          <a:custGeom>
            <a:avLst/>
            <a:gdLst>
              <a:gd name="textAreaLeft" fmla="*/ 0 w 604800"/>
              <a:gd name="textAreaRight" fmla="*/ 605160 w 6048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 rot="4792800">
            <a:off x="7041600" y="4125600"/>
            <a:ext cx="1108080" cy="28908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f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Добыча руд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3" name="Picture 10" descr="доб руд кар"/>
          <p:cNvPicPr/>
          <p:nvPr/>
        </p:nvPicPr>
        <p:blipFill>
          <a:blip r:embed="rId1"/>
          <a:stretch/>
        </p:blipFill>
        <p:spPr>
          <a:xfrm>
            <a:off x="179280" y="1434960"/>
            <a:ext cx="4248360" cy="2833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добыча руды под землей"/>
          <p:cNvPicPr/>
          <p:nvPr/>
        </p:nvPicPr>
        <p:blipFill>
          <a:blip r:embed="rId2"/>
          <a:stretch/>
        </p:blipFill>
        <p:spPr>
          <a:xfrm>
            <a:off x="4572000" y="2997360"/>
            <a:ext cx="4392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Разнообразие металло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6" name="Picture 4" descr="боксит"/>
          <p:cNvPicPr/>
          <p:nvPr/>
        </p:nvPicPr>
        <p:blipFill>
          <a:blip r:embed="rId1"/>
          <a:stretch/>
        </p:blipFill>
        <p:spPr>
          <a:xfrm>
            <a:off x="826920" y="1268280"/>
            <a:ext cx="2665440" cy="2116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бурый железняк"/>
          <p:cNvPicPr/>
          <p:nvPr/>
        </p:nvPicPr>
        <p:blipFill>
          <a:blip r:embed="rId2"/>
          <a:stretch/>
        </p:blipFill>
        <p:spPr>
          <a:xfrm>
            <a:off x="5364000" y="1197000"/>
            <a:ext cx="2819520" cy="2171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магнитный железняк"/>
          <p:cNvPicPr/>
          <p:nvPr/>
        </p:nvPicPr>
        <p:blipFill>
          <a:blip r:embed="rId3"/>
          <a:stretch/>
        </p:blipFill>
        <p:spPr>
          <a:xfrm>
            <a:off x="826920" y="4076640"/>
            <a:ext cx="2665440" cy="206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руда медь"/>
          <p:cNvPicPr/>
          <p:nvPr/>
        </p:nvPicPr>
        <p:blipFill>
          <a:blip r:embed="rId4"/>
          <a:stretch/>
        </p:blipFill>
        <p:spPr>
          <a:xfrm>
            <a:off x="5315040" y="4221000"/>
            <a:ext cx="2928960" cy="2087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5849640" y="63295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Медный колче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42920" y="630864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Магнитный железн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1600560" y="33764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бокс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942520" y="3500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Бурый железн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Доменная печь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graphicFrame>
        <p:nvGraphicFramePr>
          <p:cNvPr id="185" name="Object 14"/>
          <p:cNvGraphicFramePr/>
          <p:nvPr/>
        </p:nvGraphicFramePr>
        <p:xfrm>
          <a:off x="647640" y="375768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375768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Picture 5" descr="домен печь"/>
          <p:cNvPicPr/>
          <p:nvPr/>
        </p:nvPicPr>
        <p:blipFill>
          <a:blip r:embed="rId3"/>
          <a:stretch/>
        </p:blipFill>
        <p:spPr>
          <a:xfrm>
            <a:off x="611280" y="1268280"/>
            <a:ext cx="2325600" cy="309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д печь"/>
          <p:cNvPicPr/>
          <p:nvPr/>
        </p:nvPicPr>
        <p:blipFill>
          <a:blip r:embed="rId4"/>
          <a:stretch/>
        </p:blipFill>
        <p:spPr>
          <a:xfrm>
            <a:off x="4932360" y="1486080"/>
            <a:ext cx="2714760" cy="2590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плавка мет"/>
          <p:cNvPicPr/>
          <p:nvPr/>
        </p:nvPicPr>
        <p:blipFill>
          <a:blip r:embed="rId5"/>
          <a:stretch/>
        </p:blipFill>
        <p:spPr>
          <a:xfrm>
            <a:off x="4788000" y="4437000"/>
            <a:ext cx="2952720" cy="2220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плавка"/>
          <p:cNvPicPr/>
          <p:nvPr/>
        </p:nvPicPr>
        <p:blipFill>
          <a:blip r:embed="rId6"/>
          <a:stretch/>
        </p:blipFill>
        <p:spPr>
          <a:xfrm>
            <a:off x="395280" y="4508640"/>
            <a:ext cx="29527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49:32Z</dcterms:created>
  <dc:creator>FuckYouBill</dc:creator>
  <dc:description/>
  <dc:language>en-US</dc:language>
  <cp:lastModifiedBy>FuckYouBill</cp:lastModifiedBy>
  <dcterms:modified xsi:type="dcterms:W3CDTF">2009-03-04T15:48:28Z</dcterms:modified>
  <cp:revision>17</cp:revision>
  <dc:subject/>
  <dc:title>Слайд 1</dc:title>
</cp:coreProperties>
</file>