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3D05-667E-4AAE-9224-188B2389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3BCC-CCDD-4DA7-A332-DDD12180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4F80-BE89-47C7-8688-28A345CB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8577-C827-4DFA-B021-B7EA0E90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6C17-9930-4BAC-9D1F-864E2152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56E3-21BF-4BC9-96D2-C29B3EFB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5797-A3EB-4C5E-963A-B2903812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267C-FDAE-43BE-BA0C-72D0AD38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15D1-7490-4DE5-A1E0-67DE2B59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8F9E-0602-4EC1-8525-1BEF251B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C3D0-6EBF-462D-87CB-73629C3B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B69C-54AA-4AA3-ACDB-A11AEAEC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DE38-1C02-4152-83CB-D2B225F6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0DA4-A5A9-4BB0-BEF8-23CBC22A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0BC2-3917-4D10-8455-66D1A6AC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CDC2-2F2B-4AD8-877B-D783824F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64B5-5F98-4AD2-AAE7-3C104051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DC7E-A03F-44C5-A5FD-536D2DD0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3D74-4476-4296-A94B-29C3AAD4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195F-CE7C-47D9-9ADB-5825F005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6F5-680C-47AA-8985-E7E00665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BDD5-13A9-4FB0-B6F5-F58ED7F4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7E86-360C-4D69-A97A-EFB2FF83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4554-A4C1-431F-85E4-39BBE069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1E6F-DA70-4AED-821C-CDA1DB72AE24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1961-F7AA-4480-80A2-8BC6B87E55E7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vb.ru/hlebnikov/tvorprim/086.htm#Slide 1" TargetMode="External"/><Relationship Id="rId3" Type="http://schemas.openxmlformats.org/officeDocument/2006/relationships/hyperlink" Target="http://www.rvb.ru/hlebnikov/tvorprim/086.htm#Slide 2" TargetMode="External"/><Relationship Id="rId4" Type="http://schemas.openxmlformats.org/officeDocument/2006/relationships/hyperlink" Target="http://www.rvb.ru/hlebnikov/tvorprim/086.htm#Slide 3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4508280"/>
            <a:ext cx="806436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d4944"/>
                </a:solidFill>
                <a:latin typeface="Book Antiqua"/>
              </a:rPr>
              <a:t>ВЕЛЕМИР ХЛЕБНИКОВ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684360" y="5444640"/>
            <a:ext cx="8064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1d4337"/>
                </a:solidFill>
                <a:latin typeface="Georgia"/>
              </a:rPr>
              <a:t>«Новое зрение» поэта</a:t>
            </a: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1573200" cy="2181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635280" y="0"/>
            <a:ext cx="1790640" cy="2438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458120" y="333360"/>
            <a:ext cx="168588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0920" y="189000"/>
            <a:ext cx="3335400" cy="4446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7124760" y="4591080"/>
            <a:ext cx="2019240" cy="2266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В. Хлебников. Портрет работы В. Бурлюка. 1910-"/>
          <p:cNvPicPr/>
          <p:nvPr/>
        </p:nvPicPr>
        <p:blipFill>
          <a:blip r:embed="rId7"/>
          <a:stretch/>
        </p:blipFill>
        <p:spPr>
          <a:xfrm rot="21211800">
            <a:off x="3492360" y="2565360"/>
            <a:ext cx="1619280" cy="2085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 rot="795600">
            <a:off x="6732360" y="2204640"/>
            <a:ext cx="1900080" cy="244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Велимир Хлебников. Фотография с черепом"/>
          <p:cNvPicPr/>
          <p:nvPr/>
        </p:nvPicPr>
        <p:blipFill>
          <a:blip r:embed="rId9"/>
          <a:stretch/>
        </p:blipFill>
        <p:spPr>
          <a:xfrm>
            <a:off x="4932360" y="1628640"/>
            <a:ext cx="161928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944"/>
                </a:solidFill>
                <a:latin typeface="Arial"/>
              </a:rPr>
              <a:t>Но на этом его поиск не кончается. Он создает каждый раз новые произведения-концепты. </a:t>
            </a:r>
            <a:br>
              <a:rPr sz="2400"/>
            </a:br>
            <a:endParaRPr b="1" lang="en-US" sz="24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803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d4337"/>
                </a:solidFill>
                <a:latin typeface="Georgia"/>
              </a:rPr>
              <a:t>Когда умирают кони – дышат,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d4337"/>
                </a:solidFill>
                <a:latin typeface="Georgia"/>
              </a:rPr>
              <a:t>Когда умирают травы – сохнут,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d4337"/>
                </a:solidFill>
                <a:latin typeface="Georgia"/>
              </a:rPr>
              <a:t>Когда умирают солнца – они гаснут,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d4337"/>
                </a:solidFill>
                <a:latin typeface="Georgia"/>
              </a:rPr>
              <a:t>Когда умирают люди – поют песни.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d4337"/>
                </a:solidFill>
                <a:latin typeface="Georgia"/>
              </a:rPr>
              <a:t>О достоевскиймо бегущей тучи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d4337"/>
                </a:solidFill>
                <a:latin typeface="Georgia"/>
              </a:rPr>
              <a:t>О пушкиноты млеющего полдня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d4337"/>
                </a:solidFill>
                <a:latin typeface="Georgia"/>
              </a:rPr>
              <a:t>Ночь смотрится, как Тютчев,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d4337"/>
                </a:solidFill>
                <a:latin typeface="Georgia"/>
              </a:rPr>
              <a:t>Замерное безмерным полня.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6360" y="5733000"/>
            <a:ext cx="81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Высокая степень компрессии - описание целого мироздания.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6553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Умночий сияний межзвездных,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Низлетев,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Мне подал разверзстую книгу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Досмертных письмен, что прочерчены роком,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Что не ведала ржа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И не ведает лжа.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Узрел роковые завитки.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Что сталось со мной?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Упал и рыдал.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В тиховейности полей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Я только рыдал,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Я только рыдал.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Иное что было в моготе?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276880" y="260280"/>
            <a:ext cx="3867120" cy="6237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9280" y="6021360"/>
            <a:ext cx="539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</a:rPr>
              <a:t>думошь, сиявое, сиявица, красочий, доброчий, злобочий, слабочий, охочий, писавица, знаймо</a:t>
            </a:r>
            <a:r>
              <a:rPr b="0" lang="en-US" sz="1600" spc="-1" strike="noStrike">
                <a:solidFill>
                  <a:srgbClr val="a50021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4653000"/>
            <a:ext cx="84960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d4944"/>
                </a:solidFill>
                <a:latin typeface="Broadway"/>
              </a:rPr>
              <a:t>«и понял я, что я никем не видим»</a:t>
            </a:r>
            <a:br>
              <a:rPr sz="4000"/>
            </a:b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4337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1d4337"/>
                </a:solidFill>
                <a:latin typeface="Georgia"/>
              </a:rPr>
              <a:t>Несмотря на все толкования, порой замечательные, Хлебников остается загадочным и непостижимым или недостижимым. Кажется мы приближаемся к нему, но он уходит, как линия горизонта.</a:t>
            </a:r>
            <a:r>
              <a:rPr b="0" lang="ru-RU" sz="32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Поэзия Хлебникова в основном тяготеет к эпосу ‹...›. Хлебников обычно не раскрывает своего внутреннего мира, своих переживаний в лирических жанрах. Даже его небольшие стихотворения кажутся фрагментами какого-то незавершенного эпоса. Поэтому и в лирике Хлебникова нередко отсутствует лирический герой. Поэт стремится к охвату событий, эпох, народов, включаемых как бы во вневременное создание. Лирика Хлебникова чаще всего — это фрагменты, размышления, зарисовки природы, говорящие не столько о личности поэта, сколько о тех картинах и явлениях мира, которые отражаются в его создании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91240" y="558864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Н. Степанов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4944"/>
                </a:solidFill>
                <a:latin typeface="Arial"/>
              </a:rPr>
              <a:t>Колумб новых поэтических материков, ныне заселенных и возделываемых нами …</a:t>
            </a:r>
            <a:br>
              <a:rPr sz="2000"/>
            </a:br>
            <a:r>
              <a:rPr b="1" lang="ru-RU" sz="2000" spc="-1" strike="noStrike">
                <a:solidFill>
                  <a:srgbClr val="1d4944"/>
                </a:solidFill>
                <a:latin typeface="Arial"/>
              </a:rPr>
              <a:t>В.Маяковский</a:t>
            </a:r>
            <a:br>
              <a:rPr sz="2000"/>
            </a:br>
            <a:endParaRPr b="1" lang="en-US" sz="2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Мы хотим, чтобы слово смело пошло за живописью (задача обновления искусства)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Живописное начало становится неотъемлемой составляющей образа лирического героя, связывается с лирическим сюжетом, с заданным в свернутом виде повествованием 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В некоторых случаях в стихотворении создается словесный образ живописного полотна, портрета, иконы, создается аллюзия на известную картину, живописный образ 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Живописцы будетляне любят пользоваться частями тел, разрезами, а будетляне речетворцы разрубленными словами, полусловами и их причудливыми хитрыми сочетаниями (заумный язык) 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Гласные мы понимаем как время и пространство (характер устремления), согласные — краска, звук, запах 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интересно прежде всего «мерцание» (принципиальная неоднозначность) смысла; слова для него — «живые глаза для тайны», они «особенно сильны», когда «через слюду обыденного смысла просвечивает второй смысл» 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d4944"/>
                </a:solidFill>
                <a:latin typeface="Georgia"/>
              </a:rPr>
              <a:t>Цвето-звуковой словарик: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5616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В заметках, сопровождавших стихотворение «Звукопись» (1921), он отмечал: </a:t>
            </a:r>
            <a:r>
              <a:rPr b="0" i="1" lang="ru-RU" sz="2400" spc="-1" strike="noStrike">
                <a:solidFill>
                  <a:srgbClr val="1d4337"/>
                </a:solidFill>
                <a:latin typeface="Arial"/>
              </a:rPr>
              <a:t>«м 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— синий цвет, </a:t>
            </a:r>
            <a:r>
              <a:rPr b="0" i="1" lang="ru-RU" sz="2400" spc="-1" strike="noStrike">
                <a:solidFill>
                  <a:srgbClr val="1d4337"/>
                </a:solidFill>
                <a:latin typeface="Arial"/>
              </a:rPr>
              <a:t>л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— белый, слоновая кость, </a:t>
            </a:r>
            <a:r>
              <a:rPr b="0" i="1" lang="ru-RU" sz="2400" spc="-1" strike="noStrike">
                <a:solidFill>
                  <a:srgbClr val="1d4337"/>
                </a:solidFill>
                <a:latin typeface="Arial"/>
              </a:rPr>
              <a:t>ч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 — железный, </a:t>
            </a:r>
            <a:r>
              <a:rPr b="0" i="1" lang="ru-RU" sz="2400" spc="-1" strike="noStrike">
                <a:solidFill>
                  <a:srgbClr val="1d4337"/>
                </a:solidFill>
                <a:latin typeface="Arial"/>
              </a:rPr>
              <a:t>б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 — красный, рдяный, </a:t>
            </a:r>
            <a:r>
              <a:rPr b="0" i="1" lang="ru-RU" sz="2400" spc="-1" strike="noStrike">
                <a:solidFill>
                  <a:srgbClr val="1d4337"/>
                </a:solidFill>
                <a:latin typeface="Arial"/>
              </a:rPr>
              <a:t>з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 — золотой, </a:t>
            </a:r>
            <a:r>
              <a:rPr b="0" i="1" lang="ru-RU" sz="2400" spc="-1" strike="noStrike">
                <a:solidFill>
                  <a:srgbClr val="1d4337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 — черный с красным оттенком, </a:t>
            </a:r>
            <a:r>
              <a:rPr b="0" i="1" lang="ru-RU" sz="2400" spc="-1" strike="noStrike">
                <a:solidFill>
                  <a:srgbClr val="1d4337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 — небесно-голубой, голубо-зеленый, </a:t>
            </a:r>
            <a:r>
              <a:rPr b="0" i="1" lang="ru-RU" sz="2400" spc="-1" strike="noStrike">
                <a:solidFill>
                  <a:srgbClr val="1d4337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 — нежно-красных цветов»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Подобные мысли о соответствии звука цвету высказывались в свое время М.Ломоносовым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508720" y="1557360"/>
            <a:ext cx="36352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916000" y="260280"/>
            <a:ext cx="622764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5692b"/>
                </a:solidFill>
                <a:latin typeface="Book Antiqua"/>
              </a:rPr>
              <a:t>Бобэόбипелись</a:t>
            </a:r>
            <a:r>
              <a:rPr b="1" lang="ru-RU" sz="2400" spc="-1" strike="noStrike">
                <a:solidFill>
                  <a:srgbClr val="15692b"/>
                </a:solidFill>
                <a:latin typeface="Book Antiqua"/>
              </a:rPr>
              <a:t> г</a:t>
            </a:r>
            <a:r>
              <a:rPr b="1" i="1" lang="ru-RU" sz="2400" spc="-1" strike="noStrike">
                <a:solidFill>
                  <a:srgbClr val="15692b"/>
                </a:solidFill>
                <a:latin typeface="Book Antiqua"/>
              </a:rPr>
              <a:t>убы</a:t>
            </a:r>
            <a:r>
              <a:rPr b="1" lang="ru-RU" sz="2400" spc="-1" strike="noStrike">
                <a:solidFill>
                  <a:srgbClr val="15692b"/>
                </a:solidFill>
                <a:latin typeface="Book Antiqua"/>
              </a:rPr>
              <a:t>,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5692b"/>
                </a:solidFill>
                <a:latin typeface="Book Antiqua"/>
              </a:rPr>
              <a:t>Вээόми</a:t>
            </a:r>
            <a:r>
              <a:rPr b="1" lang="ru-RU" sz="2400" spc="-1" strike="noStrike">
                <a:solidFill>
                  <a:srgbClr val="15692b"/>
                </a:solidFill>
                <a:latin typeface="Book Antiqua"/>
              </a:rPr>
              <a:t> </a:t>
            </a:r>
            <a:r>
              <a:rPr b="1" i="1" lang="ru-RU" sz="2400" spc="-1" strike="noStrike">
                <a:solidFill>
                  <a:srgbClr val="15692b"/>
                </a:solidFill>
                <a:latin typeface="Book Antiqua"/>
              </a:rPr>
              <a:t>пелись</a:t>
            </a:r>
            <a:r>
              <a:rPr b="1" lang="ru-RU" sz="2400" spc="-1" strike="noStrike">
                <a:solidFill>
                  <a:srgbClr val="15692b"/>
                </a:solidFill>
                <a:latin typeface="Book Antiqua"/>
              </a:rPr>
              <a:t> </a:t>
            </a:r>
            <a:r>
              <a:rPr b="1" i="1" lang="ru-RU" sz="2400" spc="-1" strike="noStrike">
                <a:solidFill>
                  <a:srgbClr val="15692b"/>
                </a:solidFill>
                <a:latin typeface="Book Antiqua"/>
              </a:rPr>
              <a:t>взоры</a:t>
            </a:r>
            <a:r>
              <a:rPr b="1" lang="ru-RU" sz="2400" spc="-1" strike="noStrike">
                <a:solidFill>
                  <a:srgbClr val="15692b"/>
                </a:solidFill>
                <a:latin typeface="Book Antiqua"/>
              </a:rPr>
              <a:t>,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5692b"/>
                </a:solidFill>
                <a:latin typeface="Book Antiqua"/>
              </a:rPr>
              <a:t>Пиэээо</a:t>
            </a:r>
            <a:r>
              <a:rPr b="1" lang="ru-RU" sz="2400" spc="-1" strike="noStrike">
                <a:solidFill>
                  <a:srgbClr val="15692b"/>
                </a:solidFill>
                <a:latin typeface="Book Antiqua"/>
              </a:rPr>
              <a:t> — </a:t>
            </a:r>
            <a:r>
              <a:rPr b="1" i="1" lang="ru-RU" sz="2400" spc="-1" strike="noStrike">
                <a:solidFill>
                  <a:srgbClr val="15692b"/>
                </a:solidFill>
                <a:latin typeface="Book Antiqua"/>
              </a:rPr>
              <a:t>пелись</a:t>
            </a:r>
            <a:r>
              <a:rPr b="1" lang="ru-RU" sz="2400" spc="-1" strike="noStrike">
                <a:solidFill>
                  <a:srgbClr val="15692b"/>
                </a:solidFill>
                <a:latin typeface="Book Antiqua"/>
              </a:rPr>
              <a:t> </a:t>
            </a:r>
            <a:r>
              <a:rPr b="1" i="1" lang="ru-RU" sz="2400" spc="-1" strike="noStrike">
                <a:solidFill>
                  <a:srgbClr val="15692b"/>
                </a:solidFill>
                <a:latin typeface="Book Antiqua"/>
              </a:rPr>
              <a:t>брови</a:t>
            </a:r>
            <a:r>
              <a:rPr b="1" lang="ru-RU" sz="2400" spc="-1" strike="noStrike">
                <a:solidFill>
                  <a:srgbClr val="15692b"/>
                </a:solidFill>
                <a:latin typeface="Book Antiqua"/>
              </a:rPr>
              <a:t>,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5692b"/>
                </a:solidFill>
                <a:latin typeface="Book Antiqua"/>
              </a:rPr>
              <a:t>Лиэээй</a:t>
            </a:r>
            <a:r>
              <a:rPr b="1" lang="ru-RU" sz="2400" spc="-1" strike="noStrike">
                <a:solidFill>
                  <a:srgbClr val="15692b"/>
                </a:solidFill>
                <a:latin typeface="Book Antiqua"/>
              </a:rPr>
              <a:t>—</a:t>
            </a:r>
            <a:r>
              <a:rPr b="1" i="1" lang="ru-RU" sz="2400" spc="-1" strike="noStrike">
                <a:solidFill>
                  <a:srgbClr val="15692b"/>
                </a:solidFill>
                <a:latin typeface="Book Antiqua"/>
              </a:rPr>
              <a:t>пелся</a:t>
            </a:r>
            <a:r>
              <a:rPr b="1" lang="ru-RU" sz="2400" spc="-1" strike="noStrike">
                <a:solidFill>
                  <a:srgbClr val="15692b"/>
                </a:solidFill>
                <a:latin typeface="Book Antiqua"/>
              </a:rPr>
              <a:t> </a:t>
            </a:r>
            <a:r>
              <a:rPr b="1" i="1" lang="ru-RU" sz="2400" spc="-1" strike="noStrike">
                <a:solidFill>
                  <a:srgbClr val="15692b"/>
                </a:solidFill>
                <a:latin typeface="Book Antiqua"/>
              </a:rPr>
              <a:t>обли</a:t>
            </a:r>
            <a:r>
              <a:rPr b="1" lang="ru-RU" sz="2400" spc="-1" strike="noStrike">
                <a:solidFill>
                  <a:srgbClr val="15692b"/>
                </a:solidFill>
                <a:latin typeface="Book Antiqua"/>
              </a:rPr>
              <a:t>к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5692b"/>
                </a:solidFill>
                <a:latin typeface="Book Antiqua"/>
              </a:rPr>
              <a:t>Гзи-гзи-гзэо</a:t>
            </a:r>
            <a:r>
              <a:rPr b="1" lang="ru-RU" sz="2400" spc="-1" strike="noStrike">
                <a:solidFill>
                  <a:srgbClr val="15692b"/>
                </a:solidFill>
                <a:latin typeface="Book Antiqua"/>
              </a:rPr>
              <a:t> </a:t>
            </a:r>
            <a:r>
              <a:rPr b="1" i="1" lang="ru-RU" sz="2400" spc="-1" strike="noStrike">
                <a:solidFill>
                  <a:srgbClr val="15692b"/>
                </a:solidFill>
                <a:latin typeface="Book Antiqua"/>
              </a:rPr>
              <a:t>пелась</a:t>
            </a:r>
            <a:r>
              <a:rPr b="1" lang="ru-RU" sz="2400" spc="-1" strike="noStrike">
                <a:solidFill>
                  <a:srgbClr val="15692b"/>
                </a:solidFill>
                <a:latin typeface="Book Antiqua"/>
              </a:rPr>
              <a:t> ц</a:t>
            </a:r>
            <a:r>
              <a:rPr b="1" i="1" lang="ru-RU" sz="2400" spc="-1" strike="noStrike">
                <a:solidFill>
                  <a:srgbClr val="15692b"/>
                </a:solidFill>
                <a:latin typeface="Book Antiqua"/>
              </a:rPr>
              <a:t>еп</a:t>
            </a:r>
            <a:r>
              <a:rPr b="1" lang="ru-RU" sz="2400" spc="-1" strike="noStrike">
                <a:solidFill>
                  <a:srgbClr val="15692b"/>
                </a:solidFill>
                <a:latin typeface="Book Antiqua"/>
              </a:rPr>
              <a:t>ь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5692b"/>
                </a:solidFill>
                <a:latin typeface="Book Antiqua"/>
              </a:rPr>
              <a:t>Так на холсте каких-то соответствий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5692b"/>
                </a:solidFill>
                <a:latin typeface="Book Antiqua"/>
              </a:rPr>
              <a:t>Вне протяжения жило Лицо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3500280"/>
            <a:ext cx="6228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852640"/>
            <a:ext cx="665964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d4337"/>
                </a:solidFill>
                <a:latin typeface="Book Antiqua"/>
              </a:rPr>
              <a:t>На что похоже?</a:t>
            </a: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d4337"/>
                </a:solidFill>
                <a:latin typeface="Book Antiqua"/>
              </a:rPr>
              <a:t>Каковы детали портрета?</a:t>
            </a: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d4337"/>
                </a:solidFill>
                <a:latin typeface="Book Antiqua"/>
              </a:rPr>
              <a:t>Какими средствами они создаются?</a:t>
            </a: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d4337"/>
                </a:solidFill>
                <a:latin typeface="Book Antiqua"/>
              </a:rPr>
              <a:t> </a:t>
            </a:r>
            <a:r>
              <a:rPr b="1" i="1" lang="ru-RU" sz="2200" spc="-1" strike="noStrike">
                <a:solidFill>
                  <a:srgbClr val="1d4337"/>
                </a:solidFill>
                <a:latin typeface="Book Antiqua"/>
              </a:rPr>
              <a:t>(словесно-звуковая образность: повтор гласных, сонорных, звонких, губных)</a:t>
            </a: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d4337"/>
                </a:solidFill>
                <a:latin typeface="Book Antiqua"/>
              </a:rPr>
              <a:t>Каков положительный момент этой стилизации?</a:t>
            </a: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d4337"/>
                </a:solidFill>
                <a:latin typeface="Book Antiqua"/>
              </a:rPr>
              <a:t>В чем проявление футуристической традиции?</a:t>
            </a: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d4337"/>
                </a:solidFill>
                <a:latin typeface="Book Antiqua"/>
              </a:rPr>
              <a:t>В чем метафоричность, «мерцание» смысла?</a:t>
            </a: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d4337"/>
                </a:solidFill>
                <a:latin typeface="Book Antiqua"/>
              </a:rPr>
              <a:t>Что вы можете сказать о левой и правой сторонах стихотворения?</a:t>
            </a: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580000" y="2482920"/>
            <a:ext cx="371340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944"/>
                </a:solidFill>
                <a:latin typeface="Georgia"/>
              </a:rPr>
              <a:t>Хлебников, конечно, не просто пишет стихи, а создает новую систему поэзии.</a:t>
            </a: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Язык становится основанием новой поэтики, в то время как раньше основанием служили тематика, формы, жанры. Отдельное слово уже несет в себе поэзию («слово как таковое»), отдельный звук – уже поэзия. Он предлагает действовать «наималами» («наимал слуха», «наимал ума»), то есть мельчайшими единицами. Через наималы можно, по его мысли, проникнуть в ЗА-слово, найти прямой вход в денотат, в означаемое. Его поиски в этом направлении оказываются родственными лингвистическим поискам – от Фердинанда де Соссюра до Бодуэна де Куртенэ. И поскольку это был поиск поэта – филолога – историософа – орнитолога – математика в одном лице, то многие его произведения становились своего рода поэтическими трактатами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4716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d4337"/>
                </a:solidFill>
                <a:latin typeface="Arial"/>
              </a:rPr>
              <a:t>Напряжение между словом-звуком и словом-понятием поэт разрешает различными путями. Один из них – обращение к палиндрому. </a:t>
            </a:r>
            <a:endParaRPr b="0" lang="en-US" sz="2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d4337"/>
                </a:solidFill>
                <a:latin typeface="Arial"/>
              </a:rPr>
              <a:t>Палиндром он трактовал «как отраженные лучи будущего, брошенные подсознательным «Я» на разумное небо». Это сокращение пути к подсознанию из подсознания. </a:t>
            </a:r>
            <a:endParaRPr b="0" lang="en-US" sz="2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d4337"/>
                </a:solidFill>
                <a:latin typeface="Arial"/>
              </a:rPr>
              <a:t>Хлебников впервые в русской поэзии применил палиндром в качестве строительного материала для стихотворения большой протяженности. В 1920 году он напишет таким стихом целую поэму «Разин» </a:t>
            </a:r>
            <a:endParaRPr b="0" lang="en-US" sz="2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095800" y="0"/>
            <a:ext cx="40482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525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«Кони, топот, инок, </a:t>
            </a: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Но не речь, а черен он. </a:t>
            </a: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Идем, молод, долом меди. </a:t>
            </a: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Чин зван мечем навзничь. </a:t>
            </a: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Голод, чем меч долог?… </a:t>
            </a: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Пал, а норов худ и дух ворона лап. </a:t>
            </a: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А что? Я лов? Воля отча! </a:t>
            </a: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Яд, яд, дядя! </a:t>
            </a: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Иди, иди! </a:t>
            </a: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Мороз в узел, лезу взором. </a:t>
            </a: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Солов зов, воз волос. </a:t>
            </a: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Колесо. Желко поклаж. Оселок. </a:t>
            </a: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Сани плот, и воз зов и толп и нас. </a:t>
            </a: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Горд дох, ход дрог. </a:t>
            </a: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И лежу. Ужели? </a:t>
            </a: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Зол гол лог лоз. </a:t>
            </a: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И к вам и трем с Смерти Мавки».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10" name="" descr="В. Хлебников был убежден, что в палиндромной строчке &quot;Чин зван мечем навзничь&quot; он предрек Первую мировую войну. "/>
          <p:cNvPicPr/>
          <p:nvPr/>
        </p:nvPicPr>
        <p:blipFill>
          <a:blip r:embed="rId2"/>
          <a:stretch/>
        </p:blipFill>
        <p:spPr>
          <a:xfrm>
            <a:off x="6156360" y="1700280"/>
            <a:ext cx="2176560" cy="2808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724360" y="4507560"/>
            <a:ext cx="3203640" cy="19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Times New Roman"/>
              </a:rPr>
              <a:t>В. Хлебников был убежден, что в палиндромной строчке "Чин зван мечем навзничь" он предрек Первую мировую войну 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944"/>
                </a:solidFill>
                <a:latin typeface="Book Antiqua"/>
              </a:rPr>
              <a:t>«Пен пан» – выход к анаграмматизму в письменном выражении и к паронимии – в звуковом</a:t>
            </a: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4537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У вод я подумал о бесе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И о себе,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Над озером сидя на пне.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Со мной разговаривал пен пан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И </a:t>
            </a:r>
            <a:r>
              <a:rPr b="0" lang="ru-RU" sz="1800" spc="-1" strike="noStrike" u="sng">
                <a:solidFill>
                  <a:srgbClr val="7a8e32"/>
                </a:solidFill>
                <a:uFillTx/>
                <a:latin typeface="Arial"/>
                <a:hlinkClick r:id="rId2"/>
              </a:rPr>
              <a:t>взора озерного жемчуг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Бросает воздушный, могуч меж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Ивы,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Большой, как и вы.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И много невестнейших вдов вод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Преследовал ум мой, как овод,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Я, брезгая, брызгаю ими. 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Мое восклицалося имя —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Шепча, </a:t>
            </a:r>
            <a:r>
              <a:rPr b="0" lang="ru-RU" sz="1800" spc="-1" strike="noStrike" u="sng">
                <a:solidFill>
                  <a:srgbClr val="7a8e32"/>
                </a:solidFill>
                <a:uFillTx/>
                <a:latin typeface="Arial"/>
                <a:hlinkClick r:id="rId3"/>
              </a:rPr>
              <a:t>изрицал</a:t>
            </a: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 его воздух.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Сквозь воздух умчаться не худ зов.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Я озеро бил на осколки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И после расспрашивал: «Сколько?»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И мир был прекрасно улыбен,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Но многого этого не было.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И свист пролетевших </a:t>
            </a:r>
            <a:r>
              <a:rPr b="0" lang="ru-RU" sz="1800" spc="-1" strike="noStrike" u="sng">
                <a:solidFill>
                  <a:srgbClr val="7a8e32"/>
                </a:solidFill>
                <a:uFillTx/>
                <a:latin typeface="Arial"/>
                <a:hlinkClick r:id="rId4"/>
              </a:rPr>
              <a:t>копыток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Напомнил мне много попыток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Прогнать исчезающий нечет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Среди исчезавших течений. 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48360" y="1700280"/>
            <a:ext cx="28796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ad49"/>
                </a:solidFill>
                <a:latin typeface="Arial"/>
              </a:rPr>
              <a:t>Прекрасные жемчужные глаза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ad49"/>
                </a:solidFill>
                <a:latin typeface="Arial"/>
              </a:rPr>
              <a:t>Изрекал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ad49"/>
                </a:solidFill>
                <a:latin typeface="Arial"/>
              </a:rPr>
              <a:t>Птицы, обитающие в пустынях и полупустынях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6227640" y="3213000"/>
            <a:ext cx="2476800" cy="34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23:30:03Z</dcterms:created>
  <dc:creator>Лицей</dc:creator>
  <dc:description/>
  <cp:keywords/>
  <dc:language>en-US</dc:language>
  <cp:lastModifiedBy>Домашний компьютер</cp:lastModifiedBy>
  <dcterms:modified xsi:type="dcterms:W3CDTF">2010-09-13T18:40:30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51049</vt:lpwstr>
  </property>
</Properties>
</file>