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D06-51CB-41AA-9D25-3F2E5668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DD4-D465-466C-AB0C-9A39BAC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49E-F1B9-4757-A704-B3183820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376-5658-41AB-804D-C9CE68CA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23C-1B34-4F36-9209-A596E22C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AEC-B1A5-4032-803E-197CCD3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69AB-FD33-467A-B3DD-AD5E9C0E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9689-A44E-4B6B-BB5F-7828F88E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FD01-1E14-4F26-9ADD-C5F02794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0420-822C-4154-B5CE-3FEA84A0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7ADC-7CDF-4A59-B80D-90A1185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CD2-C2C4-4790-9A3F-BF9AC231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FF17-D5AE-4C09-8530-052C9812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FF0A-4941-4DAA-97B2-73E2698B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EBC9-0B02-4594-B85E-0E603E03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C45A-91E1-4DF2-9862-719A41D2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7938-C136-4ED6-A8F4-8B2E80BC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D1A-4075-46E5-A4A4-2521D507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4DA-7C6A-4E71-A2EE-C8E3C8A3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0A4-CB15-451E-8707-B3F0A2A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6E7-EF81-41E2-AF4D-95F8E9A2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12E-A813-48DA-8B9E-54CFCBFB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BA5-0D10-4EA4-B779-42E39413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DE9-3A7C-4969-B0AD-3BA62D3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BAD4-A9ED-432D-BD1A-5E3DE0F52325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DD74-EB76-4AF0-A81A-6E20B05810BE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vb.ru/hlebnikov/tvorprim/086.htm#Slide 1" TargetMode="External"/><Relationship Id="rId3" Type="http://schemas.openxmlformats.org/officeDocument/2006/relationships/hyperlink" Target="http://www.rvb.ru/hlebnikov/tvorprim/086.htm#Slide 2" TargetMode="External"/><Relationship Id="rId4" Type="http://schemas.openxmlformats.org/officeDocument/2006/relationships/hyperlink" Target="http://www.rvb.ru/hlebnikov/tvorprim/086.htm#Slide 3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508280"/>
            <a:ext cx="80643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d4944"/>
                </a:solidFill>
                <a:latin typeface="Book Antiqua"/>
              </a:rPr>
              <a:t>ВЕЛЕМИР ХЛЕБНИКОВ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684360" y="5444640"/>
            <a:ext cx="806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1d4337"/>
                </a:solidFill>
                <a:latin typeface="Georgia"/>
              </a:rPr>
              <a:t>«Новое зрение» поэта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1573200" cy="2181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35280" y="0"/>
            <a:ext cx="179064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458120" y="333360"/>
            <a:ext cx="168588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3335400" cy="4446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124760" y="459108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В. Хлебников. Портрет работы В. Бурлюка. 1910-"/>
          <p:cNvPicPr/>
          <p:nvPr/>
        </p:nvPicPr>
        <p:blipFill>
          <a:blip r:embed="rId7"/>
          <a:stretch/>
        </p:blipFill>
        <p:spPr>
          <a:xfrm rot="21211800">
            <a:off x="3492360" y="2565360"/>
            <a:ext cx="1619280" cy="208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 rot="795600">
            <a:off x="6732360" y="2204640"/>
            <a:ext cx="1900080" cy="244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Велимир Хлебников. Фотография с черепом"/>
          <p:cNvPicPr/>
          <p:nvPr/>
        </p:nvPicPr>
        <p:blipFill>
          <a:blip r:embed="rId9"/>
          <a:stretch/>
        </p:blipFill>
        <p:spPr>
          <a:xfrm>
            <a:off x="4932360" y="1628640"/>
            <a:ext cx="16192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Arial"/>
              </a:rPr>
              <a:t>Но на этом его поиск не кончается. Он создает каждый раз новые произведения-концепты. </a:t>
            </a:r>
            <a:br>
              <a:rPr sz="2400"/>
            </a:br>
            <a:endParaRPr b="1" lang="en-US" sz="24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Когда умирают кони – дышат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Когда умирают травы – сохнут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Когда умирают солнца – они гаснут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Когда умирают люди – поют песни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О достоевскиймо бегущей тучи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О пушкиноты млеющего полдня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Ночь смотрится, как Тютчев,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d4337"/>
                </a:solidFill>
                <a:latin typeface="Georgia"/>
              </a:rPr>
              <a:t>Замерное безмерным полня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360" y="5733000"/>
            <a:ext cx="81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Высокая степень компрессии - описание целого мироздания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655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Умночий сияний межзвездных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Низлетев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Мне подал разверзстую книгу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Досмертных письмен, что прочерчены роком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Что не ведала ржа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И не ведает лжа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Узрел роковые завитки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Что сталось со мной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Упал и рыдал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В тиховейности полей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Я только рыдал,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Я только рыдал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Иное что было в моготе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276880" y="260280"/>
            <a:ext cx="3867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6021360"/>
            <a:ext cx="539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</a:rPr>
              <a:t>думошь, сиявое, сиявица, красочий, доброчий, злобочий, слабочий, охочий, писавица, знаймо</a:t>
            </a:r>
            <a:r>
              <a:rPr b="0" lang="en-US" sz="1600" spc="-1" strike="noStrike">
                <a:solidFill>
                  <a:srgbClr val="a50021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4960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Broadway"/>
              </a:rPr>
              <a:t>«и понял я, что я никем не видим»</a:t>
            </a:r>
            <a:br>
              <a:rPr sz="4000"/>
            </a:b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1d4337"/>
                </a:solidFill>
                <a:latin typeface="Georgia"/>
              </a:rPr>
              <a:t>Несмотря на все толкования, порой замечательные, Хлебников остается загадочным и непостижимым или недостижимым. Кажется мы приближаемся к нему, но он уходит, как линия горизонта.</a:t>
            </a:r>
            <a:r>
              <a:rPr b="0" lang="ru-RU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оэзия Хлебникова в основном тяготеет к эпосу ‹...›. Хлебников обычно не раскрывает своего внутреннего мира, своих переживаний в лирических жанрах. Даже его небольшие стихотворения кажутся фрагментами какого-то незавершенного эпоса. Поэтому и в лирике Хлебникова нередко отсутствует лирический герой. Поэт стремится к охвату событий, эпох, народов, включаемых как бы во вневременное создание. Лирика Хлебникова чаще всего — это фрагменты, размышления, зарисовки природы, говорящие не столько о личности поэта, сколько о тех картинах и явлениях мира, которые отражаются в его создании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91240" y="55886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Н. Степанов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944"/>
                </a:solidFill>
                <a:latin typeface="Arial"/>
              </a:rPr>
              <a:t>Колумб новых поэтических материков, ныне заселенных и возделываемых нами …</a:t>
            </a:r>
            <a:br>
              <a:rPr sz="2000"/>
            </a:br>
            <a:r>
              <a:rPr b="1" lang="ru-RU" sz="2000" spc="-1" strike="noStrike">
                <a:solidFill>
                  <a:srgbClr val="1d4944"/>
                </a:solidFill>
                <a:latin typeface="Arial"/>
              </a:rPr>
              <a:t>В.Маяковский</a:t>
            </a:r>
            <a:br>
              <a:rPr sz="2000"/>
            </a:br>
            <a:endParaRPr b="1" lang="en-US" sz="2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Мы хотим, чтобы слово смело пошло за живописью (задача обновления искусства)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Живописное начало становится неотъемлемой составляющей образа лирического героя, связывается с лирическим сюжетом, с заданным в свернутом виде повествованием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В некоторых случаях в стихотворении создается словесный образ живописного полотна, портрета, иконы, создается аллюзия на известную картину, живописный образ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Живописцы будетляне любят пользоваться частями тел, разрезами, а будетляне речетворцы разрубленными словами, полусловами и их причудливыми хитрыми сочетаниями (заумный язык)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Гласные мы понимаем как время и пространство (характер устремления), согласные — краска, звук, запах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Arial"/>
              </a:rPr>
              <a:t>интересно прежде всего «мерцание» (принципиальная неоднозначность) смысла; слова для него — «живые глаза для тайны», они «особенно сильны», когда «через слюду обыденного смысла просвечивает второй смысл»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4944"/>
                </a:solidFill>
                <a:latin typeface="Georgia"/>
              </a:rPr>
              <a:t>Цвето-звуковой словарик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61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В заметках, сопровождавших стихотворение «Звукопись» (1921), он отмечал: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«м 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— синий цвет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— белый, слоновая кость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железный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красный, рдяный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золотой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черный с красным оттенком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небесно-голубой, голубо-зеленый, </a:t>
            </a:r>
            <a:r>
              <a:rPr b="0" i="1" lang="ru-RU" sz="2400" spc="-1" strike="noStrike">
                <a:solidFill>
                  <a:srgbClr val="1d4337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 — нежно-красных цветов»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Подобные мысли о соответствии звука цвету высказывались в свое время М.Ломоносовым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635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916000" y="260280"/>
            <a:ext cx="6227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Бобэόбипелись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г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убы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Вээόми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елись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взоры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иэээо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—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елись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брови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Лиэээй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—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елся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обли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к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Гзи-гзи-гзэо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пелась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 ц</a:t>
            </a: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еп</a:t>
            </a:r>
            <a:r>
              <a:rPr b="1" lang="ru-RU" sz="2400" spc="-1" strike="noStrike">
                <a:solidFill>
                  <a:srgbClr val="15692b"/>
                </a:solidFill>
                <a:latin typeface="Book Antiqua"/>
              </a:rPr>
              <a:t>ь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Так на холсте каких-то соответствий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5692b"/>
                </a:solidFill>
                <a:latin typeface="Book Antiqua"/>
              </a:rPr>
              <a:t>Вне протяжения жило Лицо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3500280"/>
            <a:ext cx="62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52640"/>
            <a:ext cx="66596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На что похоже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Каковы детали портрета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Какими средствами они создаются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 </a:t>
            </a: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(словесно-звуковая образность: повтор гласных, сонорных, звонких, губных)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Каков положительный момент этой стилизации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В чем проявление футуристической традиции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В чем метафоричность, «мерцание» смысла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d4337"/>
                </a:solidFill>
                <a:latin typeface="Book Antiqua"/>
              </a:rPr>
              <a:t>Что вы можете сказать о левой и правой сторонах стихотворения?</a:t>
            </a:r>
            <a:endParaRPr b="0" lang="en-US" sz="22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80000" y="2482920"/>
            <a:ext cx="37134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Georgia"/>
              </a:rPr>
              <a:t>Хлебников, конечно, не просто пишет стихи, а создает новую систему поэзии.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Arial"/>
              </a:rPr>
              <a:t>Язык становится основанием новой поэтики, в то время как раньше основанием служили тематика, формы, жанры. Отдельное слово уже несет в себе поэзию («слово как таковое»), отдельный звук – уже поэзия. Он предлагает действовать «наималами» («наимал слуха», «наимал ума»), то есть мельчайшими единицами. Через наималы можно, по его мысли, проникнуть в ЗА-слово, найти прямой вход в денотат, в означаемое. Его поиски в этом направлении оказываются родственными лингвистическим поискам – от Фердинанда де Соссюра до Бодуэна де Куртенэ. И поскольку это был поиск поэта – филолога – историософа – орнитолога – математика в одном лице, то многие его произведения становились своего рода поэтическими трактатами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71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Напряжение между словом-звуком и словом-понятием поэт разрешает различными путями. Один из них – обращение к палиндрому. 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Палиндром он трактовал «как отраженные лучи будущего, брошенные подсознательным «Я» на разумное небо». Это сокращение пути к подсознанию из подсознания. 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d4337"/>
                </a:solidFill>
                <a:latin typeface="Arial"/>
              </a:rPr>
              <a:t>Хлебников впервые в русской поэзии применил палиндром в качестве строительного материала для стихотворения большой протяженности. В 1920 году он напишет таким стихом целую поэму «Разин» </a:t>
            </a:r>
            <a:endParaRPr b="0" lang="en-US" sz="2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95800" y="0"/>
            <a:ext cx="404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525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«Кони, топот, инок,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Но не речь, а черен он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Идем, молод, долом меди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Чин зван мечем навзничь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Голод, чем меч долог?…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Пал, а норов худ и дух ворона лап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А что? Я лов? Воля отча!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Яд, яд, дядя!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Иди, иди!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Мороз в узел, лезу взором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Солов зов, воз волос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Колесо. Желко поклаж. Оселок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Сани плот, и воз зов и толп и нас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Горд дох, ход дрог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И лежу. Ужели?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Зол гол лог лоз. </a:t>
            </a: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И к вам и трем с Смерти Мавки».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d4337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" descr="В. Хлебников был убежден, что в палиндромной строчке &quot;Чин зван мечем навзничь&quot; он предрек Первую мировую войну. "/>
          <p:cNvPicPr/>
          <p:nvPr/>
        </p:nvPicPr>
        <p:blipFill>
          <a:blip r:embed="rId2"/>
          <a:stretch/>
        </p:blipFill>
        <p:spPr>
          <a:xfrm>
            <a:off x="6156360" y="1700280"/>
            <a:ext cx="217656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24360" y="4507560"/>
            <a:ext cx="320364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В. Хлебников был убежден, что в палиндромной строчке "Чин зван мечем навзничь" он предрек Первую мировую войну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Book Antiqua"/>
              </a:rPr>
              <a:t>«Пен пан» – выход к анаграмматизму в письменном выражении и к паронимии – в звуковом</a:t>
            </a:r>
            <a:r>
              <a:rPr b="1" lang="ru-RU" sz="3600" spc="-1" strike="noStrike">
                <a:solidFill>
                  <a:srgbClr val="1d494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У вод я подумал о бесе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о себе,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Над озером сидя на пне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Со мной разговаривал пен пан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Arial"/>
                <a:hlinkClick r:id="rId2"/>
              </a:rPr>
              <a:t>взора озерного жемчуг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Бросает воздушный, могуч меж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вы,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Большой, как и вы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много невестнейших вдов вод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Преследовал ум мой, как овод,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Я, брезгая, брызгаю ими.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Мое восклицалося имя —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Шепча, 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Arial"/>
                <a:hlinkClick r:id="rId3"/>
              </a:rPr>
              <a:t>изрицал</a:t>
            </a: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 его воздух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Сквозь воздух умчаться не худ зов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Я озеро бил на осколки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после расспрашивал: «Сколько?»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мир был прекрасно улыбен,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Но многого этого не было.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И свист пролетевших </a:t>
            </a:r>
            <a:r>
              <a:rPr b="0" lang="ru-RU" sz="1800" spc="-1" strike="noStrike" u="sng">
                <a:solidFill>
                  <a:srgbClr val="7a8e32"/>
                </a:solidFill>
                <a:uFillTx/>
                <a:latin typeface="Arial"/>
                <a:hlinkClick r:id="rId4"/>
              </a:rPr>
              <a:t>копыток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Напомнил мне много попыток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Прогнать исчезающий нечет</a:t>
            </a:r>
            <a:br>
              <a:rPr sz="1800"/>
            </a:br>
            <a:r>
              <a:rPr b="0" lang="ru-RU" sz="1800" spc="-1" strike="noStrike">
                <a:solidFill>
                  <a:srgbClr val="1d4337"/>
                </a:solidFill>
                <a:latin typeface="Arial"/>
              </a:rPr>
              <a:t>Среди исчезавших течений. 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1700280"/>
            <a:ext cx="2879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ad49"/>
                </a:solidFill>
                <a:latin typeface="Arial"/>
              </a:rPr>
              <a:t>Прекрасные жемчужные глаза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ad49"/>
                </a:solidFill>
                <a:latin typeface="Arial"/>
              </a:rPr>
              <a:t>Изрекал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ad49"/>
                </a:solidFill>
                <a:latin typeface="Arial"/>
              </a:rPr>
              <a:t>Птицы, обитающие в пустынях и полупустынях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227640" y="3213000"/>
            <a:ext cx="247680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3,105,2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-114,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23:30:03Z</dcterms:created>
  <dc:creator>Лицей</dc:creator>
  <dc:description/>
  <cp:keywords/>
  <dc:language>en-US</dc:language>
  <cp:lastModifiedBy>Домашний компьютер</cp:lastModifiedBy>
  <dcterms:modified xsi:type="dcterms:W3CDTF">2010-09-13T18:40:30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