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80D-6245-418F-A67B-9A84CCCBB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AF69-4935-49FB-9ED5-58A3DD2F8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C79-6C7C-4D32-B97C-C4FDC94B0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AA72-B54E-4757-9165-ECDFAA868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CCD-E27E-4C88-85E3-EDED5BD06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996-E454-4BCE-B7F3-A98FA8ADA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020-FEA3-4109-A264-119D2965C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7FE-E50A-4B8F-8C71-08531A839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588C-A5DC-4EA2-8A0F-5921D5C05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FD5-A6E8-4D3C-A491-ED38EE860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7DE-6DEC-40C9-9C0C-6A5D447E3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F89-5A88-44C9-AFED-DFADB496E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396-FD81-434C-B83B-72829D079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E6A-6539-4F44-9EE3-9343FA059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0F9-7923-491B-A733-681315FD4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37A7-BB78-4720-8EF9-B0AC33C9C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61CC-4D49-4757-B382-EADACED19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C2D-6421-4FDE-8120-F748D0B86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F7A-4D74-47C4-80E0-D69246434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4AC-78EB-4F38-9DDC-F7AE716C8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F13-B2A9-401B-9A2B-5E098940A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4C1-13A4-42D2-8D40-C3688E3D8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F0C2-EBF0-4991-8CE6-B4CD8D8F6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792-0A0E-47D1-8A3F-896DDE3F2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E66-EF6B-4E3F-AF2E-61DE64EA2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228-B0C5-4499-868F-85ADB17AF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4AFD-E312-4157-8B9F-0DAC3AA1E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4EB-5A85-4B82-8302-D34DB2DD8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6B58-67E9-46AD-A9BE-E088B6D39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4E-D33B-4E12-8971-7B74A219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01B-4165-43C9-BE45-3BAD387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FBB-EB30-43AE-92E2-AF31F03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AFB-D6B7-4157-914D-4911577D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7A6-FDDB-4800-966B-0D3637CA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8D9-B66D-4943-A3FF-D0E5126D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525-9134-4968-985D-E5311B3C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0D0-DEA4-4457-8A07-31FF1763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F05-AE12-495F-861F-2329187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343-6BC1-4011-AA08-8B5FF99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B90-4CF2-468C-BFF8-552D1CB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825-4A63-4542-A795-ADBFBF0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91E-B3AD-4B4E-A96D-85FAC9AE0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Поползень - 86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йка - 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Клёст - 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8 х 9 + 14 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ополз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пополз"/>
          <p:cNvPicPr/>
          <p:nvPr/>
        </p:nvPicPr>
        <p:blipFill>
          <a:blip r:embed="rId1"/>
          <a:stretch/>
        </p:blipFill>
        <p:spPr>
          <a:xfrm>
            <a:off x="395280" y="1268280"/>
            <a:ext cx="3457440" cy="345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поползень"/>
          <p:cNvPicPr/>
          <p:nvPr/>
        </p:nvPicPr>
        <p:blipFill>
          <a:blip r:embed="rId2"/>
          <a:stretch/>
        </p:blipFill>
        <p:spPr>
          <a:xfrm>
            <a:off x="4356000" y="256536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рока – 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Дятел - 65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Голубь – 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9 х 9 – 16 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ятел"/>
          <p:cNvPicPr/>
          <p:nvPr/>
        </p:nvPicPr>
        <p:blipFill>
          <a:blip r:embed="rId1"/>
          <a:stretch/>
        </p:blipFill>
        <p:spPr>
          <a:xfrm>
            <a:off x="2556000" y="404640"/>
            <a:ext cx="3517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Орел -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Ворона –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ва - 18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8 х 4 – 14 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сова"/>
          <p:cNvPicPr/>
          <p:nvPr/>
        </p:nvPicPr>
        <p:blipFill>
          <a:blip r:embed="rId1"/>
          <a:stretch/>
        </p:blipFill>
        <p:spPr>
          <a:xfrm>
            <a:off x="2843280" y="1484280"/>
            <a:ext cx="35719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_DSC1183+"/>
          <p:cNvPicPr/>
          <p:nvPr/>
        </p:nvPicPr>
        <p:blipFill>
          <a:blip r:embed="rId1"/>
          <a:stretch/>
        </p:blipFill>
        <p:spPr>
          <a:xfrm>
            <a:off x="1258920" y="3789360"/>
            <a:ext cx="2952720" cy="2822400"/>
          </a:xfrm>
          <a:prstGeom prst="rect">
            <a:avLst/>
          </a:prstGeom>
          <a:ln w="0">
            <a:noFill/>
          </a:ln>
        </p:spPr>
      </p:pic>
      <p:sp>
        <p:nvSpPr>
          <p:cNvPr id="89" name="Line 7"/>
          <p:cNvSpPr/>
          <p:nvPr/>
        </p:nvSpPr>
        <p:spPr>
          <a:xfrm>
            <a:off x="826920" y="692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83528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82692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          3           3          3          3          3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беркут"/>
          <p:cNvPicPr/>
          <p:nvPr/>
        </p:nvPicPr>
        <p:blipFill>
          <a:blip r:embed="rId1"/>
          <a:stretch/>
        </p:blipFill>
        <p:spPr>
          <a:xfrm>
            <a:off x="5148360" y="3860640"/>
            <a:ext cx="2952720" cy="269748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788508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7885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8893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уга 13"/>
          <p:cNvSpPr/>
          <p:nvPr/>
        </p:nvSpPr>
        <p:spPr>
          <a:xfrm rot="19645800">
            <a:off x="7462440" y="1193400"/>
            <a:ext cx="1443240" cy="6476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          3           3          3          3          3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3 х 6 = 18 (л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т: 18 лет живут берку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беркут"/>
          <p:cNvPicPr/>
          <p:nvPr/>
        </p:nvPicPr>
        <p:blipFill>
          <a:blip r:embed="rId1"/>
          <a:stretch/>
        </p:blipFill>
        <p:spPr>
          <a:xfrm>
            <a:off x="5148360" y="3860640"/>
            <a:ext cx="2952720" cy="26974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788508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7885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8893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3"/>
          <p:cNvSpPr/>
          <p:nvPr/>
        </p:nvSpPr>
        <p:spPr>
          <a:xfrm rot="19645800">
            <a:off x="7462440" y="1193400"/>
            <a:ext cx="1443240" cy="6476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82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орной мальч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сером армячиш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 двору шныря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рохи собир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бородатый неясыть"/>
          <p:cNvPicPr/>
          <p:nvPr/>
        </p:nvPicPr>
        <p:blipFill>
          <a:blip r:embed="rId1"/>
          <a:stretch/>
        </p:blipFill>
        <p:spPr>
          <a:xfrm>
            <a:off x="1403280" y="3500280"/>
            <a:ext cx="1965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          4           4          4          4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5" descr="куропатка"/>
          <p:cNvPicPr/>
          <p:nvPr/>
        </p:nvPicPr>
        <p:blipFill>
          <a:blip r:embed="rId1"/>
          <a:stretch/>
        </p:blipFill>
        <p:spPr>
          <a:xfrm>
            <a:off x="4788000" y="3933720"/>
            <a:ext cx="3529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          4           4          4          4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4 х 5 = 20 (п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т: 20 птенцов высиживает куропатка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6" descr="куропатка"/>
          <p:cNvPicPr/>
          <p:nvPr/>
        </p:nvPicPr>
        <p:blipFill>
          <a:blip r:embed="rId1"/>
          <a:stretch/>
        </p:blipFill>
        <p:spPr>
          <a:xfrm>
            <a:off x="4859280" y="3984480"/>
            <a:ext cx="3600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Picture 5" descr="_DSC1183+"/>
          <p:cNvPicPr/>
          <p:nvPr/>
        </p:nvPicPr>
        <p:blipFill>
          <a:blip r:embed="rId1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0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_DSC1183+"/>
          <p:cNvPicPr/>
          <p:nvPr/>
        </p:nvPicPr>
        <p:blipFill>
          <a:blip r:embed="rId2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5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F:\СОРОКА.jpeg"/>
          <p:cNvPicPr/>
          <p:nvPr/>
        </p:nvPicPr>
        <p:blipFill>
          <a:blip r:embed="rId2"/>
          <a:stretch/>
        </p:blipFill>
        <p:spPr>
          <a:xfrm>
            <a:off x="971640" y="3716280"/>
            <a:ext cx="296208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_DSC1183+"/>
          <p:cNvPicPr/>
          <p:nvPr/>
        </p:nvPicPr>
        <p:blipFill>
          <a:blip r:embed="rId3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692360" y="609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2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куропатка"/>
          <p:cNvPicPr/>
          <p:nvPr/>
        </p:nvPicPr>
        <p:blipFill>
          <a:blip r:embed="rId2"/>
          <a:stretch/>
        </p:blipFill>
        <p:spPr>
          <a:xfrm>
            <a:off x="4859280" y="3573360"/>
            <a:ext cx="3600360" cy="257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F:\СОРОКА.jpeg"/>
          <p:cNvPicPr/>
          <p:nvPr/>
        </p:nvPicPr>
        <p:blipFill>
          <a:blip r:embed="rId3"/>
          <a:stretch/>
        </p:blipFill>
        <p:spPr>
          <a:xfrm>
            <a:off x="971640" y="3716280"/>
            <a:ext cx="2962080" cy="2428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_DSC1183+"/>
          <p:cNvPicPr/>
          <p:nvPr/>
        </p:nvPicPr>
        <p:blipFill>
          <a:blip r:embed="rId4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692360" y="609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014520" y="609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ур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аш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6 х 4 = 24 (ящ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вет: 24 ящерицы съест   зимородок за 4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ш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4 х 6 = 24 (ящ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вет: 24 ящерицы съест   зимородок за 4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оробей"/>
          <p:cNvPicPr/>
          <p:nvPr/>
        </p:nvPicPr>
        <p:blipFill>
          <a:blip r:embed="rId1"/>
          <a:stretch/>
        </p:blipFill>
        <p:spPr>
          <a:xfrm>
            <a:off x="2411280" y="2133720"/>
            <a:ext cx="4608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ждый год я к вам лечу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имовать у вас хо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 ещё красней зи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Ярко красный галстук 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неги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снегирь"/>
          <p:cNvPicPr/>
          <p:nvPr/>
        </p:nvPicPr>
        <p:blipFill>
          <a:blip r:embed="rId1"/>
          <a:stretch/>
        </p:blipFill>
        <p:spPr>
          <a:xfrm>
            <a:off x="2268360" y="1773360"/>
            <a:ext cx="49676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3ecb2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снегир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и зад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Осенью воробей съедает 8 грамм зерна в день. Сколько граммов он съест за неделю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кормите птиц зи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усть со всех кон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 нам слетятся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айки на крыль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олько гибнет их – не с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идеть тяж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 ведь в нашем сердце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 для них теп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41:08Z</dcterms:created>
  <dc:creator>Наталья</dc:creator>
  <dc:description/>
  <dc:language>en-US</dc:language>
  <cp:lastModifiedBy>USER</cp:lastModifiedBy>
  <dcterms:modified xsi:type="dcterms:W3CDTF">2010-11-03T10:15:52Z</dcterms:modified>
  <cp:revision>13</cp:revision>
  <dc:subject/>
  <dc:title>Слайд 1</dc:title>
</cp:coreProperties>
</file>