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5F3-312E-472E-B42F-63EF34DC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98F-872E-4C5A-8EB2-6A5C1DB8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90A-D700-4100-A726-AEF799B9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759-BB60-490B-9FE6-BF122C03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651-4CBB-491D-ACD5-10CCB3E4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50F-B878-47B6-A2A2-79E12F68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B9D-09B4-4E04-BC43-13F25384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48B-3EF5-44BF-9EBE-6EBF6E20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954-2F2F-4F59-A897-D105577A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56A1-5C4D-47E8-8241-718FC2B8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B65-814E-4F23-9AA6-1C685501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D33-59EA-4EFC-ACD5-6B7785B6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1473-338B-49FD-AEEF-1094D87357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5449b08b1b751e2ec1ec1bcbb074da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3"/>
          <p:cNvSpPr/>
          <p:nvPr/>
        </p:nvSpPr>
        <p:spPr>
          <a:xfrm>
            <a:off x="142920" y="214200"/>
            <a:ext cx="435780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ШКОЛ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untitled bvhg.bmp"/>
          <p:cNvPicPr/>
          <p:nvPr/>
        </p:nvPicPr>
        <p:blipFill>
          <a:blip r:embed="rId2"/>
          <a:stretch/>
        </p:blipFill>
        <p:spPr>
          <a:xfrm>
            <a:off x="125280" y="1285920"/>
            <a:ext cx="8447400" cy="480852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2"/>
          <p:cNvSpPr/>
          <p:nvPr/>
        </p:nvSpPr>
        <p:spPr>
          <a:xfrm>
            <a:off x="4500720" y="5929200"/>
            <a:ext cx="357156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БУДУЩЕ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92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925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92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92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3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бильный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4" descr="kavkaz1.jpg"/>
          <p:cNvPicPr/>
          <p:nvPr/>
        </p:nvPicPr>
        <p:blipFill>
          <a:blip r:embed="rId2"/>
          <a:stretch/>
        </p:blipFill>
        <p:spPr>
          <a:xfrm>
            <a:off x="285840" y="4214880"/>
            <a:ext cx="3500280" cy="23382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март 2010 102.jpg"/>
          <p:cNvPicPr/>
          <p:nvPr/>
        </p:nvPicPr>
        <p:blipFill>
          <a:blip r:embed="rId3"/>
          <a:stretch/>
        </p:blipFill>
        <p:spPr>
          <a:xfrm>
            <a:off x="3143160" y="135720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0" descr="март 2010 100.jpg"/>
          <p:cNvPicPr/>
          <p:nvPr/>
        </p:nvPicPr>
        <p:blipFill>
          <a:blip r:embed="rId4"/>
          <a:stretch/>
        </p:blipFill>
        <p:spPr>
          <a:xfrm>
            <a:off x="5310360" y="4000680"/>
            <a:ext cx="35956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3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714240" y="1814400"/>
            <a:ext cx="7858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Times New Roman"/>
              </a:rPr>
              <a:t>ИНФОРМАЦИОННО-ОБРАЗОВАТЕЛЬНАЯ СРЕДА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Times New Roman"/>
              </a:rPr>
              <a:t>ВАЖНЕЙШИЙ КОМПОНЕНТ НОВОЙ СИСТЕМЫ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68664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апреле </a:t>
            </a: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2009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года губернатор края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алерий Гаевски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третился с президентом Сбербанка Росси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Германом Грефо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И в результате был достигнут ряд соглашений, в число которых вошел и проект оснащения банком одного из учебных заведений края современным компьютерным оборудованием на сумму 5 миллионов рублей. Выбор пал на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ОУ «Южно-российский лицей казачества и народов Кавказа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QTLKS3CAL2L1WACAMET2WNCAZ61WLQCAYJPG16CAKD4955CA8DYWRWCA4JUHKZCAPGOHZ3CAPD1F2HCAE6VCOQCAYBB0IRCAASJG05CAC435BBCATX8JUBCAUV30GFCAQLN297CAUTY2TNCAUIO8AKCA07RQIQ.jpg"/>
          <p:cNvPicPr/>
          <p:nvPr/>
        </p:nvPicPr>
        <p:blipFill>
          <a:blip r:embed="rId1"/>
          <a:stretch/>
        </p:blipFill>
        <p:spPr>
          <a:xfrm>
            <a:off x="214200" y="2214720"/>
            <a:ext cx="3071880" cy="241596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7" descr="KMO_094093_00069_1_t208.jpg"/>
          <p:cNvPicPr/>
          <p:nvPr/>
        </p:nvPicPr>
        <p:blipFill>
          <a:blip r:embed="rId2"/>
          <a:stretch/>
        </p:blipFill>
        <p:spPr>
          <a:xfrm>
            <a:off x="5786280" y="2286000"/>
            <a:ext cx="3156120" cy="2428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untitled2.bmp"/>
          <p:cNvPicPr/>
          <p:nvPr/>
        </p:nvPicPr>
        <p:blipFill>
          <a:blip r:embed="rId3"/>
          <a:stretch/>
        </p:blipFill>
        <p:spPr>
          <a:xfrm>
            <a:off x="3214800" y="4000680"/>
            <a:ext cx="257148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3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в России уже работают более 700 интерактивных школ, пользующихся МИ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Зеленоград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снодарском кра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лининградской обла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анты-Мансийском автономной округ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зан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ронеже и Санкт-Петербург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ме того, МИОС внедрена в образовательную деятельность МГУ им. М. В. Ломоносов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ГТУ им. Баумана и образовательного центра Московского метрополит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3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авная идея МИО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централизованной системы качественного образования, в которой уровень преподавания будет высоким и минимально зависящим от конкретного учителя, а ученики, где бы они ни находились – в столице или селе, – смогут получить равный объём знаний и приобрести самый главный навык – умение постоянно учи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зменная интерактивная пан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холле лицея установлена плазменная интерактивная панель, нажимая на экран которой, можно вывести любую нужную информацию: расписание школьных занятий, распоряжения учителей, материалы из Интерне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5" descr="7259.jpg"/>
          <p:cNvPicPr/>
          <p:nvPr/>
        </p:nvPicPr>
        <p:blipFill>
          <a:blip r:embed="rId1"/>
          <a:stretch/>
        </p:blipFill>
        <p:spPr>
          <a:xfrm>
            <a:off x="4500720" y="2071800"/>
            <a:ext cx="43956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3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льтисервисная информационно-образовательная среда, разработанная и внедряемая компанией «Ситроникс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34005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–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ложный комплекс, включающий в себя несколько уровней: областное управление образования, районный департамент и собственно школу. Чиновники видят отчётность по всей форме практически в реальном времени; дети получают знания самым наглядным образом, а учителя быстро готовят качественные уроки, пользуясь самыми актуальными материалах. На вышестоящих серверах накапливаются цифровые образовательные ресурсы (ЦОРы) – наглядный материал в виде динамических слайдов и аудиовизуальных уроков, автоматические тес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10" descr="servernaja300.jpg"/>
          <p:cNvPicPr/>
          <p:nvPr/>
        </p:nvPicPr>
        <p:blipFill>
          <a:blip r:embed="rId2"/>
          <a:stretch/>
        </p:blipFill>
        <p:spPr>
          <a:xfrm>
            <a:off x="4908600" y="1398600"/>
            <a:ext cx="344952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3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 на урок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213920"/>
            <a:ext cx="4038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ждая доска комплектуется интерактивной системой голосования – ученики выбирают варианты с помощью маленьких беспроводных терминалов – “мышек”. Учитель  сразу видит, кто и как ответил, и может решить, как именно показать результаты. Это можно сделать сразу или через какое-то время – как в процентах от общего числа учеников, так и поимён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5" descr="7493.jpg"/>
          <p:cNvPicPr/>
          <p:nvPr/>
        </p:nvPicPr>
        <p:blipFill>
          <a:blip r:embed="rId2"/>
          <a:stretch/>
        </p:blipFill>
        <p:spPr>
          <a:xfrm>
            <a:off x="4857840" y="1285920"/>
            <a:ext cx="3957480" cy="2636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SDC14803.JPG"/>
          <p:cNvPicPr/>
          <p:nvPr/>
        </p:nvPicPr>
        <p:blipFill>
          <a:blip r:embed="rId3"/>
          <a:stretch/>
        </p:blipFill>
        <p:spPr>
          <a:xfrm>
            <a:off x="4572000" y="400068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зможности интерактивной дос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исия Петровна Полянская, учитель физики высшей категории с 38-летним стажем, ведёт урок в 10 классе. Несмотря на небольшой опыт работы с МИОС, затруднений практически нет — это занятие было подготовлено за считанные мину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14" descr="7274.jpg"/>
          <p:cNvPicPr/>
          <p:nvPr/>
        </p:nvPicPr>
        <p:blipFill>
          <a:blip r:embed="rId1"/>
          <a:stretch/>
        </p:blipFill>
        <p:spPr>
          <a:xfrm>
            <a:off x="4643280" y="1571760"/>
            <a:ext cx="4038840" cy="2646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5" descr="Изображение 248.jpg"/>
          <p:cNvPicPr/>
          <p:nvPr/>
        </p:nvPicPr>
        <p:blipFill>
          <a:blip r:embed="rId2"/>
          <a:stretch/>
        </p:blipFill>
        <p:spPr>
          <a:xfrm>
            <a:off x="5286240" y="4429080"/>
            <a:ext cx="314028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3:07:28Z</dcterms:created>
  <dc:creator>Admin</dc:creator>
  <dc:description/>
  <dc:language>en-US</dc:language>
  <cp:lastModifiedBy>Admin</cp:lastModifiedBy>
  <dcterms:modified xsi:type="dcterms:W3CDTF">2010-11-04T20:33:01Z</dcterms:modified>
  <cp:revision>79</cp:revision>
  <dc:subject/>
  <dc:title>Слайд 1</dc:title>
</cp:coreProperties>
</file>