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1C7-77DC-4CA9-B9AC-2497B0BC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94E-8AF3-4571-9BAD-5127B34F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089-15CB-4A27-856D-9CBF4681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57D-7A43-46A5-A195-37C64FFC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B94-9FE1-4C0C-8D6A-67C9B810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6F4-6B80-48C7-B192-68A4C665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60C-4B66-49CF-A2D8-F14870DD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F48-2964-4782-ABC3-8D1F5EBB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02A-517B-4EFB-98CE-28B76AC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EF3-69E0-4B85-B40B-97B2AED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FC5-5545-4889-B4DA-B5C6EC3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9EA-0495-47CD-BC9F-48747D8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38FE-B3AA-4289-9F15-B9CE72BAB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5449b08b1b751e2ec1ec1bcbb074da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142920" y="214200"/>
            <a:ext cx="43578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ШКОЛ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untitled bvhg.bmp"/>
          <p:cNvPicPr/>
          <p:nvPr/>
        </p:nvPicPr>
        <p:blipFill>
          <a:blip r:embed="rId2"/>
          <a:stretch/>
        </p:blipFill>
        <p:spPr>
          <a:xfrm>
            <a:off x="125280" y="1285920"/>
            <a:ext cx="8447400" cy="480852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2"/>
          <p:cNvSpPr/>
          <p:nvPr/>
        </p:nvSpPr>
        <p:spPr>
          <a:xfrm>
            <a:off x="4500720" y="5929200"/>
            <a:ext cx="3571560" cy="928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БУДУЩЕ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бильный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kavkaz1.jpg"/>
          <p:cNvPicPr/>
          <p:nvPr/>
        </p:nvPicPr>
        <p:blipFill>
          <a:blip r:embed="rId2"/>
          <a:stretch/>
        </p:blipFill>
        <p:spPr>
          <a:xfrm>
            <a:off x="285840" y="4214880"/>
            <a:ext cx="3500280" cy="2338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март 2010 102.jpg"/>
          <p:cNvPicPr/>
          <p:nvPr/>
        </p:nvPicPr>
        <p:blipFill>
          <a:blip r:embed="rId3"/>
          <a:stretch/>
        </p:blipFill>
        <p:spPr>
          <a:xfrm>
            <a:off x="3143160" y="135720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март 2010 100.jpg"/>
          <p:cNvPicPr/>
          <p:nvPr/>
        </p:nvPicPr>
        <p:blipFill>
          <a:blip r:embed="rId4"/>
          <a:stretch/>
        </p:blipFill>
        <p:spPr>
          <a:xfrm>
            <a:off x="5310360" y="4000680"/>
            <a:ext cx="35956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14240" y="1814400"/>
            <a:ext cx="7858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</a:rPr>
              <a:t>ИНФОРМАЦИОННО-ОБРАЗОВАТЕЛЬНАЯ СРЕДА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</a:rPr>
              <a:t>ВАЖНЕЙШИЙ КОМПОНЕНТ НОВОЙ СИСТЕМЫ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апреле </a:t>
            </a:r>
            <a:r>
              <a:rPr b="1" lang="en-US" sz="1800" spc="-1" strike="noStrike">
                <a:solidFill>
                  <a:srgbClr val="376092"/>
                </a:solidFill>
                <a:latin typeface="Calibri"/>
              </a:rPr>
              <a:t>2009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года губернатор края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алерий Гаевск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третился с президентом Сбербанка Росс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ерманом Греф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И в результате был достигнут ряд соглашений, в число которых вошел и проект оснащения банком одного из учебных заведений края современным компьютерным оборудованием на сумму 5 миллионов рублей. Выбор пал на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ОУ «Южно-российский лицей казачества и народов Кавказа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QTLKS3CAL2L1WACAMET2WNCAZ61WLQCAYJPG16CAKD4955CA8DYWRWCA4JUHKZCAPGOHZ3CAPD1F2HCAE6VCOQCAYBB0IRCAASJG05CAC435BBCATX8JUBCAUV30GFCAQLN297CAUTY2TNCAUIO8AKCA07RQIQ.jpg"/>
          <p:cNvPicPr/>
          <p:nvPr/>
        </p:nvPicPr>
        <p:blipFill>
          <a:blip r:embed="rId1"/>
          <a:stretch/>
        </p:blipFill>
        <p:spPr>
          <a:xfrm>
            <a:off x="214200" y="2214720"/>
            <a:ext cx="3071880" cy="24159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7" descr="KMO_094093_00069_1_t208.jpg"/>
          <p:cNvPicPr/>
          <p:nvPr/>
        </p:nvPicPr>
        <p:blipFill>
          <a:blip r:embed="rId2"/>
          <a:stretch/>
        </p:blipFill>
        <p:spPr>
          <a:xfrm>
            <a:off x="5786280" y="2286000"/>
            <a:ext cx="315612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untitled2.bmp"/>
          <p:cNvPicPr/>
          <p:nvPr/>
        </p:nvPicPr>
        <p:blipFill>
          <a:blip r:embed="rId3"/>
          <a:stretch/>
        </p:blipFill>
        <p:spPr>
          <a:xfrm>
            <a:off x="3214800" y="4000680"/>
            <a:ext cx="257148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России уже работают более 700 интерактивных школ, пользующихся МИ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еленоград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одарском кра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ининградской обла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анты-Мансийском автономной округ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ронеже и Санкт-Петербург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МИОС внедрена в образовательную деятельность МГУ им. М. В. Ломоносо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ГТУ им. Баумана и образовательного центра Московского метрополит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ая идея МИО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централизованной системы качественного образования, в которой уровень преподавания будет высоким и минимально зависящим от конкретного учителя, а ученики, где бы они ни находились – в столице или селе, – смогут получить равный объём знаний и приобрести самый главный навык – умение постоянно уч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зменная интерактивная пан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лле лицея установлена плазменная интерактивная панель, нажимая на экран которой, можно вывести любую нужную информацию: расписание школьных занятий, распоряжения учителей, материалы из Интерн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7259.jpg"/>
          <p:cNvPicPr/>
          <p:nvPr/>
        </p:nvPicPr>
        <p:blipFill>
          <a:blip r:embed="rId1"/>
          <a:stretch/>
        </p:blipFill>
        <p:spPr>
          <a:xfrm>
            <a:off x="4500720" y="2071800"/>
            <a:ext cx="4395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исервисная информационно-образовательная среда, разработанная и внедряемая компанией «Ситроник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400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ложный комплекс, включающий в себя несколько уровней: областное управление образования, районный департамент и собственно школу. Чиновники видят отчётность по всей форме практически в реальном времени; дети получают знания самым наглядным образом, а учителя быстро готовят качественные уроки, пользуясь самыми актуальными материалах. На вышестоящих серверах накапливаются цифровые образовательные ресурсы (ЦОРы) – наглядный материал в виде динамических слайдов и аудиовизуальных уроков, автоматические тес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10" descr="servernaja300.jpg"/>
          <p:cNvPicPr/>
          <p:nvPr/>
        </p:nvPicPr>
        <p:blipFill>
          <a:blip r:embed="rId2"/>
          <a:stretch/>
        </p:blipFill>
        <p:spPr>
          <a:xfrm>
            <a:off x="4908600" y="1398600"/>
            <a:ext cx="34495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3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на уро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21392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ая доска комплектуется интерактивной системой голосования – ученики выбирают варианты с помощью маленьких беспроводных терминалов – “мышек”. Учитель  сразу видит, кто и как ответил, и может решить, как именно показать результаты. Это можно сделать сразу или через какое-то время – как в процентах от общего числа учеников, так и поимён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5" descr="7493.jpg"/>
          <p:cNvPicPr/>
          <p:nvPr/>
        </p:nvPicPr>
        <p:blipFill>
          <a:blip r:embed="rId2"/>
          <a:stretch/>
        </p:blipFill>
        <p:spPr>
          <a:xfrm>
            <a:off x="4857840" y="1285920"/>
            <a:ext cx="3957480" cy="2636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SDC14803.JPG"/>
          <p:cNvPicPr/>
          <p:nvPr/>
        </p:nvPicPr>
        <p:blipFill>
          <a:blip r:embed="rId3"/>
          <a:stretch/>
        </p:blipFill>
        <p:spPr>
          <a:xfrm>
            <a:off x="4572000" y="400068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можности интерактивной дос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исия Петровна Полянская, учитель физики высшей категории с 38-летним стажем, ведёт урок в 10 классе. Несмотря на небольшой опыт работы с МИОС, затруднений практически нет — это занятие было подготовлено за считанные мину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4" descr="7274.jpg"/>
          <p:cNvPicPr/>
          <p:nvPr/>
        </p:nvPicPr>
        <p:blipFill>
          <a:blip r:embed="rId1"/>
          <a:stretch/>
        </p:blipFill>
        <p:spPr>
          <a:xfrm>
            <a:off x="4643280" y="157176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Изображение 248.jpg"/>
          <p:cNvPicPr/>
          <p:nvPr/>
        </p:nvPicPr>
        <p:blipFill>
          <a:blip r:embed="rId2"/>
          <a:stretch/>
        </p:blipFill>
        <p:spPr>
          <a:xfrm>
            <a:off x="5286240" y="4429080"/>
            <a:ext cx="31402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07:28Z</dcterms:created>
  <dc:creator>Admin</dc:creator>
  <dc:description/>
  <dc:language>en-US</dc:language>
  <cp:lastModifiedBy>Admin</cp:lastModifiedBy>
  <dcterms:modified xsi:type="dcterms:W3CDTF">2010-11-04T20:33:01Z</dcterms:modified>
  <cp:revision>79</cp:revision>
  <dc:subject/>
  <dc:title>Слайд 1</dc:title>
</cp:coreProperties>
</file>