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DAC-F252-44D1-AB3B-876809FB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493-A3E4-437F-B799-2134A7D4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BFE-2807-40FC-A6D6-8BD1BE72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1E2-CE5E-4A5A-97AB-56D3DAA8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B74-B321-4CB8-A74C-6345B92A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BD3-6E56-4DBC-8533-2CB7C4E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60A-93AD-4B61-9BF3-846C561B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F79-63EE-4D59-9724-B2F00962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C08-3406-47CA-B956-19E3D674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421-D517-47FF-80E0-668364B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C69-B856-4823-8498-AE092307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E70-C31E-400F-AC5E-8A35B260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8AD1-F4F6-4E5F-AB10-CAC4FAD7FD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3029040" y="396720"/>
            <a:ext cx="297504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541600" y="4181400"/>
            <a:ext cx="6761160" cy="2421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42960" y="1214280"/>
            <a:ext cx="771516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едкие и охраняемы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стения и животны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Брянской област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857160" y="100008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В эту группу входят растения, нуждающиеся в охране. Они  включены в Красную книгу Брянской обла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928800" y="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Водяной орех, или чили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4795920"/>
            <a:ext cx="878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летнее водное растение. Стебель тонкий и слабый, 60—120 см длины. Плавающие на воде листья собраны в розетку, ромбической формы. Цветки  мелкие  белы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C:\Documents and Settings\User\Мои документы\Мои рисунки\Рисунок9.jpg"/>
          <p:cNvPicPr/>
          <p:nvPr/>
        </p:nvPicPr>
        <p:blipFill>
          <a:blip r:embed="rId1"/>
          <a:stretch/>
        </p:blipFill>
        <p:spPr>
          <a:xfrm>
            <a:off x="1928880" y="928800"/>
            <a:ext cx="5000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57120" y="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 имеет своеобразную форму «рогатого» ореха со съедобной мяко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C:\Documents and Settings\User\Мои документы\Мои рисунки\Рисунок10.jpg"/>
          <p:cNvPicPr/>
          <p:nvPr/>
        </p:nvPicPr>
        <p:blipFill>
          <a:blip r:embed="rId1"/>
          <a:stretch/>
        </p:blipFill>
        <p:spPr>
          <a:xfrm>
            <a:off x="1714680" y="1500120"/>
            <a:ext cx="60004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-212760"/>
            <a:ext cx="3730680" cy="1974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57120" y="1643040"/>
            <a:ext cx="4071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луковичное растение семейства лилейных. Стебель 30—60 см высоты, округлый, прямой. Цветки грязновато-розовые, с темными пят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C:\Documents and Settings\User\Мои документы\Мои рисунки\Рисунок11.jpg"/>
          <p:cNvPicPr/>
          <p:nvPr/>
        </p:nvPicPr>
        <p:blipFill>
          <a:blip r:embed="rId2"/>
          <a:stretch/>
        </p:blipFill>
        <p:spPr>
          <a:xfrm>
            <a:off x="4929120" y="428760"/>
            <a:ext cx="3667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Documents and Settings\User\Мои документы\Мои рисунки\Рисунок12.jpg"/>
          <p:cNvPicPr/>
          <p:nvPr/>
        </p:nvPicPr>
        <p:blipFill>
          <a:blip r:embed="rId1"/>
          <a:stretch/>
        </p:blipFill>
        <p:spPr>
          <a:xfrm>
            <a:off x="214200" y="285840"/>
            <a:ext cx="3571920" cy="56102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1706400" y="4614840"/>
            <a:ext cx="7205760" cy="19321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4643280" y="428760"/>
            <a:ext cx="421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Стебли 10—30 см высоты, внутри пол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ки со слабым запахом бузины, бледно-жел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-176040"/>
            <a:ext cx="6821280" cy="196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4714920" y="2428920"/>
            <a:ext cx="414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Листья ланцетные, часто вдоль сложенные. Цветки белы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C:\Documents and Settings\User\Мои документы\Мои рисунки\Рисунок13.jpg"/>
          <p:cNvPicPr/>
          <p:nvPr/>
        </p:nvPicPr>
        <p:blipFill>
          <a:blip r:embed="rId2"/>
          <a:stretch/>
        </p:blipFill>
        <p:spPr>
          <a:xfrm>
            <a:off x="285840" y="1643040"/>
            <a:ext cx="3297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3932280" y="-208080"/>
            <a:ext cx="5406840" cy="2017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5000760" y="1841400"/>
            <a:ext cx="4143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Высота 10—20 см. Стебель ребристый, тонкий всего с двумя развитыми листьями.  Цветки ярко-лиловые, редко белые, без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5" descr="C:\Documents and Settings\User\Мои документы\Мои рисунки\Рисунок14.jpg"/>
          <p:cNvPicPr/>
          <p:nvPr/>
        </p:nvPicPr>
        <p:blipFill>
          <a:blip r:embed="rId2"/>
          <a:stretch/>
        </p:blipFill>
        <p:spPr>
          <a:xfrm>
            <a:off x="571680" y="714240"/>
            <a:ext cx="37954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73080" y="0"/>
            <a:ext cx="8985240" cy="1127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609480" y="417636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Многолетнее травянистое растение семейства росянковых. Одно из насекомоядных растений нашей флоры. Рост 10— 20 см. Истребляется сборщиками растений для лечебных ц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C:\Documents and Settings\User\Мои документы\Мои рисунки\Рисунок15.jpg"/>
          <p:cNvPicPr/>
          <p:nvPr/>
        </p:nvPicPr>
        <p:blipFill>
          <a:blip r:embed="rId2"/>
          <a:stretch/>
        </p:blipFill>
        <p:spPr>
          <a:xfrm>
            <a:off x="1643040" y="1143000"/>
            <a:ext cx="514368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023840" y="-212760"/>
            <a:ext cx="8467920" cy="1974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857840" y="1643040"/>
            <a:ext cx="392904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лютиковых. Цветоносный стебель 10—15 см высоты Цветок крупный, светло-лиловый. Ядовитое, встречается изредка по всей территор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C:\Documents and Settings\User\Мои документы\Мои рисунки\Рисунок16.jpg"/>
          <p:cNvPicPr/>
          <p:nvPr/>
        </p:nvPicPr>
        <p:blipFill>
          <a:blip r:embed="rId2"/>
          <a:stretch/>
        </p:blipFill>
        <p:spPr>
          <a:xfrm>
            <a:off x="500040" y="1714680"/>
            <a:ext cx="3247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6" descr=""/>
          <p:cNvPicPr/>
          <p:nvPr/>
        </p:nvPicPr>
        <p:blipFill>
          <a:blip r:embed="rId1"/>
          <a:stretch/>
        </p:blipFill>
        <p:spPr>
          <a:xfrm>
            <a:off x="4376880" y="-201600"/>
            <a:ext cx="5114880" cy="1974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4572000" y="1857240"/>
            <a:ext cx="4214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Высота 25—60 см. Стебель слегка угловатый. Цветки неправильные, белые, вечером и ночью очень душистые.  Сильно истребляется сборами, так как лекарствен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C:\Documents and Settings\User\Мои документы\Мои рисунки\Рисунок17.jpg"/>
          <p:cNvPicPr/>
          <p:nvPr/>
        </p:nvPicPr>
        <p:blipFill>
          <a:blip r:embed="rId2"/>
          <a:stretch/>
        </p:blipFill>
        <p:spPr>
          <a:xfrm>
            <a:off x="500040" y="500040"/>
            <a:ext cx="3979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anenaya.mp3" descr=""/>
          <p:cNvPicPr/>
          <p:nvPr/>
        </p:nvPicPr>
        <p:blipFill>
          <a:blip r:embed="rId1"/>
          <a:stretch/>
        </p:blipFill>
        <p:spPr>
          <a:xfrm>
            <a:off x="428760" y="6091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User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357120" y="357120"/>
            <a:ext cx="2384640" cy="300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3978360" y="3500280"/>
            <a:ext cx="2236680" cy="310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Documents and Settings\User\Мои документы\Мои рисунки\Рисунок3.jpg"/>
          <p:cNvPicPr/>
          <p:nvPr/>
        </p:nvPicPr>
        <p:blipFill>
          <a:blip r:embed="rId4"/>
          <a:stretch/>
        </p:blipFill>
        <p:spPr>
          <a:xfrm>
            <a:off x="6907320" y="428760"/>
            <a:ext cx="2050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57120" y="-743040"/>
            <a:ext cx="84297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роме Красной существует и Черная книга. В ней описываются те животные и растения, которые навсегда исчезли с лица Земли за время существования цивилизованног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еловечества. В  исчезновении большинства видов  непосредственно виноват челове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71680" y="1357200"/>
            <a:ext cx="785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расная книга в нашей стране была издана в 1978 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называлась она Красная книга СССР. Спустя 6 лет появилось второе, более полное изд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ей выделено пять категорий охраняемых видов: 1 — вид нельзя спасти без специальных мер; 2 — численность еще высока, но катастрофически сокращается; 3 — исчезновение еще не грозит, но вид встречается на ограниченной территории; 4 — вид требует    дополнительного изучения; 5 — виды, спасенные от вымирания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цель Красной книги — выявление и учет тех видов организмов, которые могут исчезнуть и для сохранения которых нужны специальные меры защиты.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523800" y="139680"/>
            <a:ext cx="817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857160" y="100008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В эту группу входят животные, нуждающиеся в охране. Они  включены в Красную книгу Брянской обла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428760" y="42876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искуль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0040" y="528624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ьче белолобого гуся.  Отличительные че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елое лобное пятно заходит за темя, вокруг глаз узкое кожистое кольц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C:\Documents and Settings\User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3571920" y="1571760"/>
            <a:ext cx="278604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4273560" y="3975120"/>
            <a:ext cx="486396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85840" y="50050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ом с ворону. Зимой с чисто-белой окраской тела и чёрным  хвостом, летом пёстрая, рыжевато-бурая, с белым брюхом  и крыльям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C:\Documents and Settings\User\Мои документы\Мои рисунки\Рисунок5.jpg"/>
          <p:cNvPicPr/>
          <p:nvPr/>
        </p:nvPicPr>
        <p:blipFill>
          <a:blip r:embed="rId2"/>
          <a:stretch/>
        </p:blipFill>
        <p:spPr>
          <a:xfrm>
            <a:off x="1214280" y="500040"/>
            <a:ext cx="54295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152280" y="201600"/>
            <a:ext cx="2713320" cy="974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51494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ень крупная, массивная лесная птица. Окраска самцов тёмно-серая, а на груди и зобу — блестящий зеленоватый отлив. Самки буро-пёстрые, имеют рыжеватое пятно на груди, широкий вееровидный хвос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C:\Documents and Settings\User\Мои документы\Мои рисунки\Рисунок6.jpg"/>
          <p:cNvPicPr/>
          <p:nvPr/>
        </p:nvPicPr>
        <p:blipFill>
          <a:blip r:embed="rId2"/>
          <a:stretch/>
        </p:blipFill>
        <p:spPr>
          <a:xfrm>
            <a:off x="2857680" y="1285920"/>
            <a:ext cx="3690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57120" y="371484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85840" y="5244120"/>
            <a:ext cx="857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ом со скворца. Окраска пёстрая; вдоль спины белая полоса, по бокам головы чёрно-белые полосы. Единственный из дятлов, имеющий лапу с тремя пальц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5085000" cy="93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User\Мои документы\Мои рисунки\Рисунок7.jpg"/>
          <p:cNvPicPr/>
          <p:nvPr/>
        </p:nvPicPr>
        <p:blipFill>
          <a:blip r:embed="rId2"/>
          <a:stretch/>
        </p:blipFill>
        <p:spPr>
          <a:xfrm>
            <a:off x="4643280" y="1071720"/>
            <a:ext cx="3262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3786120" y="0"/>
            <a:ext cx="5357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572080" y="1014120"/>
            <a:ext cx="32860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че серой цапли (с крупную курицу) и более коротконогая;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ч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глядит несколько сутулой, т.к. длинная шея втянута в плечи и почти не вид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раска пёстрая, идеально сливается с цветом сухих стеблей тростника 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 очень скрытный образ жизни, редко выходя из зарос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Прямоугольник 4" descr=""/>
          <p:cNvPicPr/>
          <p:nvPr/>
        </p:nvPicPr>
        <p:blipFill>
          <a:blip r:embed="rId1"/>
          <a:stretch/>
        </p:blipFill>
        <p:spPr>
          <a:xfrm>
            <a:off x="1352520" y="-122400"/>
            <a:ext cx="2152800" cy="89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Documents and Settings\User\Мои документы\Мои рисунки\Рисунок8.jpg"/>
          <p:cNvPicPr/>
          <p:nvPr/>
        </p:nvPicPr>
        <p:blipFill>
          <a:blip r:embed="rId2"/>
          <a:stretch/>
        </p:blipFill>
        <p:spPr>
          <a:xfrm>
            <a:off x="1000080" y="1143000"/>
            <a:ext cx="3389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5:35:30Z</dcterms:created>
  <dc:creator>David D.</dc:creator>
  <dc:description/>
  <dc:language>en-US</dc:language>
  <cp:lastModifiedBy>User</cp:lastModifiedBy>
  <dcterms:modified xsi:type="dcterms:W3CDTF">2010-11-05T21:59:02Z</dcterms:modified>
  <cp:revision>32</cp:revision>
  <dc:subject/>
  <dc:title>Слайд 1</dc:title>
</cp:coreProperties>
</file>