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6.jpeg" ContentType="image/jpeg"/>
  <Override PartName="/ppt/media/image5.jpeg" ContentType="image/jpeg"/>
  <Override PartName="/ppt/media/image3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9.png" ContentType="image/png"/>
  <Override PartName="/ppt/media/image6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30.jpeg" ContentType="image/jpeg"/>
  <Override PartName="/ppt/media/image3.png" ContentType="image/png"/>
  <Override PartName="/ppt/media/image17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D4F-123E-4455-A0CB-B536B4D7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5E6C-2FE8-444F-959B-93FAD553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669A-B163-4327-9B08-E85F6F62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EBCE-6B8D-44FC-8B00-573E9057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BDE-E174-416D-932C-D1510592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0090-526A-4E89-A1B7-355366C7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BF2-0CDE-48AF-9DB9-2B97A3C2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1EAB-88E4-4358-B578-B76C18D4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DE44-FB5C-4775-B835-42BE8A75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4997-2666-4FE9-BAE3-59C6A302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3F60-F068-45AE-807C-CA04637B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00D4-91BF-4A3F-AA23-8A1FF9C2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8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D534-E029-4BD9-A57F-465F54D168A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3029040" y="396720"/>
            <a:ext cx="2975040" cy="11034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2541600" y="4181400"/>
            <a:ext cx="6761160" cy="2421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642960" y="1214280"/>
            <a:ext cx="7715160" cy="316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Редкие и охраняемые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растения и животные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Брянской област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857160" y="100008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Monotype Corsiva"/>
              </a:rPr>
              <a:t>    </a:t>
            </a:r>
            <a:r>
              <a:rPr b="0" lang="ru-RU" sz="4800" spc="-1" strike="noStrike">
                <a:solidFill>
                  <a:srgbClr val="002060"/>
                </a:solidFill>
                <a:latin typeface="Monotype Corsiva"/>
              </a:rPr>
              <a:t>В эту группу входят растения, нуждающиеся в охране. Они  включены в Красную книгу Брянской област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928800" y="0"/>
            <a:ext cx="69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Водяной орех, или чили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0" y="4795920"/>
            <a:ext cx="8786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нолетнее водное растение. Стебель тонкий и слабый, 60—120 см длины. Плавающие на воде листья собраны в розетку, ромбической формы. Цветки  мелкие  белы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C:\Documents and Settings\User\Мои документы\Мои рисунки\Рисунок9.jpg"/>
          <p:cNvPicPr/>
          <p:nvPr/>
        </p:nvPicPr>
        <p:blipFill>
          <a:blip r:embed="rId1"/>
          <a:stretch/>
        </p:blipFill>
        <p:spPr>
          <a:xfrm>
            <a:off x="1928880" y="928800"/>
            <a:ext cx="50004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357120" y="0"/>
            <a:ext cx="878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 имеет своеобразную форму «рогатого» ореха со съедобной мяко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C:\Documents and Settings\User\Мои документы\Мои рисунки\Рисунок10.jpg"/>
          <p:cNvPicPr/>
          <p:nvPr/>
        </p:nvPicPr>
        <p:blipFill>
          <a:blip r:embed="rId1"/>
          <a:stretch/>
        </p:blipFill>
        <p:spPr>
          <a:xfrm>
            <a:off x="1714680" y="1500120"/>
            <a:ext cx="600048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-212760"/>
            <a:ext cx="3730680" cy="197496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357120" y="1643040"/>
            <a:ext cx="4071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летнее луковичное растение семейства лилейных. Стебель 30—60 см высоты, округлый, прямой. Цветки грязновато-розовые, с темными пятн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5" descr="C:\Documents and Settings\User\Мои документы\Мои рисунки\Рисунок11.jpg"/>
          <p:cNvPicPr/>
          <p:nvPr/>
        </p:nvPicPr>
        <p:blipFill>
          <a:blip r:embed="rId2"/>
          <a:stretch/>
        </p:blipFill>
        <p:spPr>
          <a:xfrm>
            <a:off x="4929120" y="428760"/>
            <a:ext cx="36673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:\Documents and Settings\User\Мои документы\Мои рисунки\Рисунок12.jpg"/>
          <p:cNvPicPr/>
          <p:nvPr/>
        </p:nvPicPr>
        <p:blipFill>
          <a:blip r:embed="rId1"/>
          <a:stretch/>
        </p:blipFill>
        <p:spPr>
          <a:xfrm>
            <a:off x="214200" y="285840"/>
            <a:ext cx="3571920" cy="561024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3" descr=""/>
          <p:cNvPicPr/>
          <p:nvPr/>
        </p:nvPicPr>
        <p:blipFill>
          <a:blip r:embed="rId2"/>
          <a:stretch/>
        </p:blipFill>
        <p:spPr>
          <a:xfrm>
            <a:off x="1706400" y="4614840"/>
            <a:ext cx="7205760" cy="19321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4643280" y="428760"/>
            <a:ext cx="4214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летнее травянистое растение семейства орхидных. Стебли 10—30 см высоты, внутри пол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ки со слабым запахом бузины, бледно-желт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4" descr=""/>
          <p:cNvPicPr/>
          <p:nvPr/>
        </p:nvPicPr>
        <p:blipFill>
          <a:blip r:embed="rId1"/>
          <a:stretch/>
        </p:blipFill>
        <p:spPr>
          <a:xfrm>
            <a:off x="2498760" y="-176040"/>
            <a:ext cx="6821280" cy="1962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4714920" y="2428920"/>
            <a:ext cx="4143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голетнее травянистое растение семейства орхидных. Листья ланцетные, часто вдоль сложенные. Цветки белые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5" descr="C:\Documents and Settings\User\Мои документы\Мои рисунки\Рисунок13.jpg"/>
          <p:cNvPicPr/>
          <p:nvPr/>
        </p:nvPicPr>
        <p:blipFill>
          <a:blip r:embed="rId2"/>
          <a:stretch/>
        </p:blipFill>
        <p:spPr>
          <a:xfrm>
            <a:off x="285840" y="1643040"/>
            <a:ext cx="32972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4" descr=""/>
          <p:cNvPicPr/>
          <p:nvPr/>
        </p:nvPicPr>
        <p:blipFill>
          <a:blip r:embed="rId1"/>
          <a:stretch/>
        </p:blipFill>
        <p:spPr>
          <a:xfrm>
            <a:off x="3932280" y="-208080"/>
            <a:ext cx="5406840" cy="201780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5000760" y="1841400"/>
            <a:ext cx="4143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летнее травянистое растение семейства орхидных. Высота 10—20 см. Стебель ребристый, тонкий всего с двумя развитыми листьями.  Цветки ярко-лиловые, редко белые, без запа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5" descr="C:\Documents and Settings\User\Мои документы\Мои рисунки\Рисунок14.jpg"/>
          <p:cNvPicPr/>
          <p:nvPr/>
        </p:nvPicPr>
        <p:blipFill>
          <a:blip r:embed="rId2"/>
          <a:stretch/>
        </p:blipFill>
        <p:spPr>
          <a:xfrm>
            <a:off x="571680" y="714240"/>
            <a:ext cx="37954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2" descr=""/>
          <p:cNvPicPr/>
          <p:nvPr/>
        </p:nvPicPr>
        <p:blipFill>
          <a:blip r:embed="rId1"/>
          <a:stretch/>
        </p:blipFill>
        <p:spPr>
          <a:xfrm>
            <a:off x="73080" y="0"/>
            <a:ext cx="8985240" cy="11271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609480" y="417636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Многолетнее травянистое растение семейства росянковых. Одно из насекомоядных растений нашей флоры. Рост 10— 20 см. Истребляется сборщиками растений для лечебных це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C:\Documents and Settings\User\Мои документы\Мои рисунки\Рисунок15.jpg"/>
          <p:cNvPicPr/>
          <p:nvPr/>
        </p:nvPicPr>
        <p:blipFill>
          <a:blip r:embed="rId2"/>
          <a:stretch/>
        </p:blipFill>
        <p:spPr>
          <a:xfrm>
            <a:off x="1643040" y="1143000"/>
            <a:ext cx="514368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3" descr=""/>
          <p:cNvPicPr/>
          <p:nvPr/>
        </p:nvPicPr>
        <p:blipFill>
          <a:blip r:embed="rId1"/>
          <a:stretch/>
        </p:blipFill>
        <p:spPr>
          <a:xfrm>
            <a:off x="1023840" y="-212760"/>
            <a:ext cx="8467920" cy="197496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4857840" y="1643040"/>
            <a:ext cx="392904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летнее травянистое растение семейства лютиковых. Цветоносный стебель 10—15 см высоты Цветок крупный, светло-лиловый. Ядовитое, встречается изредка по всей территори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5" descr="C:\Documents and Settings\User\Мои документы\Мои рисунки\Рисунок16.jpg"/>
          <p:cNvPicPr/>
          <p:nvPr/>
        </p:nvPicPr>
        <p:blipFill>
          <a:blip r:embed="rId2"/>
          <a:stretch/>
        </p:blipFill>
        <p:spPr>
          <a:xfrm>
            <a:off x="500040" y="1714680"/>
            <a:ext cx="32479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Прямоугольник 6" descr=""/>
          <p:cNvPicPr/>
          <p:nvPr/>
        </p:nvPicPr>
        <p:blipFill>
          <a:blip r:embed="rId1"/>
          <a:stretch/>
        </p:blipFill>
        <p:spPr>
          <a:xfrm>
            <a:off x="4376880" y="-201600"/>
            <a:ext cx="5114880" cy="197496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4572000" y="1857240"/>
            <a:ext cx="4214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летнее травянистое растение семейства орхидных. Высота 25—60 см. Стебель слегка угловатый. Цветки неправильные, белые, вечером и ночью очень душистые.  Сильно истребляется сборами, так как лекарственн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5" descr="C:\Documents and Settings\User\Мои документы\Мои рисунки\Рисунок17.jpg"/>
          <p:cNvPicPr/>
          <p:nvPr/>
        </p:nvPicPr>
        <p:blipFill>
          <a:blip r:embed="rId2"/>
          <a:stretch/>
        </p:blipFill>
        <p:spPr>
          <a:xfrm>
            <a:off x="500040" y="500040"/>
            <a:ext cx="39798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anenaya.mp3" descr=""/>
          <p:cNvPicPr/>
          <p:nvPr/>
        </p:nvPicPr>
        <p:blipFill>
          <a:blip r:embed="rId1"/>
          <a:stretch/>
        </p:blipFill>
        <p:spPr>
          <a:xfrm>
            <a:off x="428760" y="60912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Documents and Settings\User\Мои документы\Мои рисунки\Рисунок1.jpg"/>
          <p:cNvPicPr/>
          <p:nvPr/>
        </p:nvPicPr>
        <p:blipFill>
          <a:blip r:embed="rId2"/>
          <a:stretch/>
        </p:blipFill>
        <p:spPr>
          <a:xfrm>
            <a:off x="357120" y="357120"/>
            <a:ext cx="2384640" cy="3000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C:\Documents and Settings\User\Мои документы\Мои рисунки\Рисунок2.jpg"/>
          <p:cNvPicPr/>
          <p:nvPr/>
        </p:nvPicPr>
        <p:blipFill>
          <a:blip r:embed="rId3"/>
          <a:stretch/>
        </p:blipFill>
        <p:spPr>
          <a:xfrm>
            <a:off x="3978360" y="3500280"/>
            <a:ext cx="2236680" cy="3108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:\Documents and Settings\User\Мои документы\Мои рисунки\Рисунок3.jpg"/>
          <p:cNvPicPr/>
          <p:nvPr/>
        </p:nvPicPr>
        <p:blipFill>
          <a:blip r:embed="rId4"/>
          <a:stretch/>
        </p:blipFill>
        <p:spPr>
          <a:xfrm>
            <a:off x="6907320" y="428760"/>
            <a:ext cx="20509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357120" y="-743040"/>
            <a:ext cx="842976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 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роме Красной существует и Черная книга. В ней описываются те животные и растения, которые навсегда исчезли с лица Земли за время существования цивилизованного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человечества. В  исчезновении большинства видов  непосредственно виноват человек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71680" y="1357200"/>
            <a:ext cx="7858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ая Красная книга в нашей стране была издана в 1978 год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называлась она Красная книга СССР. Спустя 6 лет появилось второе, более полное изда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ей выделено пять категорий охраняемых видов: 1 — вид нельзя спасти без специальных мер; 2 — численность еще высока, но катастрофически сокращается; 3 — исчезновение еще не грозит, но вид встречается на ограниченной территории; 4 — вид требует    дополнительного изучения; 5 — виды, спасенные от вымирания.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ая цель Красной книги — выявление и учет тех видов организмов, которые могут исчезнуть и для сохранения которых нужны специальные меры защиты.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Прямоугольник 2" descr=""/>
          <p:cNvPicPr/>
          <p:nvPr/>
        </p:nvPicPr>
        <p:blipFill>
          <a:blip r:embed="rId1"/>
          <a:stretch/>
        </p:blipFill>
        <p:spPr>
          <a:xfrm>
            <a:off x="523800" y="139680"/>
            <a:ext cx="817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857160" y="1000080"/>
            <a:ext cx="7643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Monotype Corsiva"/>
              </a:rPr>
              <a:t>    </a:t>
            </a:r>
            <a:r>
              <a:rPr b="0" lang="ru-RU" sz="4800" spc="-1" strike="noStrike">
                <a:solidFill>
                  <a:srgbClr val="002060"/>
                </a:solidFill>
                <a:latin typeface="Monotype Corsiva"/>
              </a:rPr>
              <a:t>В эту группу входят животные, нуждающиеся в охране. Они  включены в Красную книгу Брянской област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428760" y="42876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искуль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500040" y="528624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льче белолобого гуся.  Отличительные чер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елое лобное пятно заходит за темя, вокруг глаз узкое кожистое кольц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6" descr="C:\Documents and Settings\User\Мои документы\Мои рисунки\Рисунок4.jpg"/>
          <p:cNvPicPr/>
          <p:nvPr/>
        </p:nvPicPr>
        <p:blipFill>
          <a:blip r:embed="rId1"/>
          <a:stretch/>
        </p:blipFill>
        <p:spPr>
          <a:xfrm>
            <a:off x="3571920" y="1571760"/>
            <a:ext cx="2786040" cy="29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2" descr=""/>
          <p:cNvPicPr/>
          <p:nvPr/>
        </p:nvPicPr>
        <p:blipFill>
          <a:blip r:embed="rId1"/>
          <a:stretch/>
        </p:blipFill>
        <p:spPr>
          <a:xfrm>
            <a:off x="4273560" y="3975120"/>
            <a:ext cx="4863960" cy="9874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285840" y="50050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ом с ворону. Зимой с чисто-белой окраской тела и чёрным  хвостом, летом пёстрая, рыжевато-бурая, с белым брюхом  и крыльями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5" descr="C:\Documents and Settings\User\Мои документы\Мои рисунки\Рисунок5.jpg"/>
          <p:cNvPicPr/>
          <p:nvPr/>
        </p:nvPicPr>
        <p:blipFill>
          <a:blip r:embed="rId2"/>
          <a:stretch/>
        </p:blipFill>
        <p:spPr>
          <a:xfrm>
            <a:off x="1214280" y="500040"/>
            <a:ext cx="542952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2" descr=""/>
          <p:cNvPicPr/>
          <p:nvPr/>
        </p:nvPicPr>
        <p:blipFill>
          <a:blip r:embed="rId1"/>
          <a:stretch/>
        </p:blipFill>
        <p:spPr>
          <a:xfrm>
            <a:off x="152280" y="201600"/>
            <a:ext cx="2713320" cy="974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0" y="514944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чень крупная, массивная лесная птица. Окраска самцов тёмно-серая, а на груди и зобу — блестящий зеленоватый отлив. Самки буро-пёстрые, имеют рыжеватое пятно на груди, широкий вееровидный хвост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C:\Documents and Settings\User\Мои документы\Мои рисунки\Рисунок6.jpg"/>
          <p:cNvPicPr/>
          <p:nvPr/>
        </p:nvPicPr>
        <p:blipFill>
          <a:blip r:embed="rId2"/>
          <a:stretch/>
        </p:blipFill>
        <p:spPr>
          <a:xfrm>
            <a:off x="2857680" y="1285920"/>
            <a:ext cx="3690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357120" y="3714840"/>
            <a:ext cx="8358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85840" y="5244120"/>
            <a:ext cx="8572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ом со скворца. Окраска пёстрая; вдоль спины белая полоса, по бокам головы чёрно-белые полосы. Единственный из дятлов, имеющий лапу с тремя пальцам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Прямоугольник 4" descr=""/>
          <p:cNvPicPr/>
          <p:nvPr/>
        </p:nvPicPr>
        <p:blipFill>
          <a:blip r:embed="rId1"/>
          <a:stretch/>
        </p:blipFill>
        <p:spPr>
          <a:xfrm>
            <a:off x="-6480" y="139680"/>
            <a:ext cx="5085000" cy="939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Documents and Settings\User\Мои документы\Мои рисунки\Рисунок7.jpg"/>
          <p:cNvPicPr/>
          <p:nvPr/>
        </p:nvPicPr>
        <p:blipFill>
          <a:blip r:embed="rId2"/>
          <a:stretch/>
        </p:blipFill>
        <p:spPr>
          <a:xfrm>
            <a:off x="4643280" y="1071720"/>
            <a:ext cx="32623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3786120" y="0"/>
            <a:ext cx="5357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5572080" y="1014120"/>
            <a:ext cx="3286080" cy="40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ьче серой цапли (с крупную курицу) и более коротконогая;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ычн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глядит несколько сутулой, т.к. длинная шея втянута в плечи и почти не вид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раска пёстрая, идеально сливается с цветом сухих стеблей тростника 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ёт очень скрытный образ жизни, редко выходя из зарос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Прямоугольник 4" descr=""/>
          <p:cNvPicPr/>
          <p:nvPr/>
        </p:nvPicPr>
        <p:blipFill>
          <a:blip r:embed="rId1"/>
          <a:stretch/>
        </p:blipFill>
        <p:spPr>
          <a:xfrm>
            <a:off x="1352520" y="-122400"/>
            <a:ext cx="2152800" cy="897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Documents and Settings\User\Мои документы\Мои рисунки\Рисунок8.jpg"/>
          <p:cNvPicPr/>
          <p:nvPr/>
        </p:nvPicPr>
        <p:blipFill>
          <a:blip r:embed="rId2"/>
          <a:stretch/>
        </p:blipFill>
        <p:spPr>
          <a:xfrm>
            <a:off x="1000080" y="1143000"/>
            <a:ext cx="33894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5:35:30Z</dcterms:created>
  <dc:creator>David D.</dc:creator>
  <dc:description/>
  <dc:language>en-US</dc:language>
  <cp:lastModifiedBy>User</cp:lastModifiedBy>
  <dcterms:modified xsi:type="dcterms:W3CDTF">2010-11-05T21:59:02Z</dcterms:modified>
  <cp:revision>32</cp:revision>
  <dc:subject/>
  <dc:title>Слайд 1</dc:title>
</cp:coreProperties>
</file>